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2BE8-03D2-47FC-9F81-CC7DF00F1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8332-49DA-4B76-9E07-62D042E7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D358-1FED-4F76-8BCF-C90C7D297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9214-BD60-4739-AB63-5776C97A8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6E10-2E24-467A-89B2-A1FF2388C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4FFA-9C8D-4A6F-9D9C-32F57DED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66A3-E29A-4FC4-93DE-485D06CF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2CC2-7A0D-4A9D-B21A-68F94964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DE55-37E5-4AD0-BFDE-B476CC4B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36EC-5A03-4F9F-B0FD-FEF76B07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F595-75DC-45F3-8DA7-112785E9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0154-5BCC-4727-9C24-B45895DD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BDFC-560C-4FA3-8C92-877EF6E9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F834-93E1-43D8-9D45-8E3E81F9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901D-C697-444A-929A-03D09319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F31F-7048-4191-A5F2-5FB0C2471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998C-A1EA-4C78-B1F8-6FA7F1A07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12B4-D625-4637-B06C-55CA24B6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B843-C5C5-46F0-911A-0E3F2B81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66B8-5ECB-42FC-93A5-DB709FD7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7EF6-0B48-4451-9A88-8A740503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262F-0257-4DB3-8361-4A489BE1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2B29-C813-47CF-B9BB-B089A3B7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8908-DE59-45BC-A3BE-C15C6A3E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3333ff"/>
                </a:solidFill>
                <a:latin typeface="华文行楷"/>
                <a:ea typeface="华文行楷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ff"/>
                </a:solidFill>
                <a:latin typeface="华文行楷"/>
                <a:ea typeface="华文行楷"/>
              </a:rPr>
              <a:t>changgeng</a:t>
            </a:r>
            <a:r>
              <a:rPr b="0" lang="zh-CN" sz="1400" spc="-1" strike="noStrike">
                <a:solidFill>
                  <a:srgbClr val="3333ff"/>
                </a:solidFill>
                <a:latin typeface="Times New Roman"/>
              </a:rPr>
              <a:t>祝所有的朋友健康快乐</a:t>
            </a:r>
            <a:r>
              <a:rPr b="0" lang="zh-CN" sz="14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D6CB-2CD1-4185-99AB-BB6FB930E0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519C-E25A-44D2-96AC-83DFE98EB0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简单的道理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几句能让你快乐的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327672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原来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也很简单，只要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就行了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09480" y="8398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有几个小孩很想当天使，上帝给他们一人一个烛台，叫他们保持烛台光亮。结果几天过去了，上帝都没来，几乎所有的小孩都不再擦拭那烛台，有一天上帝突然造访，他们每个人的烛台都蒙上了厚厚的灰尘。只有一个小孩大家都叫他笨小孩，因为上帝没来，他也每天都擦拭，结果这个笨小孩成了天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457200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其实当天使很简单，只要实实在在去做就行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33520" y="762120"/>
            <a:ext cx="8076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有头小猪向神请求做他的门徒，神欣然答应。这时刚好有一头小牛由泥沼里爬出来，浑身都是泥。神对小猪说：“去帮他洗洗身子吧！”小猪诧异的说“我是神的门徒，怎么能去伺候那脏兮兮的小牛呢？”神说“你不去伺候别人，别人怎么知道你是我的门徒呢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4038480"/>
            <a:ext cx="8458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原来要变成神很简单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只要真心付出就行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09480" y="9144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有一支淘金队伍在沙漠中行走，大家都步履沉重，痛苦不堪，只有一个人快乐的走着。别人问：“你为何如此的惬意？”他笑着说：“因为我带的东西最少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4038480"/>
            <a:ext cx="62481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原来快乐很简单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拥有少一点就行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62120" y="105084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人生的光彩在哪里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1930320"/>
            <a:ext cx="51814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早上醒来，光彩在脸上，充满笑容地迎接未来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到了中午，光彩在腰上，挺直腰杆活在当下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到了晚上，光彩在脚上，脚踏实地地做好自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600200" y="1981080"/>
            <a:ext cx="59436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Times New Roman"/>
                <a:ea typeface="华文新魏"/>
              </a:rPr>
              <a:t>原来人生也很简单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Times New Roman"/>
                <a:ea typeface="华文新魏"/>
              </a:rPr>
              <a:t>只要懂得知足、自然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Times New Roman"/>
                <a:ea typeface="华文新魏"/>
              </a:rPr>
              <a:t>你就拥有了生命的光彩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38080" y="130824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有一个人去应征工作，随手将走廊上的纸片捡起来，放进了垃圾桶，被路过的考官看到了，他因此得到了这份工作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3733920"/>
            <a:ext cx="75438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原来获得赏识很简单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养成好习惯就行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80880" y="8953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有个小弟在脚踏车店当学徒。有人送来一部坏了的脚踏车，小弟除了将车修好，还把车子擦拭得漂亮如新，其他学徒笑他多此一举。车主将脚踏车领回去的第二天，小弟被挖到他的公司上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4114800"/>
            <a:ext cx="82296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原来出人头地很简单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吃点亏就行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762120"/>
            <a:ext cx="8001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有个小孩对母亲说：“妈妈，你今天好漂亮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母亲问：“为什么？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小孩说：“因为妈妈今天没有生气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3809880"/>
            <a:ext cx="67816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原来要拥有漂亮很简单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只要不生气就行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09480" y="8380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有个牧场主人，叫他孩子每天在牧场辛勤工作，朋友对他说：“你不需要让孩子如此辛苦，农作物一样会长得很好的。”牧场主人回答说：“我不是在培养农作物，我是在培养我的孩子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4114800"/>
            <a:ext cx="7086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原来培养孩子很简单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让他吃点苦头就行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914400"/>
            <a:ext cx="82296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有一个网球教练对学生说：“如果一个网球掉进草堆，应该如何找？”有人说“从草堆中心线开始找。”有人说“从草堆的最凹处开始找。”教练说“按部就班地从草地的一头，搜寻到草地的另一头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4038480"/>
            <a:ext cx="8001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原来寻找成功的方法很简单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从一数到十不要跳过就行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12924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有一家商店经常灯火通明，有人问：“你们店里用的是什么灯管？那么耐用？”店主回答说：“我们的灯管也常常坏，只要常常更换就行了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4267080"/>
            <a:ext cx="6629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原来保持明亮的方法很简单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只要常常更换就行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9907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住在田里的青蛙：“你这里太危险了，搬来和我住吧。”路边的青蛙说：“我已经习惯了，懒得搬了。”几天后，田里的青蛙去探望路边的青蛙，却发现他已经被车子轧死，暴尸在路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4191120"/>
            <a:ext cx="8077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原来掌握命运的方法很简单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远离懒惰就行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14400" y="153684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一只小鸡破壳而出的时候，刚好有一只乌龟经过，从此以后小鸡就背着蛋壳过了一生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396252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其实脱离沉重的负荷很简单，放弃固执和成见就行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06:36:15Z</dcterms:created>
  <dc:creator>007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6:11:26Z</dcterms:modified>
  <cp:revision>10</cp:revision>
  <dc:subject>主题班会课件(分28大类): http://shop62905894.taobao.com</dc:subject>
  <dc:title>主题班会课件(分28大类): http://shop62905894.taobao.com</dc:title>
</cp:coreProperties>
</file>