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A75-A648-4AAF-9CE5-92A2EBE0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BF3-A123-4EFE-9C39-0D13F8A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749-4EE5-4CF8-BF87-B5FA00B5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A39-E46A-4B0A-AC25-1C5F0342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AAD-8691-478F-B5D1-7F8D383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E43-A36C-4962-B439-EEC4855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76C-B21A-4BA1-86C7-7E92D85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878-6354-4F5E-A921-74E67D1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093-2CBB-467E-AD8F-B5BB193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1A3-421B-4660-A5D2-2B6CB33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BF7-D9F9-49EE-B0B1-9550F25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3E0-9F3C-4006-AE3C-60ECA91B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022-9962-44EF-8735-ACD280CB28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05264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勤学如春起之苗，不见其增，日有所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8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辍学如磨刀之石，不见其损，日有所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04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据说在推销员中流传着这样一个小故事，两个欧洲人到非洲去推销皮鞋，第一个推销员看到非洲人都打赤脚，立刻失望地说：“这些人都习惯打赤脚，怎么能买我们皮鞋呢！于是沮丧而回。另一个推销员看到非洲人打赤脚、惊喜万分：“这些人都没有鞋穿，看来皮鞋市场大的很呀。”于是想方设法，向非洲人推销自己的皮鞋，最后发了大财，这就是心态导致的天壤之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8900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拿破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曾经讲过一个令人醒悟的故事：赛尔玛陪丈夫驻扎在一个沙漠中的陆军基地里，丈夫经常外出演习，她一个人留在陆军的小铁皮房子里，奇热无比，又没有人和她聊天，周围都是不懂英语的墨西哥人和印第安人，她很难过地写信对父母说：“一心想回家去……”她的父亲给她回了一封信，信中只有两行字，但这两行字却永远留在她的心中，并改变了她的生活，这两行字是什么呢？“两个人，从牢中的铁窗望去，一个看到泥土，一个却看到了星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此，赛尔玛决定在沙漠中找到自己的星星，她观看沙漠的日落，寻找到几万年前留下的海螺壳，她和当地人交朋友，互送礼物，她研究沙漠中的植物、动物，又学习有关土拨鼠的知识，她把原来认为最恶劣的环境，变成了一生中最有意义的冒险，并出版了一本书《快乐的城堡》，她从自己的牢房中望去，终于望到了自己的星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82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？考取大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？大学毕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？研究生毕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岁？从事科学研                   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333360"/>
            <a:ext cx="813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如流沙河在《理想》中描述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想是石，敲出星星之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想是火，点燃熄灭的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想是灯，照亮夜行的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想是路，引你走向黎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想使不幸者绝路逢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凡的人因有理想而伟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理想者就是一个“大写的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龙哈迪是美国历史上最伟大教练之一，在皮尔博士所写的一本小说《热忱——它能为你做什么？》一文中这样叙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龙哈迪在达绿湾的时候，他面对着一支屡遭败绩而失去战斗力的球队，他站在他们面前，静静地看着他们，过了一段很长的时间，他以很有力量的声音说：“各位，我就要有一支伟大的球队了，我们要战无不胜，听到了没有！你们要学习防守，你们要学习奔跑，你们要学习拦截，你们要进攻，你们要胜过同你们对抗的球队，听到了没有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做到呢？他继续说：“你们要相信我，你们要热衷我的方法，一切的秘诀都在这里（他敲着自己的印堂），从此以后，我要你们只想这件事，你们的家庭，你们的宗教和达绿湾包装者队，要按这个次序让热忱充满你人全身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队员们全都从椅子上站立了起来，并记下了自己的感觉，觉得自己热血沸腾，雄心万丈，那一年他们打赢了七十场球，成为区冠军、全国冠军、世界冠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119700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积极的心态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成功的一半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0"/>
            <a:ext cx="896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风学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风：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尊重  信任  理解  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体内涵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重——尊重自己、尊重父母、尊重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任——信任自己、信任父母、信任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——理解学校、理解老师、理解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结——同心协力，“众人拾柴火焰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风：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苦学  勤思  好问  求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体内涵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学——“思而不学则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思——“学而不思则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问——“舍问，其奚决焉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实——踏实是学习之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3:06:25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8:50Z</dcterms:modified>
  <cp:revision>7</cp:revision>
  <dc:subject>主题班会课件(分28大类): http://shop62905894.taobao.com</dc:subject>
  <dc:title>主题班会课件(分28大类): http://shop62905894.taobao.com</dc:title>
</cp:coreProperties>
</file>