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type.wav" ContentType="audio/x-wav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3.jpeg" ContentType="image/jpeg"/>
  <Override PartName="/ppt/media/image7.jpeg" ContentType="image/jpeg"/>
  <Override PartName="/ppt/media/voltage.wav" ContentType="audio/x-wav"/>
  <Override PartName="/ppt/media/image12.jpeg" ContentType="image/jpeg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chimes.wav" ContentType="audio/x-wav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381B-8D5A-4CB3-BD95-BCF507381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4F3A-D556-411E-B89B-13042440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8805-DCF1-48D1-B880-D553A904A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2F53-FCED-4861-BDD2-CADE14EA9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1069-72A6-4C47-9FD1-AB0C0FF5C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4CFC-0672-4CAA-B81E-15D10BBD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9920-BE74-4219-ACCC-B184A2AC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4611-E3D4-463E-AEBA-A29BF226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12BD-21A6-4C64-AE48-4C2C8830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E5F1-0116-4521-9DE8-A604C3B3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C84A-C13E-46FF-8FC9-C6E1C5C1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FEEB-E613-4B71-B6A8-49EC5490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12A4-8CC3-44F1-9BBC-D2076C27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51F1-E2FD-4BD8-ACA1-9FAC90AB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7A02-3ACD-444A-8F37-612376CD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9BDC-050F-475E-BBF6-19D02F22F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2F34-2D26-4F86-8913-FE1B07F95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2989-92A8-4695-9D31-6D93B6AA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E606-E9A5-42C5-9C91-1A7BD0E7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AA98-6F43-432C-AD93-B0B9B1DD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96E2-734F-4F05-A995-16CC13AA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A2D2-A522-417A-91F8-7F039571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5EB0-F37C-45A3-8344-DEEA3365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6365-95FF-4C00-B40E-C480A671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12F6-4C74-4971-855B-D378739B045F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EAC0-20ED-4B40-8624-8C121C448D47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voltag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hyperlink" Target="file:///../../../../DOCUME~1/ddk/LOCALS~1/Temp/Rar$DI01.391/yvn2_11.swf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476360" y="1844640"/>
            <a:ext cx="705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黑体"/>
                <a:ea typeface="黑体"/>
              </a:rPr>
              <a:t>磨 砺 坚 强 意 志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44280"/>
            <a:ext cx="939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四、面对挫折与逆境，最为重要的是具有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坚强的意志，奋起努力，知难而进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2930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164360" y="1628640"/>
            <a:ext cx="1428840" cy="1791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95280" y="52758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他是一个不会被困难所吓倒，不会为成功所迷惑的人，他不屈不挠地迈向自己的伟大目标，而从不轻举妄动，他稳步向前，而从不倒退；……总之，他是一位达到了伟大境界而仍然保持自己优良品质的罕有的人物”。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                                 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—— </a:t>
            </a:r>
            <a:r>
              <a:rPr b="1" i="1" lang="zh-CN" sz="2800" spc="-1" strike="noStrike">
                <a:solidFill>
                  <a:srgbClr val="ff0066"/>
                </a:solidFill>
                <a:latin typeface="Arial"/>
              </a:rPr>
              <a:t>马克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3860640"/>
            <a:ext cx="7488360" cy="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3789360"/>
            <a:ext cx="142560" cy="1443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5840" y="2421000"/>
            <a:ext cx="9118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经商失败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7480" y="1484280"/>
            <a:ext cx="91188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竞选众议员失败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06520" y="2349360"/>
            <a:ext cx="546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恋人死去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3880" y="2347920"/>
            <a:ext cx="54612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精神崩溃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04480" y="1486080"/>
            <a:ext cx="911880" cy="23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竞选州仪长失败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23400" y="990720"/>
            <a:ext cx="911880" cy="27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争取国会提名失败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1120" y="1484280"/>
            <a:ext cx="91188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竞选参议员失败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4480" y="1484280"/>
            <a:ext cx="91188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竞选众议员失败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28480" y="1484280"/>
            <a:ext cx="9118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竞选副总统失败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04840" y="1484280"/>
            <a:ext cx="91188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竞选参议员失败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42920" y="3789360"/>
            <a:ext cx="142920" cy="1443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20720" y="3789360"/>
            <a:ext cx="142920" cy="1443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81080" y="3789360"/>
            <a:ext cx="142920" cy="1443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56000" y="3789360"/>
            <a:ext cx="142920" cy="1443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3789360"/>
            <a:ext cx="142920" cy="1443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56000" y="3789360"/>
            <a:ext cx="142920" cy="1443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19640" y="3789360"/>
            <a:ext cx="142920" cy="1443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3789360"/>
            <a:ext cx="142920" cy="1443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56360" y="3789360"/>
            <a:ext cx="142920" cy="1443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399888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22  23   26  27    29      34            39       46  47    49     51    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（岁）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59640" y="3789360"/>
            <a:ext cx="142920" cy="1443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08120" y="2421000"/>
            <a:ext cx="91188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当选总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如何培养良好的意志品质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第一 、培养意志的正确目的性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第二、培养意志的自觉性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第三、培养意志的果断品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第四、培养意志的坚韧品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第五、培养自制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63480" y="33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1584360" cy="11844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765000"/>
            <a:ext cx="8604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  <a:ea typeface="华文隶书"/>
              </a:rPr>
              <a:t>          </a:t>
            </a:r>
            <a:r>
              <a:rPr b="1" lang="zh-CN" sz="4000" spc="-1" strike="noStrike">
                <a:solidFill>
                  <a:srgbClr val="00cc00"/>
                </a:solidFill>
                <a:latin typeface="Arial"/>
                <a:ea typeface="华文隶书"/>
              </a:rPr>
              <a:t>小 陈 的 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小陈是某中学的一名网球队员，别看他个子不高，其貌不扬，但在网球场上却是生龙活虎，敢打敢拼，速度快、耐力好，曾获得市青少年网球单打比赛少年组第六名的好成绩，他是教练眼中的好苗苗。他梦想能早日进入市队，然后进入令人羡慕的国家队，但是在一次市队选拔过程中他却被淘汰了，理由是学习成绩太差。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                                                         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6560" y="4508640"/>
            <a:ext cx="878544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小陈遇到了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_________________________________________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                                                         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小陈的心情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________________________________________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                                                    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                                                          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小陈没能进入市队的原因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_____________________________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79280" y="2144880"/>
            <a:ext cx="8675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小陈进入市队有什么优势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 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______________________________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若要进入市网球队小陈应该怎么做？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_____________________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                                      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                                                               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如果小陈如愿进入市队，他将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__________________________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                                            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                                                                   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小陈会成功吗？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_______________________________________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31640" y="2997360"/>
            <a:ext cx="8712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华文楷体"/>
                <a:ea typeface="华文楷体"/>
              </a:rPr>
              <a:t>没有礁石的阻挡，哪能激起美丽的浪花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华文楷体"/>
                <a:ea typeface="华文楷体"/>
              </a:rPr>
              <a:t>挫折并不可怕，可怕的是受“挫”即“折”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9280" y="3141720"/>
            <a:ext cx="216000" cy="2160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9280" y="3860640"/>
            <a:ext cx="216000" cy="2160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4437000"/>
            <a:ext cx="216000" cy="2160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9280" y="5013360"/>
            <a:ext cx="216000" cy="2160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9280" y="5589720"/>
            <a:ext cx="216000" cy="215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7280" y="847800"/>
            <a:ext cx="88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  <a:ea typeface="华文行楷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隶书"/>
              </a:rPr>
              <a:t>欢迎投稿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华文行楷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楷体"/>
              </a:rPr>
              <a:t>近期《枫外报》开展如何对待人生挫折的征言活动，下面是部分同学的投稿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1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042920" y="2370240"/>
            <a:ext cx="640872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cc0066"/>
                </a:solidFill>
                <a:uFillTx/>
                <a:latin typeface="Arial"/>
                <a:ea typeface="华文行楷"/>
                <a:hlinkClick r:id="rId2"/>
              </a:rPr>
              <a:t>让我们一起超越梦想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430440" y="0"/>
            <a:ext cx="571356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358920" y="404640"/>
            <a:ext cx="2232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648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一 曲 难 忘</a:t>
            </a:r>
            <a:endParaRPr b="0" lang="en-US" sz="1800" spc="1" strike="noStrike">
              <a:ln w="648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6" name=""/>
          <p:cNvSpPr/>
          <p:nvPr/>
        </p:nvSpPr>
        <p:spPr>
          <a:xfrm>
            <a:off x="2700360" y="1628640"/>
            <a:ext cx="439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华文琥珀"/>
              </a:rPr>
              <a:t>真 心 英 雄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0360" y="2924280"/>
            <a:ext cx="89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歌名：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________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歌曲中的“风雨”指：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_____________________ 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                                  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“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彩虹”指：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____________________________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                                    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要取得成功，必须学会经历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_______________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831960"/>
            <a:ext cx="85406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一、挫折与人生相伴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3068640"/>
            <a:ext cx="81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隶书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同学们在生活学习中有没有遇到过挫折或身处逆境的时候，能给大家说说吗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215100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cc00"/>
                </a:solidFill>
                <a:latin typeface="华文隶书"/>
                <a:ea typeface="华文隶书"/>
              </a:rPr>
              <a:t>现 场 采 访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26920" y="62064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二、不同的态度  不同的结果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34136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cc00"/>
                </a:solidFill>
                <a:latin typeface="Arial"/>
                <a:ea typeface="华文隶书"/>
              </a:rPr>
              <a:t>续写寓言</a:t>
            </a:r>
            <a:r>
              <a:rPr b="1" i="1" lang="zh-CN" sz="3600" spc="-1" strike="noStrike">
                <a:solidFill>
                  <a:srgbClr val="00cc00"/>
                </a:solidFill>
                <a:latin typeface="Arial"/>
                <a:ea typeface="华文隶书"/>
              </a:rPr>
              <a:t>: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1773360"/>
            <a:ext cx="856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被落井下石的驴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一位乡下农夫有头老驴子，一天，老驴子不小心跌进了一个深坑。农夫听到驴的哀鸣，目睹它的困境，想了很久，断定救不了它，但又不忍心看着它痛苦而死，于是，农夫决定往坑里填土，把老驴闷死，以便使它早些脱离苦海，于是，农夫就开始往坑里填土……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9280" y="549360"/>
            <a:ext cx="889344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行楷"/>
              </a:rPr>
              <a:t>挫折的积极作用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行楷"/>
              </a:rPr>
              <a:t>: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挫折能增长人的聪明才智“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吃一堑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,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长一智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挫折可以激发人的进取精神”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跌倒了，爬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　起来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挫折能磨厉人的意志。“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自古英雄多磨　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　难，从来纨绔少伟男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 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17560" y="1123560"/>
            <a:ext cx="82915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cc00"/>
                </a:solidFill>
                <a:latin typeface="Arial"/>
                <a:ea typeface="华文隶书"/>
              </a:rPr>
              <a:t>在困难和挫折的三叉路口</a:t>
            </a:r>
            <a:br>
              <a:rPr sz="4000"/>
            </a:b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胆怯、懦弱的人</a:t>
            </a:r>
            <a:br>
              <a:rPr sz="4400"/>
            </a:b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意志不坚定或者容易满足的人</a:t>
            </a:r>
            <a:br>
              <a:rPr sz="4400"/>
            </a:b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意志坚强、有坚定信念的人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三、乐观、灵活、理智与现实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  地对待挫折与逆境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484280"/>
            <a:ext cx="849600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、以乐观的态度面对生活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cc00"/>
                </a:solidFill>
                <a:latin typeface="Arial"/>
                <a:ea typeface="华文隶书"/>
              </a:rPr>
              <a:t>            </a:t>
            </a:r>
            <a:r>
              <a:rPr b="0" i="1" lang="zh-CN" sz="4000" spc="-1" strike="noStrike">
                <a:solidFill>
                  <a:srgbClr val="00cc00"/>
                </a:solidFill>
                <a:latin typeface="Arial"/>
                <a:ea typeface="华文隶书"/>
              </a:rPr>
              <a:t>笑话一则：约翰的儿子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约翰有两个儿子，大儿子乐观、积极，小儿子悲观、消极。一天约翰将大儿子放入堆满牛粪的牛圈里，将小儿子放入堆满玩具的房间里。谁知，大儿子乐滋滋地玩着牛粪，小儿子却在玩具堆里愁眉苦脸。约翰便问他们：“为什么？”小儿子说“这些玩具坏了怎么办？”大儿子却说：“我猜爸爸肯定在牛粪里给我藏了玩具。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4920" y="620640"/>
            <a:ext cx="93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、以灵活、理智与现实的策略或方法来解决问题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0606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、放大心胸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生活中的许多挫折并不是多了不起的大事，记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                    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住，要大肚能容天下难容之事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03280" y="1127160"/>
            <a:ext cx="61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33cc33"/>
                </a:solidFill>
                <a:latin typeface="华文隶书"/>
                <a:ea typeface="华文隶书"/>
              </a:rPr>
              <a:t>经 验 分 享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924280"/>
            <a:ext cx="78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二、再加把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记住，功到自然成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920" y="3573360"/>
            <a:ext cx="84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三、调整目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记住，跳一跳能达到的目标是最佳目标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920" y="4149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四、合理宣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在适当的场合，用适当的方式，来排解心中的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                    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不良情绪。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60" y="4941720"/>
            <a:ext cx="91440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五、转移注意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收拾一下房间、改变一下格局、点缀一些花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                    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草，都不失为一种好办法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920" y="602136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六、向他人求助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484280"/>
            <a:ext cx="91440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幼圆"/>
                <a:ea typeface="幼圆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不同的挫折感，应付的方法各有不同。下面请同学们举例所遇挫折并填写消除挫折感的方法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例如：当我考试成绩不理想的时候，我只要听听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音乐、散散步、唱唱歌。就可以把挫折应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付过去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当 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宋体"/>
              </a:rPr>
              <a:t>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，我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___________________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当 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宋体"/>
              </a:rPr>
              <a:t>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，我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___________________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。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宋体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当 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宋体"/>
              </a:rPr>
              <a:t>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，我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___________________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。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宋体"/>
              </a:rPr>
              <a:t>                    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当 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宋体"/>
              </a:rPr>
              <a:t>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，我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___________________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95640" y="476280"/>
            <a:ext cx="54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彩云"/>
                <a:ea typeface="华文彩云"/>
              </a:rPr>
              <a:t>化 干 戈 为 玉 帛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01:32:38Z</dcterms:created>
  <dc:creator>0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6:46:36Z</dcterms:modified>
  <cp:revision>1</cp:revision>
  <dc:subject>主题班会课件(分28大类): http://shop62905894.taobao.com</dc:subject>
  <dc:title>主题班会课件(分28大类): http://shop62905894.taobao.com</dc:title>
</cp:coreProperties>
</file>