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062-40EC-4DB1-8B35-C7D9B1CF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56F-C5DB-4EE0-9EC1-5E27DBC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5AF-98DA-41CC-941D-1CB07B0D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AC7-380B-4F2E-972E-3FC5B8F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989F6-9CFF-4D85-9363-789251B5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35B6-E4E7-4945-8231-D21AE14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FBCE-24C7-45C6-86A7-FC135C61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9FA8E-2E79-45B5-9B9F-96DAC69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16E7-AF9B-434A-9000-BD173BF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329FB-1B78-48E5-A9A2-242F335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E96F-5567-4158-B771-9F87D8B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F13-CAAF-4F80-8CCD-B1BF767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B5E36-7A3F-4543-8BAD-6FCFCA05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19E4E-BEA2-4476-98E0-090FA7D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3CC9-4B9D-405E-8679-00096AC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6D40-B503-43F6-9242-697368DC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E21A0-94F0-472A-BCB4-68A39875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F495-3903-44BE-BE45-DCEF460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98D7-A721-45F6-9F63-AEB5B53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F431-7ECF-4169-AE30-45DCB97B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ADEE-87C4-4284-8DC0-6E878CB5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DAB0-2A9A-42D7-ABE6-6B66D3D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B86-3721-405E-957C-CF9E618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31F3-5D83-43CF-8579-64DF521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3052-7DCE-44B3-A26F-4D96D0E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49FA-2292-49DE-B23C-0DDF6E3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D44B-496C-43A2-8A97-06414E5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2184-872F-4D97-9F57-72ADAFD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3C9D-412E-4313-A58C-0006A9C8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A733-3578-437F-9E4B-BE7C751E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314-F835-43EB-84C5-0AA292B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E2F-F1AB-4B99-AB7A-C8AD132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1C4-C288-45CA-B562-6CDAF24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619-6CAE-4651-A96E-49CB4E9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33F-7E3C-41C4-AABD-9DCCCE5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C21-124E-4543-AC77-9BCB462E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2F14-AB31-44A8-9FFC-9D369C955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E26-3C4F-4B10-ACD3-D2A3AE55A06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D203-E585-444E-89C1-D50F1A608A8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009999"/>
                </a:solidFill>
                <a:latin typeface="Arial"/>
              </a:rPr>
              <a:t>相信自己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38052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1125360"/>
            <a:ext cx="3816360" cy="54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少次挥汗如雨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伤痛曾填满记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只因为始终相信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去拼搏才能胜利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总是在鼓舞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要成功就得努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热血在赛承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巨人在东方升起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信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你将赢得胜利创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奇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1125360"/>
            <a:ext cx="3816360" cy="39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信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梦想在你手中这是你的天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BACBACBACBA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信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你将超越极限超越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信自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当这一切过去你们将是第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信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0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609480"/>
            <a:ext cx="70102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可以完全掌握自己的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好的事情不断地发生在我身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每天都很快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有能力做任何事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会完成任何目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一定能实现自己的梦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爱我的人生，也爱周围的人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371600"/>
            <a:ext cx="8305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无论发生什么事，我都是积极面对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的信心一天比一天更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无条件地接受我自己和其他的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知道任何事情发生必有其目的并有助于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的生命一天比一天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1523880"/>
            <a:ext cx="6782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是最棒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一定会自我实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一定坚持到底决不放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每天进步、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成功一定是属于我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11430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是一个非常有自信的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的，我喜欢我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没错，我相信我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的，我拥有美好的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可以完全掌握自己的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9999"/>
                </a:solidFill>
                <a:latin typeface="Arial"/>
              </a:rPr>
              <a:t>老天要我休息一下</a:t>
            </a:r>
            <a:br>
              <a:rPr sz="5100"/>
            </a:br>
            <a:r>
              <a:rPr b="1" lang="zh-CN" sz="5100" spc="-1" strike="noStrike">
                <a:solidFill>
                  <a:srgbClr val="009999"/>
                </a:solidFill>
                <a:latin typeface="Arial"/>
              </a:rPr>
              <a:t>　　　　</a:t>
            </a:r>
            <a:br>
              <a:rPr sz="5100"/>
            </a:br>
            <a:r>
              <a:rPr b="1" lang="zh-CN" sz="51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奥运冠军的故事</a:t>
            </a:r>
            <a:br>
              <a:rPr sz="57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4146480" cy="518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468360" y="1268280"/>
            <a:ext cx="525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76360" y="1268280"/>
            <a:ext cx="6400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004,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雅典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射击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裁判忘在衣服扣子上做标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遭遇无理训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两次把枪架碰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反败为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获得金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杜丽：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面对挫折和意外我都是保持一种比较积极的态度；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第一次枪架倒下时，我心里有点怵，第二次碰倒后，我就想也许</a:t>
            </a: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老天要我休息一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我就不觉得这不是不利情况。其实我自始自终都是想着战胜自己，没有去想别人怎么样。始终都是在提醒自己，只要战胜了自己，就战胜了所有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70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战胜了自己，就是战胜了所有的人。而战胜自己，就需要拥有一分平稳的处变不禁的心态，就像杜丽，遇到挫折时不顺时，别人可能心慌，她却看作是一次休息的机会，给心跳一个缓冲的时间，让自己的精神加油，用更好的状态去面对挑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</a:rPr>
              <a:t>以积极的态度面对挑战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培养自信心的训练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78408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刘标峰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出生于福建省福安市的一个小山村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毕业宁德地区农业学校，毕业后进入当地一家啤酒公司。从销售员一直做到浙江、江西两省营销总监、鲜啤部经理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向父母借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3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元开始创业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年初赚了人生中的第一桶金，成为了百万富翁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成立“上海游傲企业管理顾问有限公司”，正式进军教育培训行业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在上海成功举办了“与成功有约”大型演讲会，邀请华人成功学权威陈安之和台湾第一名嘴张锦贵教授，突破了上海培训界级别最高、推广人数最多的纪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1828800"/>
            <a:ext cx="6400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是一个非常有自信的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喜欢我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相信我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拥有美好的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0:49:26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7:10Z</dcterms:modified>
  <cp:revision>5</cp:revision>
  <dc:subject>主题班会课件(分28大类): http://shop62905894.taobao.com</dc:subject>
  <dc:title>主题班会课件(分28大类): http://shop62905894.taobao.com</dc:title>
</cp:coreProperties>
</file>