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9D0-388C-4C1F-89C0-DFA538F4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5F7-3CDD-46B3-BF4D-5AFC5F00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097-E7CB-484C-A34C-E3B3592B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844-2D0C-4C1A-812D-1A692DFD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047-5039-4D15-8945-47CB425B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01C-06F1-4676-8A06-2A96C25A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B90-8457-405A-AF2F-22F43398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A8A-F593-4D32-9B70-6414605F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FA3-FDFE-4AF2-91EA-660B6908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345-C6C6-49E7-B238-0993109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1C7-DA32-43E1-9783-C90F1D1C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BCE-D743-4B31-96B7-75243F8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F3E4-1299-4C07-AEFE-A572A6DE8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294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55640" y="836640"/>
            <a:ext cx="732960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我的未来不是梦</a:t>
            </a:r>
            <a:r>
              <a:rPr b="0" lang="en-US" sz="4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!</a:t>
            </a:r>
            <a:endParaRPr b="0" lang="en-US" sz="4400" spc="1" strike="noStrike">
              <a:ln w="9360">
                <a:solidFill>
                  <a:srgbClr val="993366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530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0000" y="692280"/>
            <a:ext cx="13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早自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98920" y="6199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坚决服从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4440" y="-720"/>
            <a:ext cx="224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具  体  要   求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55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学习上的疑问，问老师、问同学一道题不要超过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分钟，自己钻研一道题不要超过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分钟，要讲究覆盖面和效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643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不要盲目延长学习时间，形成自己固定的生物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3440" y="5370480"/>
            <a:ext cx="10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不进行一切毕业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2680" y="6021360"/>
            <a:ext cx="42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学会感谢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做个好人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助人自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0" y="4365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与家人和睦相处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避免造成家庭成员关系紧张或者心理压力太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5720" y="299736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积极参加学校的各类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652400"/>
            <a:ext cx="849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行者背着沉重的背囊，迈着匆匆的步伐，不停地往前走。父母泣血的呼唤，妻子深情的挽留，儿女甜蜜的微笑……都被他抛在了身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他早就下定决心，甩掉一切羁绊，走遍世界上的山山水水，做一个前无古人、后无来者的行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春天来了，一路上百花争艳，百鸟啁啾，行者没有驻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夏天来了，所行处千山滴翠，万舸争流，行者没有旁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秋天来了，遍野里硕果累累，秋色宜人，行者没有眷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冬天来了，触目处白雪皑皑，冰封万里，行者没有注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甚至连路旁乞者的哀叫，途中不幸者的惨呼……都没有拉住行者的脚步。他低着头，不舍昼夜，匆匆地，匆匆地向前走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终于有一天，行者实现了自己心中的梦想，背着泛白的行囊回来了，他的凯旋，吸引了成群的记者，在闪烁的聚光灯下，有记者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“请问行者，你在旅行中有哪些风景给你留下了美妙的印象？最值得回忆的事又是什么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行者埋头想了半天，脑子里除了行走还是行走，他张着嘴，讷讷地说：“我走过了，难道这还不够吗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“瞧，他只顾赶路了。”一位资深的记者说，“如果仅仅是为了走而走，那磨道里的驴子不也是一个伟大的行者吗？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920" y="2637000"/>
            <a:ext cx="732960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祝你成功</a:t>
            </a:r>
            <a:r>
              <a:rPr b="0" lang="en-US" sz="4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!</a:t>
            </a:r>
            <a:endParaRPr b="0" lang="en-US" sz="4400" spc="1" strike="noStrike">
              <a:ln w="9360">
                <a:solidFill>
                  <a:srgbClr val="993366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07240" y="1557360"/>
            <a:ext cx="401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最感动你的是什么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28400" y="3502080"/>
            <a:ext cx="44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你能和别人比明天么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怎么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94640" y="2348640"/>
            <a:ext cx="95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看不到目标的后果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2553120"/>
            <a:ext cx="880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5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，加利福尼亚海岸笼罩在浓雾中。在海岸以西一个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的妇女涉水下到太平洋中，开始向加州海岸游过去。要是成功了，她就是世界上第一个游过这个海峡的妇女，这名妇女叫费罗伦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德威克。在此之前，她是从英法两边海岸游过英吉利海峡的第一个妇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早晨的海水冻得她身体发麻，雾很大，她连护送她的船只都几乎看不到。时间一个钟头一个钟头过去，千千万万人在电视上看着她。有几次，鲨鱼靠近了她，被人开枪吓跑，她依然在游。在以往这类渡海游泳中，她的最大问题不是疲劳，而是冰冷刺骨的水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钟头之后，她又冷又累。她知道自己不能再游了，就叫人拉她上船。她的母亲和教练在另一条船上。他们都告诉她海岸很近了，叫她不要放弃。但她朝加州海岸望去，除了浓雾什么也看不到。几十分钟之后——从她出发算起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钟头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钟之后，人们把她拉上船。又过了几个钟头，她觉得暖和多了，这时却开始感到失败的打击，她不假思索地对记者说：“说实在的，我不是为自己找借口，如果当时我看见陆地，也许我能坚持下来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们拉她上船的地点，离加州海岸仅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！后来她说，令她半途而废的不是疲劳，也不是寒冷，而是因为她在浓雾中看不到目标。她说的话是有根据的：查德威克小姐一生中只有这一次没有坚持到底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之后，她成功地游过同一个海峡。她不但是第一个游过卡塔林纳海峡的女性，而且比男子的纪录还快了大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钟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31960" y="2183400"/>
            <a:ext cx="379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父子骑驴的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03840" y="256500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只猫引发的妙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266508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斐塞司博士有一个习惯，总是在午饭后坐在门前晒太阳。一只猫在阳光下安详地打着盹儿。时间一分一秒地流逝，太阳一步一步向西移，渐渐被拉长的树影，挡住了猫身上的阳光。猫醒了，它站了起来，伸了伸懒腰，又踱到另一块有阳光的地方，重新躺了下来，接着打盹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隔一段时间，猫都会随着阳光的转移而不停地变换睡觉的场地。这一切在我们看来司空见惯，自然而然。可是猫的这些举动唤起了斐塞司博士的好奇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90792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猫为什么呆在阳光下呢？是光和热，还是其他的什么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，是光和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猫喜欢呆在阳光下，这说明光和热对它一定是有益的。那对人呢，对人是不是也同样有益？这个想法在斐塞司博士的脑子里闪了一下。可就是这么一闪，成为闻名世界的日光疗法的引发点。之后不久，日光疗法便在世界上诞生了，现已在全球成为时尚。斐塞司博士也因为一只睡懒觉的猫获得了诺贝尔医学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3:27:57Z</dcterms:created>
  <dc:creator>User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8:48Z</dcterms:modified>
  <cp:revision>8</cp:revision>
  <dc:subject>主题班会课件(分28大类): http://shop62905894.taobao.com</dc:subject>
  <dc:title>主题班会课件(分28大类): http://shop62905894.taobao.com</dc:title>
</cp:coreProperties>
</file>