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gif" ContentType="image/gi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60E-0517-43FC-A9E7-EEB93C81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9C7-59AC-4821-BE53-41ABD243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E42-FF64-4928-8651-B50F88A2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4B7-82C2-4069-90B5-C783C31D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8CD2-1F0C-4003-9E67-0E2F6ADC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4FD8-070B-4CED-B85D-F0AC2398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4999-7E66-4AFB-8ED6-3B1D4949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7A25-AE22-4B47-A262-BD21E50B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DB8F-E9CD-45CA-9214-41A2B886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9752-D245-409B-8214-D46CA534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5724-2B9C-4E8B-9BFE-0C2F65BD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EBE-5C74-4A42-A8F0-992E3291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38B4-E61D-4D77-A862-B1ECD7AE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28C5-B5DB-4A3D-B43C-5D12AB5E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7AE2-F953-4D0F-BD31-1693B56F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ABD6-D4CE-4AD9-A135-B80F9E4B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4312-674C-4932-902D-5C3A8464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722-BCA0-49DF-9E93-43872FFE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E91-6EFD-47B4-A47D-0F55A853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BB8-0ACA-4B40-BE02-61EC7A8A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8F3-513C-4E46-AC5A-76F221AF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254-D2B7-4BA1-8A43-DBE53B90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128-775E-485C-89A9-700BFC1B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4B1-B733-471D-B8A0-053598AC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A38F-AE14-4797-8432-436F59121915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100E-48E9-47BC-833D-B3CC94A1B31A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067280" y="0"/>
            <a:ext cx="47876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傲气傲笑万重浪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热血热胜红日光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胆似铁打  骨似精钢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胸襟百千丈  眼光万里长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誓奋发自强做好汉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做个好汉子  每天要自强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热血男子  热胜红日光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让海天为我聚能量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去开辟天地  为我理想去闯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碧波高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又看碧空广阔浩气扬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既是男儿当自强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强步挺胸  大家做栋梁做好汉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用我百点热  耀出千分光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做个好汉子  热血热肠热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热胜红日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 rot="5400000">
            <a:off x="1834560" y="2276280"/>
            <a:ext cx="360072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>
                    <a:alpha val="95000"/>
                  </a:srgbClr>
                </a:solidFill>
                <a:latin typeface="华文新魏"/>
              </a:rPr>
              <a:t>男儿当自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>
                  <a:alpha val="95000"/>
                </a:srgbClr>
              </a:solidFill>
              <a:latin typeface="华文新魏"/>
              <a:ea typeface="华文新魏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00000" y="5229360"/>
            <a:ext cx="935280" cy="934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50920" y="1279080"/>
            <a:ext cx="2663640" cy="15562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</a:rPr>
              <a:t>自强精神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积极向上，不甘落后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奋发图强，永远进取的精神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39640" y="162864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、在学习上，我更不肯认输。一道难题，非要把它的答案找出来不可。实在不行，就去请教老师、同学或家长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195640" y="189000"/>
            <a:ext cx="47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他山之石，可以攻玉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5229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Verdana"/>
              </a:rPr>
              <a:t>要问我成功的原因是什么？那就是我有一颗向上的心。我认为，自强的人是总会成功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3429000"/>
            <a:ext cx="76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、认真总结考试失败的原因，从此更加努力地学习。课前做好预习，课堂上认真听讲，课后除了复习、做作业之外，还找一些练习题来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79840" y="83664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Verdana"/>
              </a:rPr>
              <a:t>徐好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39640" y="836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、每天把不懂的单词、句子、公式等划起来，利用课余时间去找老师或问同学，直到弄清楚为止。晚上作完作业又把这些地方再看一遍，看看自己是否学扎实了，是否掌握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53737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Verdana"/>
              </a:rPr>
              <a:t>为了自身的前途、父母的期望，乃至民族的富强，男儿当自强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393372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、在面向生活的困难时，我总是以一种乐观的态度去对待。总结输的原因，再找出解决的办法，吸取教训，在下一场比赛中不要再犯同样的错误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2781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、经常提醒自己做事要快点，不要比别人慢。做什么事都做在别人前头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9080" y="260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Verdana"/>
              </a:rPr>
              <a:t>张禹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24000" y="83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、遇到什么困难，先试着自己去解决；当我真的不知道应该怎样做时，我会去请教父母、老师或其他同学，但我不会让他们直接帮我解决，而是让他们告诉我应该怎样做，然后按着他们的指示一步步地去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05080" y="26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Verdana"/>
              </a:rPr>
              <a:t>林雅琳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479736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Verdana"/>
              </a:rPr>
              <a:t>做人、作学问都要有一种自强的精神，积极向上，不怕困难，勇敢地接受挑战，才能有所成就，才能在激烈的社会竞争中获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40053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、团结一致地去学习，互相交流意见，取长补短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2852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、在学习方面，想要学好，首先应该自觉地去学。在复习的过程中，学生应该是主动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109040" y="537372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）强调全面发展，并且敢于创造，善于创造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400536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）学会竞争、互助、合作，共同进步，打好做人的基础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2708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）承认差异，看到自己的长处，正确对待困难，客观评价自己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141300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）首先要相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我能行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，并通过努力争取达到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我能行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0"/>
            <a:ext cx="2376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倡议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71640" y="549360"/>
            <a:ext cx="7272360" cy="10688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“三比”：“不比基础比进步；不比聪明比刻苦；不比阔气比志气。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588000" y="558972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口号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216" name=""/>
          <p:cNvSpPr/>
          <p:nvPr/>
        </p:nvSpPr>
        <p:spPr>
          <a:xfrm>
            <a:off x="1547640" y="1916280"/>
            <a:ext cx="532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八句话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相信自己行，才会我能行； 别人说我行，努力才能行； 你在这点行，我在那点行； 今天若不行，明天争取行； 能正视不行，也是我能行； 不但自己行，帮助别人行； 相互支持行，合作大家行；争取全面行，创造才最行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763640" y="1125360"/>
            <a:ext cx="6193080" cy="28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大家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187280" y="981000"/>
            <a:ext cx="66963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男孩女孩当自强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5" name=""/>
          <p:cNvSpPr/>
          <p:nvPr/>
        </p:nvSpPr>
        <p:spPr>
          <a:xfrm>
            <a:off x="2916360" y="46530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Verdana"/>
              </a:rPr>
              <a:t>——</a:t>
            </a:r>
            <a:r>
              <a:rPr b="1" lang="zh-CN" sz="3600" spc="-1" strike="noStrike">
                <a:solidFill>
                  <a:srgbClr val="ff5050"/>
                </a:solidFill>
                <a:latin typeface="Verdana"/>
              </a:rPr>
              <a:t>初一（</a:t>
            </a:r>
            <a:r>
              <a:rPr b="1" lang="en-US" sz="3600" spc="-1" strike="noStrike">
                <a:solidFill>
                  <a:srgbClr val="ff5050"/>
                </a:solidFill>
                <a:latin typeface="Verdana"/>
              </a:rPr>
              <a:t>7</a:t>
            </a:r>
            <a:r>
              <a:rPr b="1" lang="zh-CN" sz="3600" spc="-1" strike="noStrike">
                <a:solidFill>
                  <a:srgbClr val="ff5050"/>
                </a:solidFill>
                <a:latin typeface="Verdana"/>
              </a:rPr>
              <a:t>）班主题班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1280" y="2349360"/>
            <a:ext cx="4249800" cy="947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在我学术生涯中，曾经与许多国家的学者合作过，但我坦事地说，从来未遇见一位学者，像钟医生这样勤奋，合作得这样好，这样卓有成效。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导师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弗兰里教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76360" y="260280"/>
            <a:ext cx="5975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自强的钟南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700360" y="2059920"/>
            <a:ext cx="4321080" cy="70344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隶书"/>
              </a:rPr>
              <a:t>在逆境中要自强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3357720"/>
            <a:ext cx="63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个自强的人是有希望的，不自强的人是扶不起来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自强才能立志，自强才能好学，自强才能具备奋斗精神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42920" y="549360"/>
            <a:ext cx="712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从钟南山身上，你悟出了什么？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116000" y="3357720"/>
            <a:ext cx="6767640" cy="314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*</a:t>
            </a:r>
            <a:r>
              <a:rPr b="1" lang="zh-CN" sz="4000" spc="-1" strike="noStrike">
                <a:solidFill>
                  <a:srgbClr val="0033cc"/>
                </a:solidFill>
                <a:latin typeface="Verdana"/>
              </a:rPr>
              <a:t>自强者人尊之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Verdana"/>
              </a:rPr>
              <a:t>*</a:t>
            </a:r>
            <a:r>
              <a:rPr b="1" lang="zh-CN" sz="4000" spc="-1" strike="noStrike">
                <a:solidFill>
                  <a:srgbClr val="0033cc"/>
                </a:solidFill>
                <a:latin typeface="Verdana"/>
              </a:rPr>
              <a:t>人不自弃，人要自强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*</a:t>
            </a:r>
            <a:r>
              <a:rPr b="1" lang="zh-CN" sz="4000" spc="-1" strike="noStrike">
                <a:solidFill>
                  <a:srgbClr val="0033cc"/>
                </a:solidFill>
                <a:latin typeface="Verdana"/>
              </a:rPr>
              <a:t>天行健，君子以自强不息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79640" y="260280"/>
            <a:ext cx="5975280" cy="1008000"/>
            <a:chOff x="1979640" y="260280"/>
            <a:chExt cx="5975280" cy="1008000"/>
          </a:xfrm>
        </p:grpSpPr>
        <p:sp>
          <p:nvSpPr>
            <p:cNvPr id="175" name=""/>
            <p:cNvSpPr/>
            <p:nvPr/>
          </p:nvSpPr>
          <p:spPr>
            <a:xfrm>
              <a:off x="1979640" y="260280"/>
              <a:ext cx="5975280" cy="1008000"/>
            </a:xfrm>
            <a:prstGeom prst="wedgeRoundRectCallout">
              <a:avLst>
                <a:gd name="adj1" fmla="val 1273"/>
                <a:gd name="adj2" fmla="val 10543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75840" y="478440"/>
              <a:ext cx="369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00"/>
                  </a:solidFill>
                  <a:latin typeface="Verdana"/>
                </a:rPr>
                <a:t>在顺境中，我们还需要自强吗？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 rot="5400000">
            <a:off x="4859280" y="2637720"/>
            <a:ext cx="6264360" cy="165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新魏"/>
              </a:rPr>
              <a:t>贫穷的爸爸是富裕！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6028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羊城晚报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曾经登了一篇文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沦落的富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对武汉汉正街第一代富翁进行追踪。武汉汉正街从来就有经营小商品的传统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979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年，改革开放大潮涌动起来，汉正街人就当街摆起小摊，沿街开出小门面，批零兼售，经营起了服装、纽扣、针线等小商品。到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98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年，这些个体户迅速成为十万、百万富翁。后来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479736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有两个统计的数字很有参考价值：第一个，没能活过五年的企业占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95%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；第二个，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年前的世界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500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强企业，如今三分之一已经销声匿迹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62064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可见，“富裕”是一道沟坎，不少的富翁就是跌倒在这道沟坎里，再也爬不起来了。而跌倒在这道沟坎里的富家子弟就更多了。俗话说：“富不过三代”。就是这个道理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Verdana"/>
              </a:rPr>
              <a:t>就是富翁及富翁的后代自以为有钱了，就躺在钱上大肆花费了，不再奋斗了。这样“富裕”这个爸爸就生出了“贫困”这个儿子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所以奉劝我们的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Verdana"/>
              </a:rPr>
              <a:t>富家子弟，要有危机感，要居安思危，不断努力，不断奋斗，这样才不会变为“贫穷”的儿子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19280" y="5013360"/>
            <a:ext cx="6337440" cy="1152360"/>
            <a:chOff x="1619280" y="5013360"/>
            <a:chExt cx="6337440" cy="1152360"/>
          </a:xfrm>
        </p:grpSpPr>
        <p:sp>
          <p:nvSpPr>
            <p:cNvPr id="182" name=""/>
            <p:cNvSpPr/>
            <p:nvPr/>
          </p:nvSpPr>
          <p:spPr>
            <a:xfrm>
              <a:off x="1619280" y="5013360"/>
              <a:ext cx="6337440" cy="11523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40000" y="5301720"/>
              <a:ext cx="4824360" cy="642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华文彩云"/>
                </a:rPr>
                <a:t>顺境中同样需要自强！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340000" y="4724280"/>
            <a:ext cx="6019560" cy="1439640"/>
            <a:chOff x="2340000" y="4724280"/>
            <a:chExt cx="6019560" cy="1439640"/>
          </a:xfrm>
        </p:grpSpPr>
        <p:sp>
          <p:nvSpPr>
            <p:cNvPr id="185" name=""/>
            <p:cNvSpPr/>
            <p:nvPr/>
          </p:nvSpPr>
          <p:spPr>
            <a:xfrm>
              <a:off x="2340000" y="4724280"/>
              <a:ext cx="6019560" cy="1439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16000" y="5149800"/>
              <a:ext cx="50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Verdana"/>
                </a:rPr>
                <a:t>意志比较薄弱，进取心不强、承受挫折的能力差等。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 txBox="1"/>
          <p:nvPr/>
        </p:nvSpPr>
        <p:spPr>
          <a:xfrm rot="5400000">
            <a:off x="-1585440" y="2601360"/>
            <a:ext cx="5041800" cy="122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彩云"/>
              </a:rPr>
              <a:t>身边的故事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88" name=""/>
          <p:cNvSpPr/>
          <p:nvPr/>
        </p:nvSpPr>
        <p:spPr>
          <a:xfrm>
            <a:off x="2124000" y="981000"/>
            <a:ext cx="669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有的同学做练习、作业时碰到难题时，不经思考就马上问同学，或干脆抄别人的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上课听不懂时，干脆不听了，讲小话、看课外书或谁觉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被老师叫起来，一问三不知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考砸了，就灰心丧气，不敢正视问题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竞选班干落选了，就觉得自己总不如别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12160" y="189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Verdana"/>
              </a:rPr>
              <a:t>问题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332000" y="333360"/>
            <a:ext cx="662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男孩、女孩当自强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1674000"/>
            <a:ext cx="748980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小组针对以上问题，结合钟南山的事迹讨论：在学习、生活上遇到困难时，我们该怎样办？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3068640"/>
            <a:ext cx="698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比如：做练习、作业时碰到难题时怎么办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上课听不懂时怎么办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考试成绩不理想怎么办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竞选班干落选了，怎么办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261200" y="3716280"/>
            <a:ext cx="162396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53:34Z</dcterms:modified>
  <cp:revision>60</cp:revision>
  <dc:subject>主题班会课件(分28大类): http://shop62905894.taobao.com</dc:subject>
  <dc:title>主题班会课件(分28大类): http://shop62905894.taobao.com</dc:title>
</cp:coreProperties>
</file>