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chimes.wav" ContentType="audio/x-wav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A8AF-BF39-457C-9B3C-252C72422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90920" y="447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44C4-CA63-44C1-A1AE-FFE474AF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259092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87088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5C63-EC92-4BA8-8832-943B3A08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880" y="355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919200" y="355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2590920" y="447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754880" y="447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919200" y="447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3F46-45A0-49AB-8A63-CAFB4DCFF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DAA7-0D83-4B70-B579-1C765ACC6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83E3-9870-4F90-B35B-36225364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3C06-6A61-42F5-B5C3-A834F95C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C35E-2DE3-4737-9D90-F6E0DE76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ECA8-AC57-4399-8FB8-5BE46902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652400" y="180612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911C-6507-4163-B291-A1FAA9F6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59092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3361-357A-4A17-8744-A15BFCE9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AE99-DCC8-4408-8532-7123E01F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87088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6BE9-C935-419A-9C45-4FBB2C25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590920" y="447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51BB-BF44-485E-B3BA-EB7C1EF0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590920" y="447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23A3-06EE-49D3-BEE6-91B99097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59092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87088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B095-3556-4288-8507-F22123F4C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4880" y="355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919200" y="355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2590920" y="447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754880" y="447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919200" y="447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B334-6CEB-459B-A90F-ED9FD83DF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BAB0-1242-44DD-8B5C-BC80857C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DD00-90F5-43A1-9906-2A14CEC4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74BC-95FC-47ED-8EC7-4E82AEAF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652400" y="180612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231C-F4E0-496A-88B4-DF7C3186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9092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9424-3681-44EF-A896-D1663926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7088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7AC9-DBB6-42CB-8796-4E647499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590920" y="447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7C1C-94FF-4AAD-930A-B9A1CDC2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6B55-8BF8-4B29-AED2-ECF3E443D881}" type="slidenum"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F093-9C71-4067-91C5-CA61EBE3FED5}" type="slidenum"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287000" cy="7386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143000" y="1828800"/>
            <a:ext cx="73915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3366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成与败之间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3366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4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专心</a:t>
            </a:r>
            <a:endParaRPr b="0" i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世界上最怕认真二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但赢也赢在“认真”二字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合理的要求是训练，不合理的要求是磨炼。永远没有失败，只是暂时没有成功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91058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2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6600" spc="-1" strike="noStrike">
                <a:solidFill>
                  <a:srgbClr val="009900"/>
                </a:solidFill>
                <a:latin typeface="Arial"/>
                <a:ea typeface="隶书"/>
              </a:rPr>
              <a:t>每个人都有潜在的能量，只是很容易</a:t>
            </a:r>
            <a:r>
              <a:rPr b="1" lang="zh-CN" sz="6600" spc="-1" strike="noStrike">
                <a:solidFill>
                  <a:srgbClr val="009900"/>
                </a:solidFill>
                <a:latin typeface="Arial"/>
                <a:ea typeface="隶书"/>
              </a:rPr>
              <a:t>:</a:t>
            </a:r>
            <a:r>
              <a:rPr b="1" lang="zh-CN" sz="6600" spc="-1" strike="noStrike">
                <a:solidFill>
                  <a:srgbClr val="009900"/>
                </a:solidFill>
                <a:latin typeface="Arial"/>
                <a:ea typeface="隶书"/>
              </a:rPr>
              <a:t>被习惯所掩盖，被时间所迷离</a:t>
            </a:r>
            <a:r>
              <a:rPr b="1" lang="zh-CN" sz="6600" spc="-1" strike="noStrike">
                <a:solidFill>
                  <a:srgbClr val="009900"/>
                </a:solidFill>
                <a:latin typeface="Arial"/>
                <a:ea typeface="隶书"/>
              </a:rPr>
              <a:t>,</a:t>
            </a:r>
            <a:r>
              <a:rPr b="1" lang="zh-CN" sz="6600" spc="-1" strike="noStrike">
                <a:solidFill>
                  <a:srgbClr val="009900"/>
                </a:solidFill>
                <a:latin typeface="Arial"/>
                <a:ea typeface="隶书"/>
              </a:rPr>
              <a:t>被惰性所消磨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明确目标，一切皆有可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坚定信念，直到成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落实行动，没有任何借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-380880" y="0"/>
            <a:ext cx="9905760" cy="6858000"/>
          </a:xfrm>
          <a:prstGeom prst="rect">
            <a:avLst/>
          </a:prstGeom>
          <a:ln w="9360">
            <a:solidFill>
              <a:srgbClr val="0000ae"/>
            </a:solidFill>
            <a:miter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259092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心向着自己目标前进的人，整个世界都会给他让路！</a:t>
            </a:r>
            <a:br>
              <a:rPr sz="6000"/>
            </a:br>
            <a:br>
              <a:rPr sz="6000"/>
            </a:br>
            <a:endParaRPr b="0" i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04920" y="3505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Times New Roman"/>
              </a:rPr>
              <a:t>成败之间—信心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</a:rPr>
              <a:t>碰壁的鲮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</a:rPr>
              <a:t>曾有一个有趣的实验，生物学家把鲮鱼和鲦鱼放进同一个玻璃器皿中，然后用玻璃板把它们隔开。开始时，鲮鱼兴奋地朝鲦鱼进攻，渴望能吃到自己最喜欢的美味，可每一次它都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</a:rPr>
              <a:t>咣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</a:rPr>
              <a:t>地碰在了玻璃板上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</a:rPr>
              <a:t>不仅没捕到鲦鱼，而且把自己碰得晕头转向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</a:rPr>
              <a:t>碰了十几次壁后，鱿鱼沮丧了。当生物学家轻轻将玻璃板抽去之后，鲮鱼对近在眼前垂手可得的鲦鱼却视若无睹了。即便那肥美的鲦鱼一次次地擦着它的唇鳃不慌不忙地游过，即便鲦鱼尾巴一次次拂扫了它饥饿而敏捷的身体，碰了壁之后的鲮鱼</a:t>
            </a:r>
            <a:r>
              <a:rPr b="1" lang="zh-CN" sz="2000" spc="-1" strike="noStrike">
                <a:solidFill>
                  <a:srgbClr val="ff3300"/>
                </a:solidFill>
                <a:latin typeface="华文新魏"/>
              </a:rPr>
              <a:t>再也没有进攻的欲望和信心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</a:rPr>
              <a:t>几天后，鲦鱼因有生物学家供给的鱼料依然自由自在地畅游着，而鲮鱼却已经翻起雪白的肚皮漂浮在水面上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187280" y="1125000"/>
            <a:ext cx="7777440" cy="17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</a:rPr>
              <a:t>美食垂手可得，鲮鱼却饥饿而死，这的确可悲可笑。然而，生活中我们是否也当过那一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</a:rPr>
              <a:t>鲮鱼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</a:rPr>
              <a:t>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08000" y="566100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逃避一场战争就失去一次凯旋 的机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3213000"/>
            <a:ext cx="77774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一点点风浪就使我们弃船上岸，一个小小的打击就使我们放弃了一切梦想和努力……许多时候，我们失败的真正原因在于：面对近在眼前的已被抽掉“玻璃板”的“鲮鱼”，我们没有去“再试一次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Times New Roman"/>
              </a:rPr>
              <a:t>智慧之源——勤奋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9628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智通禅师晚年又收了两名弟子。大弟子聪明机灵能说会道，小弟子虽然沉默寡言智慧一般，但却勤奋踏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禅师闲时喜欢和人参禅论道。他把能说会道的大弟子留在身边，一边教他些佛理，一边和他探讨些问题；而那位小弟子则被派去干其他的杂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几年后，智通禅师很老了。他决定在众弟子中选出一位继承人。出人意料的是，智通禅师选中了那位沉默寡言的小弟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弟子很不服气，问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师傅，我从您身上学得不少佛理和智慧，您为什么偏偏选中小师弟呢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禅师叹道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你虽聪明，但生性虚浮，终难成就大业。真正的智慧是学不来的，它只能在实践中获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几日后，禅师圆寂了。小弟子正式继承了衣钵，后来，也成了那一带有名的禅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时，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天才并不能造就成功。主宰和推动世界前进的，恰恰是那些天资一般却勤奋好学的人。一个人天性聪明固然好，如不去磨炼锻造，他的智慧之泉终将枯竭；而那些勇于实践的勤奋者就像个掘井工，不骄不躁，一点一点向智慧之源掘进，直到智慧之泉喷涌而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chimes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0000"/>
                </a:solidFill>
                <a:latin typeface="Times New Roman"/>
              </a:rPr>
              <a:t>向勤奋踏实的同学学习吧，他们才是你真正的榜样！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810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们常看见有一些人，他们有天赋的聪明和才气，在我们看来，他是可能有点成就的。他自己当初也以为是可以有点成就的，可是到了后来，其中有的人青云直上，发挥了自己的专长，而有的人却在生活的琐碎项目中消失了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为什么？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许多人都是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太懒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他们以为来日方长，反正有的是时间，加上自己的聪明才智，总不会不成功的，可是，懒散会形成习惯，他们慢慢的安于懒散逸乐的生活，而他们的那点可贵的天赋就在弃之不用之下生锈或发霉了，当别人还不免为他可惜的时候，他自己却早已忘记自己要可能有所成就的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66320" y="990720"/>
            <a:ext cx="80391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i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有些人辜负了他自己优越的天赋，是因为太聪明，他看不起埋头苦干的人，笑那些走上成功之路的人们是傻瓜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有些人越走离他的目标越远，是因为他的舵把不稳，所以只能随着湖水的冲击，跟着风向的吹动，忽东忽西，忽前忽后。他没有坚决朝向自己目标进行的魄力，一生在迁就环境，结果，他就被环境淹没，沉落下去了！我们说，这不是一个悲剧吗？可是，我们随处都可以见到有人做这种悲剧的主角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不要做聪明的傻瓜！有一部美国西部电影里，有一句对白说“苦干人近乎愚蠢”，可是，到后来证明，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只有近乎愚蠢的苦干人才能拯救他们自己和别人，假如你有聪明的天赋，我奉劝你千万找到那点近乎愚蠢的干劲。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只有傻干、苦练的人才可以真正显出他的聪明。也只有时常笑骂别人“傻瓜”的聪明人，才是真正的傻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53080" y="2514600"/>
            <a:ext cx="19065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细心</a:t>
            </a:r>
            <a:endParaRPr b="0" i="1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5567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vert="eaVert">
            <a:normAutofit fontScale="79000"/>
          </a:bodyPr>
          <a:p>
            <a:pPr marL="270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just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天下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大事，必做于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just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天下难事，必做于易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just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海不择细流，故能成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  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其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just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山不拒细壤，故能就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  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其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您的教学资源库【www.ShuLiHua.net】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36:46Z</dcterms:modified>
  <cp:revision>6</cp:revision>
  <dc:subject>主题班会课件(分28大类): http://shop62905894.taobao.com</dc:subject>
  <dc:title>主题班会课件(分28大类): http://shop62905894.taobao.com</dc:title>
</cp:coreProperties>
</file>