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458-2259-4308-9F2D-F116D28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6D4-783A-4BD5-B099-0A0EEAD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69D-4C24-4474-877E-992ACC73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82E-21D8-415A-B1B9-7CFFA00A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D5B-4736-4954-8CC9-DA45A39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71A-25E7-4F4B-91FB-B28A3EB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F2B-21A5-4961-93DA-E8FF9656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D76-E3BB-465D-806D-E70FC65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5A1-392C-4F4F-ACCB-583C2AB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3EC-EB15-48D2-BE1A-78F8693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AE9-3F8A-4DE5-8A3C-34EE0A3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CF3-49D5-4263-AA39-48E0102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8BF7-895A-4058-B93F-86A07F7A4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zhlzw.com/lz/xn/Index.html" TargetMode="External"/><Relationship Id="rId3" Type="http://schemas.openxmlformats.org/officeDocument/2006/relationships/hyperlink" Target="http://redirect.alexa.com/redirect?www.zhlzw.com/sj/Index.html" TargetMode="External"/><Relationship Id="rId4" Type="http://schemas.openxmlformats.org/officeDocument/2006/relationships/hyperlink" Target="http://redirect.alexa.com/redirect?www.zhlzw.com/cy/Index.html" TargetMode="External"/><Relationship Id="rId5" Type="http://schemas.openxmlformats.org/officeDocument/2006/relationships/hyperlink" Target="http://redirect.alexa.com/redirect?www.zhlzw.com/cb/cg/Index.html" TargetMode="External"/><Relationship Id="rId6" Type="http://schemas.openxmlformats.org/officeDocument/2006/relationships/hyperlink" Target="http://redirect.alexa.com/redirect?www.zhlzw.com/cy/Index.html" TargetMode="External"/><Relationship Id="rId7" Type="http://schemas.openxmlformats.org/officeDocument/2006/relationships/hyperlink" Target="http://www.zhlzw.com/lz/xn/Index.html" TargetMode="External"/><Relationship Id="rId8" Type="http://schemas.openxmlformats.org/officeDocument/2006/relationships/hyperlink" Target="http://redirect.alexa.com/redirect?www.zhlzw.com/nl/gl/Index.html" TargetMode="External"/><Relationship Id="rId9" Type="http://schemas.openxmlformats.org/officeDocument/2006/relationships/hyperlink" Target="http://www.zhlzw.com/lz/gy/Index.html" TargetMode="External"/><Relationship Id="rId10" Type="http://schemas.openxmlformats.org/officeDocument/2006/relationships/hyperlink" Target="http://www.zhlzw.com/cy/xy/Index.html" TargetMode="External"/><Relationship Id="rId11" Type="http://schemas.openxmlformats.org/officeDocument/2006/relationships/hyperlink" Target="http://redirect.alexa.com/redirect?www.zhlzw.com/cb/mb/Index.html" TargetMode="External"/><Relationship Id="rId12" Type="http://schemas.openxmlformats.org/officeDocument/2006/relationships/hyperlink" Target="http://www.zhlzw.com/lz/xn/Index.html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628640"/>
            <a:ext cx="7667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让自信助我们扬帆远航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1850760" y="4724280"/>
            <a:ext cx="54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高二（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8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）班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07920"/>
            <a:ext cx="8964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怯场时，不妨道出真情，即能平静下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用肯定的语气则可以消除自卑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信培养自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缺乏自信时，一直做些好像没有自信的举动，就会愈来愈没有自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自己能做的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在逆境中不失自信，古今中外屡见不鲜：张海迪幼年因病高位截瘫，她自信努力，成为作家翻译家；被誉为科技“铁人”的高士其，他在病情不断恶化，从半身瘫痪到全身瘫痪，失去讲话能力的情况下，他还创作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万字的科学小品和科普论文，创作了两千多行诗歌，著述新书十几本；屈原被流放写成《离骚》；孙子受膑型后著《孙膑兵法》；司马迁遭宫型写《史记》；贝多芬耳聋后谱出《英雄交响乐》；奥斯特洛夫斯基在失明瘫痪中写出《钢铁是怎样炼成的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549360"/>
            <a:ext cx="8621640" cy="3993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吉尼斯世界推销纪录创造者，美国的乔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拉德，他曾在一年中创造了推销汽车平均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四五部的纪录，他去应聘汽车推销员时，经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问他：“你能推销汽车吗？”吉拉德回答说：“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没有推销过汽车，但我推销过日用品、家用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器，我能成功地推销他们，说明我能成功地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销自己，我能将自己推销出去，自然也能将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车推销出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258920" y="907920"/>
            <a:ext cx="71294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信——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激发潜能的最佳法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78520" y="1125360"/>
            <a:ext cx="4569840" cy="1556280"/>
          </a:xfrm>
          <a:prstGeom prst="rect">
            <a:avLst/>
          </a:prstGeom>
          <a:noFill/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被流放到一个小岛，逃出来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法国国王派大军去捉拿他，拿破仑随从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他快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2600" y="3413160"/>
            <a:ext cx="53895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你猜拿破仑怎么办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如果你是拿破仑，你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么办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1413000"/>
            <a:ext cx="7575480" cy="30186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却说：“跑什么？我是他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元帅，他们是我的士兵，为什么要跑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迎着捉他的军队走过去，仍然以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帅的气度指挥他们，结果这批军队反而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他回去抓国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30880" y="404640"/>
            <a:ext cx="5474160" cy="59432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优秀乒乓球运动员蔡振华，在国内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赛很少能进入前三名，但对国外选手却从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输过，被誉为乒坛魔术师。他的技术算不上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尖，之所以能取胜，在于他那种高昂的斗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顽强的精神。在比赛中他总喜欢用力挥舞拳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给自己鼓劲。每发一个好球，他就用力跺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脚；每打一个好球，他就要绕场跑几圈。在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瑞典运动员林德的比赛中，比分已经落后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到林德发球。这时他站在球台的一端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手指着林德的鼻子，狠狠地看着林德，这种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形的精神压力，使林德顿时紧张起来，结果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以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比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2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输了这一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58920" y="476280"/>
            <a:ext cx="662472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自信——现代人才的标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413000"/>
            <a:ext cx="8459640" cy="2043720"/>
          </a:xfrm>
          <a:prstGeom prst="rect">
            <a:avLst/>
          </a:prstGeom>
          <a:noFill/>
          <a:ln w="76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日本东京帝国大学有一高材生，毕业后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考某公司，结果落选了，痛不欲生。该生的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杀水平不高，没能如愿，只在脖子上留下深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的痕迹。救醒后，家人告诉他：幸好未自杀成，他是该公司考分的第一名，只是由于计算机的错误，将他漏掉了。这下，他喜出望外，准备摆酒庆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549440" y="-963720"/>
            <a:ext cx="12242880" cy="918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7280" y="1341360"/>
            <a:ext cx="12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又传来消息，他还未聘就被解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565360"/>
            <a:ext cx="6913440" cy="327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公司经理这样评价他：这个人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许知识和能力是第一流的，但这样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点小小的生活打击都受不了，又怎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期望他来公司有大的作为？如果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濒临危险，他肯定是第一个逃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63320" y="1611360"/>
            <a:ext cx="628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在我的字典中没有不可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的字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        ——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拿破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自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成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" y="333360"/>
            <a:ext cx="91249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信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信是发自内心的自我肯定与相信。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在人际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交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事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上都非常重要。只要自己相信自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人就会相信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成就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事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要有自信，有了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自信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才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产生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勇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力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毅力。具备了这些，困难才有可能被战胜，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目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可能达到。但是自信决非自负，更非痴妄，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筑在崇实和自强不息的基础之上才有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197000"/>
            <a:ext cx="9144000" cy="21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提升自信的具体方法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9040" y="692280"/>
            <a:ext cx="419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(1).</a:t>
            </a: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练 习 正 视 别 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08720" y="476280"/>
            <a:ext cx="1770120" cy="175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61560" y="3213000"/>
            <a:ext cx="29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你的眼睛为你工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专注别人的眼神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但可以给你信心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能为你赢得别人对你的信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9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5520" y="870120"/>
            <a:ext cx="56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华文彩云"/>
                <a:ea typeface="华文彩云"/>
              </a:rPr>
              <a:t>(2).</a:t>
            </a:r>
            <a:r>
              <a:rPr b="0" lang="zh-CN" sz="4000" spc="-1" strike="noStrike">
                <a:solidFill>
                  <a:srgbClr val="008000"/>
                </a:solidFill>
                <a:latin typeface="华文彩云"/>
                <a:ea typeface="华文彩云"/>
              </a:rPr>
              <a:t>把 走 路 的 速 度 提 高 </a:t>
            </a:r>
            <a:r>
              <a:rPr b="0" lang="zh-CN" sz="4000" spc="-1" strike="noStrike">
                <a:solidFill>
                  <a:srgbClr val="008000"/>
                </a:solidFill>
                <a:latin typeface="华文彩云"/>
                <a:ea typeface="华文彩云"/>
              </a:rPr>
              <a:t>25</a:t>
            </a:r>
            <a:r>
              <a:rPr b="0" lang="zh-CN" sz="4000" spc="-1" strike="noStrike">
                <a:solidFill>
                  <a:srgbClr val="008000"/>
                </a:solidFill>
                <a:latin typeface="华文彩云"/>
                <a:ea typeface="华文彩云"/>
              </a:rPr>
              <a:t>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3110040" cy="291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66600" y="243216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抬头挺胸走快一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就会感到自信心在向你招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15960" y="933480"/>
            <a:ext cx="419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(3).</a:t>
            </a: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练 习 当 众 发 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44280" y="285264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发 言 是 信 心 的 维 生 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138400" cy="20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843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26000" y="83664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(4).</a:t>
            </a: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咧  觜  大  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0400" y="2852640"/>
            <a:ext cx="21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咧觜大笑时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3280" y="3500280"/>
            <a:ext cx="36576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美好的日子又来了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2663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054680" cy="554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384720" cy="2264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356000" y="404640"/>
            <a:ext cx="44355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7:20Z</dcterms:created>
  <dc:creator>wq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5:37Z</dcterms:modified>
  <cp:revision>51</cp:revision>
  <dc:subject>主题班会课件(分28大类): http://shop62905894.taobao.com</dc:subject>
  <dc:title>主题班会课件(分28大类): http://shop62905894.taobao.com</dc:title>
</cp:coreProperties>
</file>