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6.png" ContentType="image/png"/>
  <Override PartName="/ppt/media/image11.png" ContentType="image/png"/>
  <Override PartName="/ppt/media/image9.jpeg" ContentType="image/jpeg"/>
  <Override PartName="/ppt/media/image19.jpeg" ContentType="image/jpeg"/>
  <Override PartName="/ppt/media/image2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27.jpeg" ContentType="image/jpeg"/>
  <Override PartName="/ppt/media/image29.jpeg" ContentType="image/jpeg"/>
  <Override PartName="/ppt/media/image43.jpeg" ContentType="image/jpeg"/>
  <Override PartName="/ppt/media/image52.jpeg" ContentType="image/jpeg"/>
  <Override PartName="/ppt/media/image1.png" ContentType="image/png"/>
  <Override PartName="/ppt/media/image40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56.jpeg" ContentType="image/jpeg"/>
  <Override PartName="/ppt/media/image17.jpeg" ContentType="image/jpeg"/>
  <Override PartName="/ppt/media/image61.jpeg" ContentType="image/jpeg"/>
  <Override PartName="/ppt/media/image28.jpeg" ContentType="image/jpeg"/>
  <Override PartName="/ppt/media/image51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18.jpeg" ContentType="image/jpeg"/>
  <Override PartName="/ppt/media/image12.png" ContentType="image/png"/>
  <Override PartName="/ppt/media/image15.jpeg" ContentType="image/jpeg"/>
  <Override PartName="/ppt/media/image22.jpeg" ContentType="image/jpeg"/>
  <Override PartName="/ppt/media/image50.png" ContentType="image/png"/>
  <Override PartName="/ppt/media/image62.jpeg" ContentType="image/jpeg"/>
  <Override PartName="/ppt/media/image7.png" ContentType="image/png"/>
  <Override PartName="/ppt/media/image34.jpeg" ContentType="image/jpeg"/>
  <Override PartName="/ppt/media/image20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8.png" ContentType="image/png"/>
  <Override PartName="/ppt/media/image5.png" ContentType="image/png"/>
  <Override PartName="/ppt/media/image3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8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46.jpeg" ContentType="image/jpeg"/>
  <Override PartName="/ppt/media/image5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99CF-EEB7-4248-AF95-E3D0AC07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2F9E-1750-4528-BDE3-242429E4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E709-5D63-4C7D-A896-B3C6A680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92C3-ED43-4202-9A16-23E8B4708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C1A3-C540-497F-ADFA-1614FBB7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4BB6-D8A0-4984-871C-4B116495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D62E-DCAE-425F-BA88-2B124D03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0D43-33EB-40DE-82E9-ED2A5328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ADCA-08AE-4C57-A0D9-FA6387BC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683F-0A91-43AB-8283-65B56EF6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F834-39E9-4C89-94AA-5F3CB801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F566-B6AE-4862-8ACA-4BEC13D4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7C64-EDED-4464-9030-313BDC0BCF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movie.2019.cn/" TargetMode="External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sjquan.com/picdown22366.htm" TargetMode="External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lz.book.sohu.com/serialize-id-4109.html" TargetMode="External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cshoo.com/cj/Article/200702/22882.html" TargetMode="External"/><Relationship Id="rId2" Type="http://schemas.openxmlformats.org/officeDocument/2006/relationships/image" Target="../media/image52.jpeg"/><Relationship Id="rId3" Type="http://schemas.openxmlformats.org/officeDocument/2006/relationships/hyperlink" Target="http://finance.qq.com/a/20061222/000015.htm" TargetMode="External"/><Relationship Id="rId4" Type="http://schemas.openxmlformats.org/officeDocument/2006/relationships/image" Target="../media/image53.jpeg"/><Relationship Id="rId5" Type="http://schemas.openxmlformats.org/officeDocument/2006/relationships/hyperlink" Target="http://image.baidu.com/i?ct=503316480&amp;z=0&amp;tn=baiduimagedetail&amp;word=%CD%F5%D3%C0%C7%EC&amp;in=2&amp;cl=2&amp;cm=1&amp;sc=0&amp;lm=-1&amp;pn=1&amp;rn=1" TargetMode="External"/><Relationship Id="rId6" Type="http://schemas.openxmlformats.org/officeDocument/2006/relationships/image" Target="../media/image54.jpeg"/><Relationship Id="rId7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dabaoku.net/guanggao/jingdian/sucai/web/156fz.htm" TargetMode="External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tspl.xzcn.com/book/item/968/review" TargetMode="External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235;%D6%F7&#1007;&amp;in=1&amp;cl=2&amp;cm=1&amp;sc=0&amp;lm=-1&amp;pn=0&amp;rn=1" TargetMode="External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4007160" cy="4968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71640" y="1052640"/>
            <a:ext cx="460836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勤奋是一笔财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626160" y="1773360"/>
            <a:ext cx="2517840" cy="5084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4800600"/>
            <a:ext cx="2771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英姿留在阅兵场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8901000" cy="52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英姿留在阅兵场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6201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英姿留在阅兵场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610400" cy="48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英姿留在阅兵场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610400" cy="48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英姿留在阅兵场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620120" cy="47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英姿留在阅兵场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610400" cy="45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钢铁军魂完美阅兵的背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38400" y="1204920"/>
            <a:ext cx="6667200" cy="44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纹丝不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819680" cy="48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64000" y="274320"/>
            <a:ext cx="332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站如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43280" y="2100240"/>
            <a:ext cx="4500720" cy="4319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0" t="0" r="22660" b="0"/>
          <a:stretch/>
        </p:blipFill>
        <p:spPr>
          <a:xfrm>
            <a:off x="395280" y="189000"/>
            <a:ext cx="4680000" cy="44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钢铁军魂完美阅兵的背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19740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7272360" cy="5408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03280" y="4581360"/>
            <a:ext cx="2808360" cy="360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钢铁军魂完美阅兵的背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557760" cy="46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610400" cy="58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201080" cy="540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429000" y="25718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360" y="871560"/>
            <a:ext cx="7559640" cy="559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2120" y="895320"/>
            <a:ext cx="7619760" cy="50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033640" y="-376200"/>
            <a:ext cx="5076720" cy="761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62120" y="89064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吼如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4764240" cy="488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248440" y="1011240"/>
            <a:ext cx="3895560" cy="584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528920"/>
            <a:ext cx="6529680" cy="43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938160"/>
            <a:ext cx="7993080" cy="53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32000" y="189000"/>
            <a:ext cx="6480000" cy="6464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700360" y="3645000"/>
            <a:ext cx="2808360" cy="360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62120" y="89064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947960" y="-380880"/>
            <a:ext cx="5248080" cy="76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841320"/>
            <a:ext cx="8064360" cy="53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989000" y="-12600"/>
            <a:ext cx="4488120" cy="67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16720" cy="48880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944880" y="2955960"/>
            <a:ext cx="5199120" cy="39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4505400" cy="6191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031960" y="284400"/>
            <a:ext cx="789840" cy="56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汗水洒在阅兵场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543040" y="576360"/>
            <a:ext cx="4057920" cy="57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11280" y="1090440"/>
            <a:ext cx="7129440" cy="526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61960" y="1519200"/>
            <a:ext cx="7105680" cy="4748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8031960" y="284400"/>
            <a:ext cx="789840" cy="56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汗水洒在阅兵场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汗水洒在阅兵场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4038480" cy="5705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643280" y="907920"/>
            <a:ext cx="4038840" cy="570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7920000" cy="2774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08000" y="2492280"/>
            <a:ext cx="5185080" cy="28908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95280" y="3068640"/>
            <a:ext cx="7848720" cy="3189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050920" y="5803920"/>
            <a:ext cx="1584360" cy="28908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79640" y="4653000"/>
            <a:ext cx="1584360" cy="28872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714680" y="-380880"/>
            <a:ext cx="5715000" cy="76197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031960" y="284400"/>
            <a:ext cx="789840" cy="56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汗水洒在阅兵场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两眼一睁，训到熄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“两眼一睁，训到熄灯”是受阅训练的真实写照。阅兵训练并非美差，从早到晚，除了吃饭、睡觉、上厕所，就是训 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31840" y="0"/>
            <a:ext cx="4627800" cy="6480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900000" y="703440"/>
            <a:ext cx="4096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有志者事竟成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破釜沉舟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百二秦地终属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451640" y="700560"/>
            <a:ext cx="433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苦心人天不负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卧薪尝胆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三千越甲可吞吴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366920" y="333360"/>
            <a:ext cx="6229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经典繁勘亭"/>
              </a:rPr>
              <a:t>古人又云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经典繁勘亭"/>
              </a:rPr>
              <a:t>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经典繁勘亭"/>
              <a:ea typeface="经典繁勘亭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1557360"/>
            <a:ext cx="4897440" cy="48974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508720" y="1700280"/>
            <a:ext cx="576000" cy="3241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59280" y="1700280"/>
            <a:ext cx="576360" cy="21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5960" y="0"/>
            <a:ext cx="4748040" cy="6885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554200" y="5587920"/>
            <a:ext cx="1009800" cy="217440"/>
          </a:xfrm>
          <a:prstGeom prst="rect">
            <a:avLst/>
          </a:prstGeom>
          <a:noFill/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63640" y="2565360"/>
            <a:ext cx="525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特别能吃苦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2" dur="2000" fill="hold"/>
                                        <p:tgtEl>
                                          <p:spTgt spid="1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40360" y="3343320"/>
            <a:ext cx="4140000" cy="35146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4292640"/>
            <a:ext cx="4646880" cy="18795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920" y="44280"/>
            <a:ext cx="2517840" cy="364500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3203640" y="-100440"/>
            <a:ext cx="2710800" cy="642600"/>
            <a:chOff x="3203640" y="-100440"/>
            <a:chExt cx="2710800" cy="642600"/>
          </a:xfrm>
        </p:grpSpPr>
        <p:sp>
          <p:nvSpPr>
            <p:cNvPr id="189" name=""/>
            <p:cNvSpPr/>
            <p:nvPr/>
          </p:nvSpPr>
          <p:spPr>
            <a:xfrm>
              <a:off x="3203640" y="44280"/>
              <a:ext cx="1152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86840" y="-100440"/>
              <a:ext cx="122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cc"/>
                  </a:solidFill>
                  <a:latin typeface="Arial"/>
                </a:rPr>
                <a:t>喝豆浆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4239000" y="404640"/>
            <a:ext cx="3404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讲到他，说他特别注意细节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喝豆浆都和别人不一样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别人喝豆浆是：“老板，来碗甜豆浆，打个蛋。”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豆浆来了，里面有个蛋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喝豆浆是：“老板，来碗甜豆浆。”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豆浆来了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喝一大口，“老板，打个蛋。”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个蛋在里面，豆浆刚刚满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叫多赚一口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4920" y="825480"/>
            <a:ext cx="90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《我的财富在澳洲》里有一句话：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吃不着苦的苦比吃得着苦的苦还要苦。也就是说有苦可吃还是幸运的，这真是以苦为乐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348000" y="3068640"/>
            <a:ext cx="23414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6360" y="-27000"/>
            <a:ext cx="9180360" cy="71834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484360" y="77148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吃苦是福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吃亏是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76280" y="1628640"/>
            <a:ext cx="1366560" cy="520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人生态度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835280" y="4148280"/>
            <a:ext cx="5616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被别人利用就是被别人重用</a:t>
            </a: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!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763640" y="2565360"/>
            <a:ext cx="561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被别人欺负就是被别人爱护</a:t>
            </a: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!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835280" y="559548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外国人的吃苦教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28720" y="1555920"/>
            <a:ext cx="6912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華康娃娃體(P)"/>
              </a:rPr>
              <a:t>“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華康娃娃體(P)"/>
              </a:rPr>
              <a:t>苦不苦，想想红军两万五”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華康娃娃體(P)"/>
              <a:ea typeface="華康娃娃體(P)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55640" y="3573360"/>
            <a:ext cx="71294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華康娃娃體(P)"/>
              </a:rPr>
              <a:t>“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華康娃娃體(P)"/>
              </a:rPr>
              <a:t>苦不苦，想想人家萨达姆”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華康娃娃體(P)"/>
              <a:ea typeface="華康娃娃體(P)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71640" y="0"/>
            <a:ext cx="316872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经典繁勘亭"/>
              </a:rPr>
              <a:t>童谣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经典繁勘亭"/>
              </a:rPr>
              <a:t>:  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经典繁勘亭"/>
              <a:ea typeface="经典繁勘亭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60360" y="549360"/>
            <a:ext cx="8172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日本孩子吃苦是必修课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从幼儿园开始，日本人就注意培养孩子的吃苦意识，这首先体现在培养孩子的生活自理能力方面。幼儿园的保育大纲上这样明确规定：“从三岁开始，就要训练孩子怎样端碗拿筷自己吃饭；怎样自己排解大小便；怎样在保育员的指导下学会穿衣脱裤系鞋带。到了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岁，就必须养成独立着装、饮食、刷牙、洗脸的习惯”。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日本的中学和小学高年级，几乎每年都要定期举办“田间学校”、“海岛学校”或“森林学校”，组织学生们到田间、海岛或森林去“留学”，不仅让孩子了解农村生活，更重要的是让孩子经风雨，见世面，培养他们吃苦耐劳的精神以及克服困难的毅力。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有一个拥有亿元资产的大企业家，他的独生女正在念大学。想不到的是，这个“大款”的女儿白天上课，晚上还要外出打工，以赚取自己的学杂费。“大款”平静地说：“我这样做只是为了让孩子从小知道生活的艰辛，这样，她长大后才能知道怎样把握自己，才能在社会上站住脚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随着日本经济的高度发展，生活条件日益优越，同时也减少了下一代磨炼意志的机会。日本教育界为了弥补这方面的缺陷，有意识地给孩子提供吃苦的机会，使孩子们从小就去经历磨难、挫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6000" y="3500280"/>
            <a:ext cx="8604000" cy="2772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195640" y="5948280"/>
            <a:ext cx="4680000" cy="28728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-2495520" y="1889280"/>
            <a:ext cx="114120" cy="190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11280" y="260280"/>
            <a:ext cx="7993080" cy="2743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340000" y="1484280"/>
            <a:ext cx="1655640" cy="28908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12720" y="826920"/>
            <a:ext cx="77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美国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家长从孩子小时候就让他们认识劳动的价值。美国南部一些州立中学为培养学生独立适应社会生存的能力，特别规定：学生必须不带分文，独立谋生一周方能予以毕业。条件似乎苛刻，但是却使学生们获益匪浅。家长对这项活动全力支持，更没有一位“拖后腿”、“走后门”、“搞小动作”的。美国的中学生有句口号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：“要花钱自己挣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!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管其家里多富有，男孩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以后就会给自己的父母家里剪草、送报赚些零用钱，女孩子做小保姆去赚钱。有个女孩每周六要去餐馆打工。母亲告诉她，你完全可以在家里帮妈妈干活，照样可以领取工资。但这女孩觉得在家赚自己母亲的钱不是本事，她一定要去外面赚钱来表示自己有自立的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861840" y="907920"/>
            <a:ext cx="738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瑞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父母为了不让孩子成为无能之辈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从小就培养孩子自食其力的精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譬如，十六七岁的姑娘，初中一毕业就被送到一家有教养的人家去当一年女佣人，上午劳动，下午上学。这样做，一方面锻炼了劳动能力，另一方面还有利于学习语言，因为瑞士有讲德语的地区，也有讲法语的地区，所以这个语言地区的姑娘通常到另外一个语言地区当佣人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26920" y="981000"/>
            <a:ext cx="71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在德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家长从不包办代替孩子的事情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法律还规定，孩子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岁就要在家里承担一些义务，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要替全家人擦皮鞋等。这样做，不仅是为了培养孩子的劳动能力，也有利于培养孩子的社会义务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4360" y="115920"/>
            <a:ext cx="71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在中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种例子就更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49880" y="1341360"/>
            <a:ext cx="3894120" cy="5516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755640" y="4292640"/>
            <a:ext cx="3384720" cy="25653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68360" y="1268280"/>
            <a:ext cx="245916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悬梁刺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囊萤映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凿壁偷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映月读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焚膏继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187280" y="5827680"/>
            <a:ext cx="6772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毛主席说：吃苦在前，享受在后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2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1557360"/>
            <a:ext cx="4176720" cy="41767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24000" y="73908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有报道说外国有个试验，让两组人分别注射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针无害的液体，一组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针是很痛苦的，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针非常舒缓，另一组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针很舒缓，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针非常痛苦。注射结束后，分别问两组人有什么感受，如果增加报酬是否有人愿意再接受这个任务。结果，第一组的人普遍感到注射过程可以接受，第二组却没有一个人愿意再尝试这个痛苦的过程。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572000" y="313884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凌兰芳，丝绸之路控股集团有限公司董事长，高级经济师。浙江省企业联合会、工业经济联合会、企业家协会副会长，浙江省高级经济师协会副会长，浙商理事会主席、理事，上海交通大学、浙江工业大学、浙江理工大学等院校客座教授。荣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度风云浙商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度浙商社会责任大奖、全国茧丝绸行业终身成就奖、省优秀创业企业家、省关爱员工优秀企业家等称号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8970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11280" y="290988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综艺简体"/>
                <a:ea typeface="方正综艺简体"/>
              </a:rPr>
              <a:t>中新浙江网</a:t>
            </a:r>
            <a:r>
              <a:rPr b="1" lang="zh-CN" sz="2400" spc="-1" strike="noStrike">
                <a:solidFill>
                  <a:srgbClr val="ff0000"/>
                </a:solidFill>
                <a:latin typeface="方正综艺简体"/>
                <a:ea typeface="方正综艺简体"/>
              </a:rPr>
              <a:t>2007</a:t>
            </a:r>
            <a:r>
              <a:rPr b="1" lang="zh-CN" sz="2400" spc="-1" strike="noStrike">
                <a:solidFill>
                  <a:srgbClr val="ff0000"/>
                </a:solidFill>
                <a:latin typeface="方正综艺简体"/>
                <a:ea typeface="方正综艺简体"/>
              </a:rPr>
              <a:t>年</a:t>
            </a:r>
            <a:r>
              <a:rPr b="1" lang="zh-CN" sz="2400" spc="-1" strike="noStrike">
                <a:solidFill>
                  <a:srgbClr val="ff0000"/>
                </a:solidFill>
                <a:latin typeface="方正综艺简体"/>
                <a:ea typeface="方正综艺简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方正综艺简体"/>
                <a:ea typeface="方正综艺简体"/>
              </a:rPr>
              <a:t>月</a:t>
            </a:r>
            <a:r>
              <a:rPr b="1" lang="zh-CN" sz="2400" spc="-1" strike="noStrike">
                <a:solidFill>
                  <a:srgbClr val="ff0000"/>
                </a:solidFill>
                <a:latin typeface="方正综艺简体"/>
                <a:ea typeface="方正综艺简体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方正综艺简体"/>
                <a:ea typeface="方正综艺简体"/>
              </a:rPr>
              <a:t>日电</a:t>
            </a:r>
            <a:r>
              <a:rPr b="1" lang="zh-CN" sz="2400" spc="-1" strike="noStrike">
                <a:solidFill>
                  <a:srgbClr val="ff0000"/>
                </a:solidFill>
                <a:latin typeface="方正综艺简体"/>
                <a:ea typeface="方正综艺简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丝绸之路集团是我至今为止见过的最特别的企业，它的大部分子公司都是原国企破产倒闭收购后起死回生的，它的成员是一支很多人都觉得会是沉重负担的“</a:t>
            </a:r>
            <a:r>
              <a:rPr b="0" lang="zh-CN" sz="24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4050”</a:t>
            </a:r>
            <a:r>
              <a:rPr b="0" lang="zh-CN" sz="24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队伍，可是它成长的速度却让人羡慕。从最初的一无所有到总资产七十亿多元，公司的每一步都走得很稳健，每年的销售收入和利税都分别以</a:t>
            </a:r>
            <a:r>
              <a:rPr b="0" lang="zh-CN" sz="24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30-20%</a:t>
            </a:r>
            <a:r>
              <a:rPr b="0" lang="zh-CN" sz="24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的速度不断增长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　　它的领头人凌兰芳更是我见过最与众不同的企业家，从他身上感受到的不是财大气粗的老板架势，而是他积淀深厚的人文精神——这恰恰就是他身上最有魅力的地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2637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79280" y="115920"/>
            <a:ext cx="4248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你认为最理想的快乐是怎样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8000" y="549360"/>
            <a:ext cx="5904000" cy="1154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答：我觉得足以让我快乐的事情肯定有很多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以下几条便是：产品有牌跨过洋；员工有力可买房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儿孙有志为名忙；对手有悔来协商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0920" y="1844640"/>
            <a:ext cx="424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你最希望拥有哪种才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8000" y="2349360"/>
            <a:ext cx="8567640" cy="136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答：多数人总希望自己才华出众，无所不能，我也一样，最好能够：遇颠倒不平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是仗剑救星；遇贫苦孤苦即以点石成金；遇人间疾痛即可药到病除；遇匹夫台独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能跨海摆平。如果真有这样的本事，成了科幻里的“超人”了。可谁来监督制约我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才华是要以“善”作底线的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9280" y="3932280"/>
            <a:ext cx="4248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你最害怕的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4360" y="4437000"/>
            <a:ext cx="860436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答：最害怕太阳落山，一天又过去了。人生就像在考场里做答卷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越想答得正确完美，越感到时间不够，怕到时抢卷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9280" y="5373720"/>
            <a:ext cx="8964720" cy="1368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凌兰芳办公室的灯总要到深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多才熄灭。如此劳心劳神，他却不以为苦。他说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既然选择了做企业，就要有一种“宗教般的献身精神”。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企业家生下来就是要吃苦的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他有一句名言——“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我们每天都在成功。”他最清楚成功离不开每一天的“劳苦”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甚至是每天的“咬牙”坚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84360" y="765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吃苦的经历是人成长的养分。吃苦能让人的生命更加强健，吃苦能让人的意志更加坚强。怪不得台湾漫画家朱德庸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116000" y="3357720"/>
            <a:ext cx="420048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華康娃娃體(P)"/>
              </a:rPr>
              <a:t>“</a:t>
            </a: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華康娃娃體(P)"/>
              </a:rPr>
              <a:t>怕苦，苦一辈子；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華康娃娃體(P)"/>
              <a:ea typeface="華康娃娃體(P)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771640" y="4870440"/>
            <a:ext cx="583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華康娃娃體(P)"/>
              </a:rPr>
              <a:t>不怕苦，苦半辈子。”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華康娃娃體(P)"/>
              <a:ea typeface="華康娃娃體(P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311800" y="0"/>
            <a:ext cx="3832200" cy="4653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324000" y="1700280"/>
            <a:ext cx="467964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现在的我是怎么一个人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3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年后的我又是怎么一个人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0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年后的我又是怎么一个人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20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年后的我又是怎么一个人呢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-536400"/>
            <a:ext cx="914400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-719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2920" y="1236600"/>
          <a:ext cx="8893080" cy="5576760"/>
        </p:xfrm>
        <a:graphic>
          <a:graphicData uri="http://schemas.openxmlformats.org/drawingml/2006/table">
            <a:tbl>
              <a:tblPr/>
              <a:tblGrid>
                <a:gridCol w="8893080"/>
              </a:tblGrid>
              <a:tr h="557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ˎ̥"/>
                        </a:rPr>
                        <a:t>　　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ˎ̥"/>
                        </a:rPr>
                        <a:t>□晨报记者林颖颖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ˎ̥"/>
                        </a:rPr>
                        <a:t>　　企业招聘不再只看学历、能力，是否能吃苦也渐渐成为重要标准。昨天在复旦大学举行的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ˎ̥"/>
                        </a:rPr>
                        <a:t>200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ˎ̥"/>
                        </a:rPr>
                        <a:t>届毕业生校园招聘会上，多数企业向学生提出了这样的招聘要求：吃苦耐劳。有些企业甚至现场就搞起了“吃苦测试”，果然吓跑了一些怕吃苦的毕业生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ˎ̥"/>
                        </a:rPr>
                        <a:t>　　■企业搞“吃苦试探”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ˎ̥"/>
                        </a:rPr>
                        <a:t>　　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ˎ̥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ˎ̥"/>
                        </a:rPr>
                        <a:t>分苦头说成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ˎ̥"/>
                        </a:rPr>
                        <a:t>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ˎ̥"/>
                        </a:rPr>
                        <a:t>分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ˎ̥"/>
                        </a:rPr>
                        <a:t>　　“没想到一进去就要被派到外地，工作还没日没夜，太可怕了！”大四毕业生王泳（化名）叹着气离开一家企业的招聘摊位，手里还拿着没敢投出去的简历。王泳告诉记者，这家公司规模很大，本来自己挺感兴趣，可一开口询问企业的招聘要求，对方就问他能不能吃苦，还罗列出了新员工所应经受的磨练，王泳听得抽回简历匆匆逃走。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ˎ̥"/>
                        </a:rPr>
                        <a:t>　　这家公司人力资源部的黄先生说：“我们是一家化工企业，对员工要求比较高，尤其是要能吃苦。”于是，该今年想出了“吃苦测试”这一招，夸大一些困难，比如把原来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ˎ̥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ˎ̥"/>
                        </a:rPr>
                        <a:t>分的苦说成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ˎ̥"/>
                        </a:rPr>
                        <a:t>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ˎ̥"/>
                        </a:rPr>
                        <a:t>分，对于确实要被外派从事管理任务的新人，他们则会以“在流水线上进行操作”的艰苦来试探等等。黄先生告诉记者，这个测试还颇为奏效，“有近三成的学生被‘吓跑’了，这样企业一开始就剔除掉一些不能吃苦的应聘者”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755640" y="568440"/>
          <a:ext cx="7777080" cy="699840"/>
        </p:xfrm>
        <a:graphic>
          <a:graphicData uri="http://schemas.openxmlformats.org/drawingml/2006/table">
            <a:tbl>
              <a:tblPr/>
              <a:tblGrid>
                <a:gridCol w="3887640"/>
                <a:gridCol w="3889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ˎ̥"/>
                        </a:rPr>
                        <a:t>http://www.jfdaily.com 2006-12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2a458a"/>
                          </a:solidFill>
                          <a:latin typeface="Arial"/>
                          <a:ea typeface="ˎ̥"/>
                        </a:rPr>
                        <a:t>稿件来源：解放网—新闻晨报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2897640" y="-27000"/>
            <a:ext cx="305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企业招聘爱“吃苦试探”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95280" y="260280"/>
            <a:ext cx="244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请记住</a:t>
            </a: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: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476360" y="1844640"/>
            <a:ext cx="6337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華康娃娃體(P)"/>
              </a:rPr>
              <a:t>吃苦是一种幸福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華康娃娃體(P)"/>
              </a:rPr>
              <a:t>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華康娃娃體(P)"/>
              <a:ea typeface="華康娃娃體(P)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547640" y="3789360"/>
            <a:ext cx="6553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華康娃娃體"/>
              </a:rPr>
              <a:t>勤奋是一笔财富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華康娃娃體"/>
              </a:rPr>
              <a:t>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華康娃娃體"/>
              <a:ea typeface="華康娃娃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484360" y="77148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吃苦是福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吃亏是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835280" y="4148280"/>
            <a:ext cx="5616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被别人利用就是被别人重用</a:t>
            </a: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!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763640" y="2565360"/>
            <a:ext cx="561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被别人欺负就是被别人爱护</a:t>
            </a: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!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755640" y="5661000"/>
            <a:ext cx="748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让我们一起放飞我们心中的梦想吧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848720" cy="6120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324000" y="476280"/>
            <a:ext cx="849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中央电视台焦点访谈曾播过有关吃苦的节目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00000" y="1773360"/>
            <a:ext cx="2664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总结语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050920" y="3573360"/>
            <a:ext cx="5185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在未来世界，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吃不了苦的年轻人，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可能难适应社会的发展！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42920" y="1174680"/>
            <a:ext cx="889308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不愿招聘“瓷娃娃”</a:t>
            </a:r>
            <a:br>
              <a:rPr sz="2000"/>
            </a:b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　　出身贫困的孩子更受青睐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在昨天的采访中记者发现，多数企业都把“吃苦耐劳”明确写进了招聘要求，有些甚至还放在了第一条。“我们不愿招些瓷娃娃进来！”一家咨询类企业的招聘负责人告诉记者，以前公司就曾碰到这样的尴尬：新员工学历高、能力也不错，就是太娇气、拈轻怕重，而且太任性，人际关系也处不好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同时，企业的招聘天平也倾向了一些贫困生和非独生子女，他们反映，出身贫困的孩子都比较懂事，而非独生子女则不会太娇气。相比之下，出生殷实家庭的独生子女，尽管所受教育很好，却往往比较娇气。“如果应聘者条件差不多的话，我们首先就不会考虑独生子女。”一位人力资源主管告诉记者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433980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业内人士说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“能吃苦”已成企业招聘新标准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“企业这一普遍要求也透露了一个信号。”复旦大学职业发展教育服务中心副主任张生妹提醒毕业生，应聘时一定不能贪图轻松或表现得过于娇气，否则会失去很多好机会，低年级的大学生也应提前培养吃苦耐劳的能力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332000" y="549360"/>
            <a:ext cx="5398920" cy="36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不忘勤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敢于吃苦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948360" y="3500280"/>
            <a:ext cx="1871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11:44:37Z</dcterms:created>
  <dc:creator>wang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5:39:37Z</dcterms:modified>
  <cp:revision>125</cp:revision>
  <dc:subject>主题班会课件(分28大类): http://shop62905894.taobao.com</dc:subject>
  <dc:title>主题班会课件(分28大类): http://shop62905894.taobao.com</dc:title>
</cp:coreProperties>
</file>