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10.gif" ContentType="image/gif"/>
  <Override PartName="/ppt/media/image7.jpeg" ContentType="image/jpeg"/>
  <Override PartName="/ppt/media/image8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8F0-C4CE-491F-B033-7FD81594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FAD-0B85-4000-B5CD-903880FA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C43-2B42-4360-BDED-CF6A7CE6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A65-AF58-4C98-8FEF-3587512D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C58C-1009-4E01-9C44-02C51558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D5CB-7824-43D0-B9B5-22BE16F8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0E7B-8846-4A8D-818A-9E0D0E73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82DF-40F7-44E9-80F5-7AF6D59F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E29A-017B-435A-B2D3-8833F058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E42F-06B1-40AD-9849-B6BE35B4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D10F-CE3D-4E3A-B1E2-35E2585C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6B4-EA2A-46CA-815E-DC272D26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6A79-95ED-4D8C-965E-C1A22BD4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B2E0-F86E-49FB-8CF0-053BD80E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DDFD-A6AA-403E-BF5E-F05BD4DD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1488-24EE-4757-A51B-97E1B906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9597-3C62-4234-B799-0D68F678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E86-1BAF-450C-8811-91F22B90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621-6C1B-4156-BF75-E6A029C1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34F-0672-434D-B46F-50EA59FC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255-7CB8-4A48-99F2-C5B93022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F69-BDD2-48EC-B45D-0DC44DF9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56A-467D-4BF7-AE35-E782117F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19E-2964-46A7-9FF6-223B236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F15F-73D5-4648-BFEA-0FBE401815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F485-20C8-4AE2-ADCE-C309AF8D6E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4360" y="2276640"/>
            <a:ext cx="6624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爱拼才会赢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333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高三（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班主题班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451640" y="5950080"/>
            <a:ext cx="663840" cy="663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108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1158840"/>
            <a:ext cx="806472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全国性抗日战争爆发的标志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文学上并称“风骚”的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五岳中的中岳是指哪座山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海马是马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山重水复疑无路，柳暗花明又一村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是谁的诗句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世界上流经国家最多的河流是哪一条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选择题：“碧螺春”是一种什么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红茶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绿茶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花茶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一年有几个节气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请说出“初唐四杰”中的其中两位人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著名的哈雷彗星是用什么来命名的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3880" y="270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不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88800" y="22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嵩山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76760" y="1268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卢沟桥事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34000" y="3716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多瑙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4760" y="1773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国风和离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83120" y="46530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70040" y="522936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56520" y="54450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王勃、杨炯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卢照邻、骆宾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85880" y="623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人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09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陆游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0"/>
            <a:ext cx="18716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抢答题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042920" y="2060640"/>
            <a:ext cx="61214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竞争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"/>
          <p:cNvSpPr/>
          <p:nvPr/>
        </p:nvSpPr>
        <p:spPr>
          <a:xfrm>
            <a:off x="3508200" y="333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计算分数，得出结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76320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 Black"/>
                <a:ea typeface="华文琥珀"/>
              </a:rPr>
              <a:t>把握生命的每一分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5560" y="2060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Times New Roman"/>
                <a:ea typeface="华文琥珀"/>
              </a:rPr>
              <a:t>游戏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2924280"/>
            <a:ext cx="7848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游戏希望你能进入角色认真去做，因为从中你一定会有不少的发现和感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4389480"/>
            <a:ext cx="6797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华文隶书"/>
                <a:ea typeface="华文隶书"/>
              </a:rPr>
              <a:t>假使现在你的生命只剩下一年的时间，你会如何度过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华文隶书"/>
                <a:ea typeface="华文隶书"/>
              </a:rPr>
              <a:t>请你写下你最想做的</a:t>
            </a:r>
            <a:r>
              <a:rPr b="0" lang="zh-CN" sz="4000" spc="-1" strike="noStrike">
                <a:solidFill>
                  <a:srgbClr val="d60093"/>
                </a:solidFill>
                <a:latin typeface="华文隶书"/>
                <a:ea typeface="华文隶书"/>
              </a:rPr>
              <a:t>10</a:t>
            </a:r>
            <a:r>
              <a:rPr b="0" lang="zh-CN" sz="4000" spc="-1" strike="noStrike">
                <a:solidFill>
                  <a:srgbClr val="5f5f5f"/>
                </a:solidFill>
                <a:latin typeface="华文隶书"/>
                <a:ea typeface="华文隶书"/>
              </a:rPr>
              <a:t>件事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531000"/>
            <a:ext cx="5105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cc00"/>
                </a:solidFill>
                <a:latin typeface="Arial Black"/>
                <a:ea typeface="华文琥珀"/>
              </a:rPr>
              <a:t>生命的清单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五官科病房里同时住进来两位病人，都是鼻子不舒服。在等待化验结果期间，甲说，如果是癌，就立即去旅行，首先要去的是拉萨。乙表示同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化验结果出来了，甲得了鼻癌，乙长的是鼻息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甲列了一张告别人生的计划表就离开了医院，乙住了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-7812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 Black"/>
                <a:ea typeface="华文楷体"/>
              </a:rPr>
              <a:t>甲的计划是：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去一趟拉萨和敦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去攀枝花坐船一直到长江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到海南的三亚以椰子树为背景拍一张照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在哈尔滨过一个冬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从大连坐船到广西的北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登上天安门城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读完莎士比亚的所有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力争听一次瞎子阿炳原版的《二泉映月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成为北京大学的一名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要写一本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60948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这张生命清单后面，他写道：我的一生有很多梦想，有的实现了，有的由于种种原因，没有实现。现在上帝留给我的时间不多了，为了不遗憾地离开这个世界，我打算用生命的最后几年去实现我剩下的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这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27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个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8080" y="609480"/>
            <a:ext cx="76964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当年，甲就辞掉了公司的职务，去了拉萨和敦煌。第二年，又以惊人的毅力和韧性通过了成人考试，成为北京大学中文系的一名学生。这期间，他登上了天安门城楼，去了内蒙古的大草原，还在一户牧民家里住了一个星期。现在，他正在实现他要出一本书的夙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208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00000" y="907920"/>
            <a:ext cx="6492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天，乙在报上看到甲写的一篇散文，就打电话去问候甲。甲说，我真的无法想象，要不是这场病，我的生命会是多么的糟糕。是它提醒了我去做自己想做的事，去实现自己想要实现的梦想。现在我才体会到什么是真正的生活和人生。你生活得也挺好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1828800"/>
            <a:ext cx="6111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乙没有回答。因为在医院时所说的一切，早因患的不是癌症而烟消云散了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7920" cy="111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26920" y="1700280"/>
            <a:ext cx="67820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难道我们真的非得等到死亡之神来叩门时才会醒悟，才去珍惜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3836880"/>
            <a:ext cx="6950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幼圆"/>
              </a:rPr>
              <a:t>不，从现在这一刻开始，我们就应让：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琥珀"/>
              </a:rPr>
              <a:t>生命的每一分钟都有价值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1676520" cy="1555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229600" y="5638680"/>
            <a:ext cx="517680" cy="71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51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75000"/>
              </a:lnSpc>
              <a:spcBef>
                <a:spcPts val="300"/>
              </a:spcBef>
              <a:spcAft>
                <a:spcPts val="300"/>
              </a:spcAft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华文行楷"/>
              </a:rPr>
              <a:t>一时失志不免怨叹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华文行楷"/>
              </a:rPr>
              <a:t>一时落魄不免胆寒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华文行楷"/>
              </a:rPr>
              <a:t>那怕失去希望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华文行楷"/>
              </a:rPr>
              <a:t>每日醉茫茫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华文行楷"/>
              </a:rPr>
              <a:t>无魂有体亲像稻草人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华文行楷"/>
              </a:rPr>
              <a:t>人生可比是海上的波浪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16360" y="260280"/>
            <a:ext cx="360072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300"/>
              </a:spcBef>
              <a:spcAft>
                <a:spcPts val="300"/>
              </a:spcAft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华文行楷"/>
              </a:rPr>
              <a:t>有时起有时落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华文行楷"/>
              </a:rPr>
              <a:t>好运歹运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华文行楷"/>
              </a:rPr>
              <a:t>总嘛要照起来行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三分天注定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七分靠打拼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爱拼才会赢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 Black"/>
              </a:rPr>
              <a:t>心灵体操</a:t>
            </a:r>
            <a:r>
              <a:rPr b="1" lang="zh-CN" sz="4000" spc="-1" strike="noStrike">
                <a:solidFill>
                  <a:srgbClr val="003300"/>
                </a:solidFill>
                <a:latin typeface="Arial Black"/>
              </a:rPr>
              <a:t>：</a:t>
            </a:r>
            <a:r>
              <a:rPr b="1" lang="zh-CN" sz="2800" spc="-1" strike="noStrike">
                <a:solidFill>
                  <a:srgbClr val="5f5f5f"/>
                </a:solidFill>
                <a:latin typeface="Arial Black"/>
              </a:rPr>
              <a:t>请回顾一下你的昨天是如何度过的，把它们按比例画在下面的时间馅饼上，看看一天中你做了什么事情，用在实现自己目标上的时间又有多少？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睡觉                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个人卫生          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和人闲谈          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找东西             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看电视             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想心事             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其他                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学习           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吃东西        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打电话        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打电脑        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上厕所        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看书报        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001000" y="5979960"/>
            <a:ext cx="1143000" cy="87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4149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450864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从《大长今》女主角我们学到了—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1413000"/>
            <a:ext cx="7942320" cy="109944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坚强、勤奋、乐观、自信、不畏困难以及拼搏的精神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35880" y="165240"/>
            <a:ext cx="5811840" cy="6675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希望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大长今主题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br>
              <a:rPr sz="3600"/>
            </a:br>
            <a:br>
              <a:rPr sz="36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看天空飘的云还有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看生命回家路路程漫漫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看明天的岁月越走越远   远方的回忆的你的微笑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天黑路茫茫 心中的彷徨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没有云的方向 心中的翅膀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一天中展开 飞向天上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看天空飞的鸟还有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看清风像白露吹散大雾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看冬天悲的雪越来越远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昨天的曾经的我的微笑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分开的感伤 相会的盼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有天逃出想象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心中一个梦 像雨后彩虹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挂在天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101080" y="6121440"/>
            <a:ext cx="880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7" dur="174969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042920" y="1268280"/>
            <a:ext cx="6264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莅临指导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6" name=""/>
          <p:cNvSpPr/>
          <p:nvPr/>
        </p:nvSpPr>
        <p:spPr>
          <a:xfrm>
            <a:off x="3578400" y="51562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制作人：赵建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位：顺德区北滘中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252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 Black"/>
                <a:ea typeface="楷体_GB2312"/>
              </a:rPr>
              <a:t>听《灭狼护鹿》的故事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754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在美国的阿拉斯加自然保护区里，人们为了保护鹿，就消灭了狼。鹿没有了天敌，生活很是悠闲，不再四处奔波，便大量繁衍，引起了一系列的生态问题，致使瘟疫在鹿群中蔓延，鹿群大量死亡。护养人员及时引进了狼，鹿和狼之间又展开了血腥的生死竞争，鹿群虽然也大量死亡，但仍显得生机勃勃，恢复了往日的灵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03280" y="5589720"/>
            <a:ext cx="5508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生于忧患，死于安乐。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341640"/>
            <a:ext cx="5472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 Black"/>
                <a:ea typeface="隶书"/>
              </a:rPr>
              <a:t>知识竞赛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赛规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赛分为两个部分：必答题和抢答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答题，每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题，每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，答对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，答错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，由各组选出的代表作答。（注意：每位代表有一次向组员求助的机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抢答题，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题，主持人读完题之后，方可举手，先举手先答，答对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，答错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底分均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2359080" cy="2421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187280" y="1341360"/>
            <a:ext cx="1627200" cy="22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68360" y="4292640"/>
            <a:ext cx="1627200" cy="22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3280" y="404640"/>
            <a:ext cx="1627200" cy="22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24360" y="3357720"/>
            <a:ext cx="1627200" cy="22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0"/>
            <a:ext cx="18716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必答题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16720" y="6095880"/>
            <a:ext cx="136512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184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3680" y="1224000"/>
            <a:ext cx="663444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空气中含有对动物的呼吸作用有用的气体是 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When is Christm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请说出诗句“大漠孤烟直”的下一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物理上，做功的公式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“三过家门而不入”是哪一历史人物的故事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y=ax</a:t>
            </a:r>
            <a:r>
              <a:rPr b="1" lang="zh-CN" sz="2400" spc="-1" strike="noStrike" baseline="30000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+bx+c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，（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为常数）是二次函数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Traslation:To know oneself is true 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生活中的下列物质，属于纯净物的是（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洗衣粉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蒸馏水  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酸奶 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精制碘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74760" y="184464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.2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93720" y="4869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人贵有自知之明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08400" y="2421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长河落日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49520" y="162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氧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67480" y="54450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9400" y="280188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=F·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78240" y="414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不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86080" y="3355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大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0"/>
            <a:ext cx="647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0"/>
            <a:ext cx="12938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99520" y="790560"/>
            <a:ext cx="741456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人体内含量最多的物质是 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When is Thanksgiving 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请说出诗句“乱花渐欲迷人眼”的下一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机械效率的公式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《本草纲目》的作者是 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掷一万次硬币，掷得正面向上的大约是多少次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Translation:To say is one thing and to do is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下列可以说明自然界水中含有氧气的是（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河水清澈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黄河水浑浊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有鱼虾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河边空气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8920" y="1413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the last Thurday in Nov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4365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说时容易，做时难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2680" y="90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90800" y="1916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浅草才能没马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43480" y="561024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4360" y="2421000"/>
            <a:ext cx="211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 W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W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27480" y="3429000"/>
            <a:ext cx="13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9640" y="3068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李时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9120" y="2698920"/>
            <a:ext cx="200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03280" y="0"/>
            <a:ext cx="7621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12938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52160" y="1079640"/>
            <a:ext cx="51807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在天然物质里，硬度最大的是 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When is National D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请说出诗句“沉舟侧畔千帆过”的下一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内燃机中汽油机工作通常有哪四个冲程来工作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“桂林山水甲天下”，什么山水“甲桂林”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sin30</a:t>
            </a:r>
            <a:r>
              <a:rPr b="1" lang="zh-CN" sz="2400" spc="-1" strike="noStrike" baseline="30000">
                <a:solidFill>
                  <a:srgbClr val="d60093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的值是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Translation:Every dog has its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地球上储水量最大的是 （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海洋  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湖泊     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河流  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地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2040" y="1700280"/>
            <a:ext cx="13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85720" y="4797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人人皆有得意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17720" y="2205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病树前头万木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81840" y="112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金刚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83480" y="537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96480" y="313992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吸气、压缩、做功、排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06040" y="422100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3160" y="37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阳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58920" y="0"/>
            <a:ext cx="692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12938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1880" y="981000"/>
            <a:ext cx="73414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人体内含水量占体重总质量的 百分之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When is Dragon-Boat Festi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请说出诗句“感时花溅泪”的下一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自然界中可供人类大量利用的机械能有哪两种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“昙花一现”是“现”在什么时候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在</a:t>
            </a:r>
            <a:r>
              <a:rPr b="1" lang="zh-CN" sz="2400" spc="-1" strike="noStrike">
                <a:solidFill>
                  <a:srgbClr val="d60093"/>
                </a:solidFill>
                <a:latin typeface="宋体"/>
              </a:rPr>
              <a:t>△</a:t>
            </a:r>
            <a:r>
              <a:rPr b="1" lang="zh-CN" sz="2400" spc="-1" strike="noStrike">
                <a:solidFill>
                  <a:srgbClr val="d60093"/>
                </a:solidFill>
                <a:latin typeface="宋体"/>
              </a:rPr>
              <a:t>ABC</a:t>
            </a:r>
            <a:r>
              <a:rPr b="1" lang="zh-CN" sz="2400" spc="-1" strike="noStrike">
                <a:solidFill>
                  <a:srgbClr val="d60093"/>
                </a:solidFill>
                <a:latin typeface="宋体"/>
              </a:rPr>
              <a:t>中，</a:t>
            </a:r>
            <a:r>
              <a:rPr b="1" lang="zh-CN" sz="2400" spc="-1" strike="noStrike">
                <a:solidFill>
                  <a:srgbClr val="d60093"/>
                </a:solidFill>
                <a:latin typeface="宋体"/>
              </a:rPr>
              <a:t>a=12cm,b=5cm,c=13cm</a:t>
            </a:r>
            <a:r>
              <a:rPr b="1" lang="zh-CN" sz="2400" spc="-1" strike="noStrike">
                <a:solidFill>
                  <a:srgbClr val="d60093"/>
                </a:solidFill>
                <a:latin typeface="宋体"/>
              </a:rPr>
              <a:t>，请判断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宋体"/>
              </a:rPr>
              <a:t>什么三角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Translation:To save time is to lengthen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下列物质中不含有水的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蔬菜  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骨骼     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氨水  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、水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9000" y="1628640"/>
            <a:ext cx="15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6000" y="5229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节约时间就是延长生命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80040" y="2133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恨别鸟惊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06040" y="1052640"/>
            <a:ext cx="19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5%-7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51480" y="580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08040" y="2852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风能和水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9880" y="4221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直角三角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5736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晚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47640" y="0"/>
            <a:ext cx="7639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12938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07:56:34Z</dcterms:created>
  <dc:creator>书利华教育网【www.ShuLiHua.net】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42:08Z</dcterms:modified>
  <cp:revision>38</cp:revision>
  <dc:subject>主题班会课件(分28大类): http://shop62905894.taobao.com</dc:subject>
  <dc:title>主题班会课件(分28大类): http://shop62905894.taobao.com</dc:title>
</cp:coreProperties>
</file>