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F56-A604-4153-BC35-882F9236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794-449C-4839-9618-7A27B115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872-DD25-47E2-80F4-10961711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F4D-5B8D-4466-AB67-81545B89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5E7-11E2-4E77-9BC2-E5E4A9D5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D059-2930-4A75-A1E8-23360970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639-976F-4B61-8223-8D34DC8E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47D-F024-4C51-AC35-83BEAB71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32C-BFD4-4C9C-8354-A4634373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D34-BE68-4B79-B988-250D6E69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310-FC03-4C4B-8518-75329970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15B-232E-48EB-BF56-5B7E6E78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A610-A320-4010-9243-1A7D1A5DA1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58672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1066680"/>
            <a:ext cx="91440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You are the best !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37280" y="4724280"/>
            <a:ext cx="2044800" cy="2133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3809880"/>
            <a:ext cx="3843360" cy="3048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16000" y="189000"/>
            <a:ext cx="66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性格是引导人们到光明与真实境界的灯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981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6666"/>
                </a:solidFill>
                <a:latin typeface="Times New Roman"/>
              </a:rPr>
              <a:t>性格可以修养，也可以改变。改变了性格，也就改变了命运。如：《周处之死》中的周处，原先性格暴烈。他上山杀恶虎，乡人以为他被恶虎所食，就奔走相告以为幸事。周处幡然醒悟，性格大变，终成良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2852640"/>
            <a:ext cx="6019920" cy="2210040"/>
          </a:xfrm>
          <a:prstGeom prst="wedgeRoundRectCallout">
            <a:avLst>
              <a:gd name="adj1" fmla="val -41217"/>
              <a:gd name="adj2" fmla="val 83763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314172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990033"/>
                </a:solidFill>
                <a:latin typeface="Times New Roman"/>
              </a:rPr>
              <a:t>性格决定命运，改变性格中的缺陷，也就改变了自己的命运，请相信性格的力量。相信性格是可以改变命运的</a:t>
            </a:r>
            <a:r>
              <a:rPr b="0" i="1" lang="zh-CN" sz="2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84720" y="602136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2007</a:t>
            </a:r>
            <a:r>
              <a:rPr b="1" lang="zh-CN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级 高</a:t>
            </a:r>
            <a:r>
              <a:rPr b="1" lang="en-US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211</a:t>
            </a:r>
            <a:r>
              <a:rPr b="1" lang="zh-CN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班 无与伦比学习小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243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1676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性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3276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习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39600">
            <a:off x="1066320" y="1828800"/>
            <a:ext cx="381240" cy="1752480"/>
          </a:xfrm>
          <a:custGeom>
            <a:avLst/>
            <a:gdLst>
              <a:gd name="textAreaLeft" fmla="*/ 0 w 381240"/>
              <a:gd name="textAreaRight" fmla="*/ 137520 w 3812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295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990033"/>
                </a:solidFill>
                <a:latin typeface="Times New Roman"/>
              </a:rPr>
              <a:t>命运不可悲，可悲的是，自己不能靠自己去改变它，我们不能服从命运，而是要改变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99"/>
                </a:solidFill>
                <a:latin typeface="Times New Roman"/>
              </a:rPr>
              <a:t>命运如水，而自己像是一块热铁，不想被水冷却，就得让水沸腾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438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23623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18288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所以，我们要改变自己，改变这的命运，让自己生活更美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465300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一个人若想改变自己的命运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最重要的是要改变自己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---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改变习惯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改变性格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这样命运也会随之改变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zh-CN" sz="2800" spc="-1" strike="noStrike">
                <a:solidFill>
                  <a:srgbClr val="333399"/>
                </a:solidFill>
                <a:latin typeface="Times New Roman"/>
              </a:rPr>
              <a:t>习惯→性格→命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914400" y="0"/>
            <a:ext cx="4724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再见啦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3429000"/>
            <a:ext cx="5562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同学们！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-974160" y="-316080"/>
            <a:ext cx="11552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无与伦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609300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2007</a:t>
            </a:r>
            <a:r>
              <a:rPr b="1" lang="zh-CN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级 高</a:t>
            </a:r>
            <a:r>
              <a:rPr b="1" lang="en-US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211</a:t>
            </a:r>
            <a:r>
              <a:rPr b="1" lang="zh-CN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班 无与伦比学习小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2286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14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个人都会有很多不顺心的遭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然也就会有很多气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埋怨命运的不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哀叹自己的命不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会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是自己能改变命运那该有多好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又觉得自己很可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运已经注定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还怎能改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609300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2007</a:t>
            </a:r>
            <a:r>
              <a:rPr b="1" lang="zh-CN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级 高</a:t>
            </a:r>
            <a:r>
              <a:rPr b="1" lang="en-US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211</a:t>
            </a:r>
            <a:r>
              <a:rPr b="1" lang="zh-CN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班 无与伦比学习小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95680" y="304920"/>
            <a:ext cx="4648320" cy="6095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2514600"/>
            <a:ext cx="396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96600"/>
                </a:solidFill>
                <a:latin typeface="Times New Roman"/>
              </a:rPr>
              <a:t>可以的</a:t>
            </a:r>
            <a:r>
              <a:rPr b="1" i="1" lang="zh-CN" sz="3200" spc="-1" strike="noStrike">
                <a:solidFill>
                  <a:srgbClr val="996600"/>
                </a:solidFill>
                <a:latin typeface="Times New Roman"/>
              </a:rPr>
              <a:t>,</a:t>
            </a:r>
            <a:r>
              <a:rPr b="1" i="1" lang="zh-CN" sz="3200" spc="-1" strike="noStrike">
                <a:solidFill>
                  <a:srgbClr val="996600"/>
                </a:solidFill>
                <a:latin typeface="Times New Roman"/>
              </a:rPr>
              <a:t>当然可以</a:t>
            </a:r>
            <a:r>
              <a:rPr b="1" i="1" lang="zh-CN" sz="3200" spc="-1" strike="noStrike">
                <a:solidFill>
                  <a:srgbClr val="996600"/>
                </a:solidFill>
                <a:latin typeface="Times New Roman"/>
              </a:rPr>
              <a:t>!</a:t>
            </a:r>
            <a:r>
              <a:rPr b="1" i="1" lang="zh-CN" sz="3200" spc="-1" strike="noStrike">
                <a:solidFill>
                  <a:srgbClr val="996600"/>
                </a:solidFill>
                <a:latin typeface="Times New Roman"/>
              </a:rPr>
              <a:t>不但如此</a:t>
            </a:r>
            <a:r>
              <a:rPr b="1" i="1" lang="zh-CN" sz="3200" spc="-1" strike="noStrike">
                <a:solidFill>
                  <a:srgbClr val="996600"/>
                </a:solidFill>
                <a:latin typeface="Times New Roman"/>
              </a:rPr>
              <a:t>,</a:t>
            </a:r>
            <a:r>
              <a:rPr b="1" i="1" lang="zh-CN" sz="3200" spc="-1" strike="noStrike">
                <a:solidFill>
                  <a:srgbClr val="996600"/>
                </a:solidFill>
                <a:latin typeface="Times New Roman"/>
              </a:rPr>
              <a:t>我们还可以决定自己的命运</a:t>
            </a:r>
            <a:r>
              <a:rPr b="1" i="1" lang="zh-CN" sz="3200" spc="-1" strike="noStrike">
                <a:solidFill>
                  <a:srgbClr val="996600"/>
                </a:solidFill>
                <a:latin typeface="Times New Roman"/>
              </a:rPr>
              <a:t>,</a:t>
            </a:r>
            <a:r>
              <a:rPr b="1" i="1" lang="zh-CN" sz="3200" spc="-1" strike="noStrike">
                <a:solidFill>
                  <a:srgbClr val="996600"/>
                </a:solidFill>
                <a:latin typeface="Times New Roman"/>
              </a:rPr>
              <a:t>在这个世界上</a:t>
            </a:r>
            <a:r>
              <a:rPr b="1" i="1" lang="zh-CN" sz="3200" spc="-1" strike="noStrike">
                <a:solidFill>
                  <a:srgbClr val="996600"/>
                </a:solidFill>
                <a:latin typeface="Times New Roman"/>
              </a:rPr>
              <a:t>,</a:t>
            </a:r>
            <a:r>
              <a:rPr b="1" i="1" lang="zh-CN" sz="3200" spc="-1" strike="noStrike">
                <a:solidFill>
                  <a:srgbClr val="996600"/>
                </a:solidFill>
                <a:latin typeface="Times New Roman"/>
              </a:rPr>
              <a:t>只有一个人可以改变和决定我们的命运</a:t>
            </a:r>
            <a:r>
              <a:rPr b="1" i="1" lang="zh-CN" sz="3200" spc="-1" strike="noStrike">
                <a:solidFill>
                  <a:srgbClr val="996600"/>
                </a:solidFill>
                <a:latin typeface="Times New Roman"/>
              </a:rPr>
              <a:t>,</a:t>
            </a:r>
            <a:r>
              <a:rPr b="1" i="1" lang="zh-CN" sz="3200" spc="-1" strike="noStrike">
                <a:solidFill>
                  <a:srgbClr val="996600"/>
                </a:solidFill>
                <a:latin typeface="Times New Roman"/>
              </a:rPr>
              <a:t>这个人就是我们自己</a:t>
            </a:r>
            <a:r>
              <a:rPr b="1" i="1" lang="zh-CN" sz="3200" spc="-1" strike="noStrike">
                <a:solidFill>
                  <a:srgbClr val="9966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可以改变自己的命运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609300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2007</a:t>
            </a:r>
            <a:r>
              <a:rPr b="1" lang="zh-CN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级 高</a:t>
            </a:r>
            <a:r>
              <a:rPr b="1" lang="en-US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211</a:t>
            </a:r>
            <a:r>
              <a:rPr b="1" lang="zh-CN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班 无与伦比学习小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3763800" y="2654280"/>
            <a:ext cx="9144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8600" y="914400"/>
            <a:ext cx="8534520" cy="4342680"/>
            <a:chOff x="228600" y="914400"/>
            <a:chExt cx="8534520" cy="4342680"/>
          </a:xfrm>
        </p:grpSpPr>
        <p:sp>
          <p:nvSpPr>
            <p:cNvPr id="59" name=""/>
            <p:cNvSpPr/>
            <p:nvPr/>
          </p:nvSpPr>
          <p:spPr>
            <a:xfrm>
              <a:off x="228600" y="914400"/>
              <a:ext cx="8534520" cy="434268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228600" y="914400"/>
              <a:ext cx="8534520" cy="4341960"/>
              <a:chOff x="228600" y="914400"/>
              <a:chExt cx="8534520" cy="4341960"/>
            </a:xfrm>
          </p:grpSpPr>
          <p:sp>
            <p:nvSpPr>
              <p:cNvPr id="61" name=""/>
              <p:cNvSpPr/>
              <p:nvPr/>
            </p:nvSpPr>
            <p:spPr>
              <a:xfrm>
                <a:off x="228600" y="914400"/>
                <a:ext cx="8534520" cy="4341960"/>
              </a:xfrm>
              <a:prstGeom prst="rect">
                <a:avLst/>
              </a:prstGeom>
              <a:solidFill>
                <a:srgbClr val="ff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600" y="914400"/>
                <a:ext cx="8534520" cy="4341960"/>
              </a:xfrm>
              <a:prstGeom prst="rect">
                <a:avLst/>
              </a:prstGeom>
              <a:solidFill>
                <a:srgbClr val="ff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000"/>
                </a:b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在一次讨论会上，一位著名的演说家没讲一句开场白，手里却高举着一张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美元的钞票。 </a:t>
                </a:r>
                <a:br>
                  <a:rPr sz="2000"/>
                </a:b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       面对会议室里的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20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个人，他问：“谁要这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美元？”一只只手举了起来。他接着说：“我打算把这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美元送给你们中的一位，但在这之前，请准许我做一件事。”他说着将钞票揉成一团，然后问：“谁还要？”仍有人举起手来。 </a:t>
                </a:r>
                <a:br>
                  <a:rPr sz="2000"/>
                </a:b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　　他又说：“那么，假如我这样做又会怎么样呢？”他把钞票扔到地上，又踏上一只脚，并且用脚碾它。尔后他拾起钞票，钞票已变得又脏又皱。 </a:t>
                </a:r>
                <a:br>
                  <a:rPr sz="2000"/>
                </a:b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   　“现在谁还要？”还是有人举起手来。 </a:t>
                </a:r>
                <a:br>
                  <a:rPr sz="2000"/>
                </a:b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　　“朋友们，你们已经上了一堂很有意义的课。无论我如何对待那张钞票，你们还是想要它，因为它并没贬值，它依旧值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美元。人生路上，我们会无数次被自己的决定或碰到的逆境击倒、欺凌甚至碾得粉身碎骨。我们觉得自己似乎一文不值。但无论发生什么，或将要发生什么，在上帝的眼中，你们永远不会丧失价值。在他看来，肮脏或洁净，衣着齐整或不齐整，你们依然是无价之宝。”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生命的价值不依赖我们的所作所为，也不仰仗我们结交的人物，而是取决于我们本身！我们是独特的——永远不要忘记这一点！ 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" name=""/>
          <p:cNvSpPr txBox="1"/>
          <p:nvPr/>
        </p:nvSpPr>
        <p:spPr>
          <a:xfrm>
            <a:off x="228600" y="304920"/>
            <a:ext cx="868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不要让昨日的沮丧令明天的梦想黯然失色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成功的道路是没有捷径的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又或许是有这么一条通天梯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只是没被世人发现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每个人都在努力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即使有那么的一些人说得什么都不在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事实上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每个人都在暗暗地努力着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为自己争口气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因为自己做得别人好了就意味着你也是个很优秀的人才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不再被人瞧不起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抬头挺胸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让自己被他人羡慕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做个自豪的人不正是大家所希望的吗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3429000"/>
            <a:ext cx="835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所谓“冰冻三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非一日之寒”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要做个出类拔遂的人也要有自己骄傲的资本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要让自己更好就要努力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就要坚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这需要时间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需要毅力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好的习惯在这方面就会给我们带来益处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对自己熟悉的东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每个人都有无比的自信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我们就可以带着轻松的心情向心中的理想迈进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好的习惯让人拥有更多成功的胜算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自然我们就会少受更多失败的滋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命运的改变也就有了个好的开端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09680"/>
            <a:ext cx="88390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一个穷小子，很少能够吃饱饭。因此，他连做梦都想着有一天会发大财。偶尔有一天，他从一本书上发现了一个可以令他致富的秘密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他来到大海的沙滩上，按照书中的记载，寻找一颗试金石。这粒石子拿在手里会有一种温暖的感觉，好像是个活的东西，只要任何东西让它一碰，就会立刻变成金子。如果有了这颗试金石，他的命运将从此改变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他坐在地上，一块一块地拣起那些石头，摸一摸，然后往大海里扔去。他每一天都在做着同样的事情，直到有一天他摸到了试金石——但他并没有发觉，而是习惯性地又将它扔到大海里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生活中也总是有很多类似的人——自认为怀才不遇，并且相信一旦有机遇向他们走来，自己一定会冲天而起。但是，他们一天复一天地昏昏噩噩，机遇已经一个接一个地从他们身边溜走了，而他们毫无觉察。他们的日常表现，亦即他们的习惯，其实就是改变自己命运的机缘——要把每一粒石子都当成试金石，并积累在自己身边。记住，当你把石子一粒粒抛向大海时，坏习惯就注定了可悲的命运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57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384720" y="633888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2007</a:t>
            </a:r>
            <a:r>
              <a:rPr b="1" lang="zh-CN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级 高</a:t>
            </a:r>
            <a:r>
              <a:rPr b="1" lang="en-US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211</a:t>
            </a:r>
            <a:r>
              <a:rPr b="1" lang="zh-CN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班 无与伦比学习小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95680" y="609480"/>
            <a:ext cx="464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99"/>
                </a:solidFill>
                <a:latin typeface="宋体"/>
              </a:rPr>
              <a:t>命运就算颠沛流离 命运就算曲折离奇 命运就算恐吓着你做人没趣味 别流泪 心酸 更不应舍弃     我愿能 一生永远陪伴你哦</a:t>
            </a:r>
            <a:r>
              <a:rPr b="1" i="1" lang="zh-CN" sz="2400" spc="-1" strike="noStrike">
                <a:solidFill>
                  <a:srgbClr val="333399"/>
                </a:solidFill>
                <a:latin typeface="宋体"/>
              </a:rPr>
              <a:t>~~ </a:t>
            </a:r>
            <a:r>
              <a:rPr b="1" i="1" lang="zh-CN" sz="2400" spc="-1" strike="noStrike">
                <a:solidFill>
                  <a:srgbClr val="333399"/>
                </a:solidFill>
                <a:latin typeface="宋体"/>
              </a:rPr>
              <a:t>一生之中兜兜转转 那会看清楚  彷徨时我也试过独坐一角像是没协助 在某年 那幼小的我跌倒过几多几多落泪在雨夜滂沱  一生之中弯弯曲曲我也要走过 从何时有你有你伴我给我热烈地拍和像红日之火 燃点真的我 结伴行 千山也定能踏过 让晚风 轻轻吹过  伴送着清幽花香像是在祝福你我让晚星 轻轻闪过 闪出你每个希冀如浪花 快要沾湿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3623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476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r>
              <a:rPr b="1" i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         </a:t>
            </a:r>
            <a:r>
              <a:rPr b="1" i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性格坚强、朴实、善良，她的命运和妈妈非常相似，但不同是她生活在了</a:t>
            </a:r>
            <a:r>
              <a:rPr b="1" i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20</a:t>
            </a:r>
            <a:r>
              <a:rPr b="1" i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年后的韩国，即便是这样，人们对这类女人的眼光也是怪异的，以安慧美为代表，好在金顺有着坚强的性格，她不依赖任何人，只想靠自己的打拼来抚养辉成，作个让挥常骄傲的妈妈，可是，她也从不顾自己有没有这个能力，哈哈，其实这样的人生活中也有不少，所谓的笨鸟就是指这类人，但是好在金顺的人生有目标，人活着最怕没有目标的乱撞，因为有目标所以可爱，为了能达到目标而努力更可爱，因为善良，所以她没有什么不择手段的去实现目的，那样就不是可爱的金顺了。因为这样的个性所以吸引了在熙，在在熙的眼里金顺是个可爱的白菜头，少了些女人味，但是自然、纯真，在熙是真正能看到金顺美丽的人，正是因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为这份爱让金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609300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2007</a:t>
            </a:r>
            <a:r>
              <a:rPr b="1" lang="zh-CN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级 高</a:t>
            </a:r>
            <a:r>
              <a:rPr b="1" lang="en-US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211</a:t>
            </a:r>
            <a:r>
              <a:rPr b="1" lang="zh-CN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班 无与伦比学习小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变得更坚强，有了在熙坚定的支持和理解，才能勇敢 面对世俗、面对所有人的指责，并且得到最终的幸福。另外的一个方面就是来自娘家、婆家、在熙妈妈、自己妈妈各个方面的理解、支持，虽然开始是困难的，但金顺用自己的善良、坚强感动了所有人，包括婆家人、在熙妈妈这些最初强烈反对过的人。所以，命运是可以改变的，只要你努力。 </a:t>
            </a:r>
            <a:br>
              <a:rPr sz="2800"/>
            </a:b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        金顺的性格直接的结果是改变了命运，她不肯向命运低头，不向生活服输，认真的对待人生，善良的对待每个人，任劳任怨，比起她的妈妈，她付出的更多，相对的得到的也就更多，除了儿子辉成，她得到了很多人的爱和呵护，过上了幸福的生活，这些是她应得的，更重要的是，和妈妈相比，她的幸福更具有质量，不同于妈妈被物化了的幸福。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《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加油！金顺！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》                                                                                  </a:t>
            </a:r>
            <a:r>
              <a:rPr b="0" i="1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书利华教育网【www.ShuLiHua.net】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32:00Z</dcterms:modified>
  <cp:revision>21</cp:revision>
  <dc:subject>主题班会课件(分28大类): http://shop62905894.taobao.com</dc:subject>
  <dc:title>主题班会课件(分28大类): http://shop62905894.taobao.com</dc:title>
</cp:coreProperties>
</file>