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067-3D81-4A58-8649-27B88A41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F72-363C-4EAC-B19D-CC55E2F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6C4-FB9D-4F36-B102-CD976B5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699-FD38-4478-8587-AEF012D8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21C-51B6-4464-8A45-2B581038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006-459B-4847-9C87-10CF377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9B5-71EE-4D1C-B28B-F6112401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128-1DA7-4775-92ED-D5AC214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42E-E7C8-4CBC-9E0E-5C8D983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2AF-9448-439C-9493-1952F08E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B15-069A-4F2D-A480-633A0397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532-0159-4EF5-8AA1-BE51279D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968-2207-4C6B-A5E1-1638223F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5329-8968-4626-90E8-34C067A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52AA-7DCA-41A4-82AF-8B7193C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2605-5C99-459F-B40A-98490E9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ADF-0E7A-4AC6-A2DF-C920BE30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A80-EC37-4549-A861-B51FFC18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0BC-98A4-4356-B2D8-9E92EEF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EF88-34CB-4780-A8B7-CE4DDBC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8508-442C-40FC-9EDB-9381B2D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433E-4955-4401-BF33-2B2AF728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FCD-DBBD-497B-8229-4F6AA76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6C7-7DDF-413E-A14E-30598F1E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D7D-EA86-4AB9-AB66-86B9C392F0B2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D9D4-63DB-44A1-AE4A-42C5FFCD3A6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 rot="5400000">
            <a:off x="-1801440" y="2601000"/>
            <a:ext cx="619308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班会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435640" y="508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714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286164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自我对话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我到底担心什么？是什么引起我的紧张和担心？可能是父母的期望，也可能是自己的失败幻想，甚至别人的一句话、一个小情境都可能引起紧张。把你的感受写出来一一反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比如：我不想让父母失望，他们对我的期望很高，我怕他们难过。辩驳理由：父母可能会很失望很难过，但如果自己焦虑不安急出毛病来，他们会更担心更难过。父母希望自己学习好，更希望自己健健康康，重要的是自己努力了没有，而不是结果非要怎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50920" y="2460240"/>
            <a:ext cx="676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自我开放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当你感到压力大时，主动和老师、朋友、父母沟通，聊一聊，说一说，把紧张的情绪释放出来。尤其是和父母交流，说出你的想法，让父母了解你的真实情况，理解你的感受，对你有一个合理的期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鲁迅先生对孩子的要求仅仅是：自食其力。要学会寻求帮助，别什么事情都一个人在心里闷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50920" y="326448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调整好生物钟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每个人在一个月中都有情绪的兴奋期和低潮期，有些天心情特别好，做事效率很高，有些天心情莫名地烦躁，看什么都不顺眼，就想发脾气。不论男生还是女生，找到你情绪的规律，在情绪低潮时，学会调整，避免刺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每个人在一天当中也有精神的兴奋点，有些同学白天精神好，有的则晚上容易兴奋，学习效率高，尽量把你的兴奋点调整到与上课或考试时间段相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24000" y="304236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运动是最好的心理医生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每天适量的体育运动有利于缓解紧张的心情，比如跑步，可以单跑，结伴跑更好，或打打球、散散步都可以。“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＞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8”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，每天抽出一小时进行运动和休息，虽然只学习了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小时，学习效率却超过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磨刀不误砍柴工，大家都知道，可是一看到别人都在埋头学习，课间十分钟也不走出教室，自己哪能不紧张，但学习不是拼时间而是比效率。也有同学认为体育考试已经考过了不用再锻炼了，这种想法是错误的。形成一种良好的运动习惯，可以使你终身受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1280" y="1703520"/>
            <a:ext cx="52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第三、第四只狐狸也来到了葡萄架下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，它们看前两只都没有摘到葡萄，于是开始想办法，它们搬来砖头找来棍子，开始摘葡萄，但是他们惟恐对方得到的多，自己得到的少，互相争斗，结果可想而知，两败俱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48373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曾有学生这样对我说：老师，我有一位好朋友，我们学习成绩差不多，有时他好一些，有时我好一些。但是当他比我考得好时，我心里就难受，不服气，就不想理他，你说我是不是很自私，很虚伪，我心理正常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24000" y="711000"/>
            <a:ext cx="58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首先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祝贺你，有人把你作为对手，说明你优秀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；有人做你的对手，说明你是一个有上进心的人、追求进步的人，满足现状的人会有对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27889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其次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正是因为对手的存在你才进步得更快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，从这个意义上来说，这不是一件好事吗？有一位武林高手叫独孤求败，一个人没有对手是很孤独，很寂寞的。人生不能没有竞争对手，棋逢对手、高手对弈这才叫酣畅淋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这个对手可能在你身边，也可能在远方；可能是困苦的环境，也可能是自己薄弱的意志。对手其实就是你自己，你能否战胜自己的脆弱，自己的狭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231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再者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学会接纳他人，友善相处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。人需要自尊心、自信心，但如果过度，就会演变为嫉妒心和虚荣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134892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三国时的周瑜曾感叹：既生瑜，何生亮。既然有我周瑜智慧超群，又何必生他一个诸葛亮聪明绝伦呢？如果一个人由于担心别人优于自己而产生愤怒和嫉妒心理，是非常有害的，它使自己处于紧张的人际关系中，紧张、不安、担心、愤怒的情绪中，会影响学习和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和谐的人际关系非常重要。学会调整自己的情绪，为自己，也为别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43960" y="3256560"/>
            <a:ext cx="3920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我行，你不行：自大；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你行，我不行：自卑；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我不行，你也不行：嫉妒；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我行，你也行：欣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自大、自卑、嫉妒都阻碍了你前进的脚步。学会欣赏别人，赞美别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为自己喝彩，也为别人鼓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69360" y="405360"/>
            <a:ext cx="4874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得之坦然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，（得到后不忘乎所以，骄傲自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失之淡然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；（失去某些东西时也不自艾自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顺其自然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，（遵循事物发生发展的规律，不强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争其必然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。（对于必须要做的就努力去争取，绝不放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03480" y="4507200"/>
            <a:ext cx="52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希望同学们竭尽全力，为了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的理想拼搏奋斗，做最好的自己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520280" y="259560"/>
            <a:ext cx="23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Berlin Sans FB Demi"/>
                <a:ea typeface="华文行楷"/>
              </a:rPr>
              <a:t>故事一</a:t>
            </a:r>
            <a:r>
              <a:rPr b="1" lang="zh-CN" sz="4000" spc="-1" strike="noStrike">
                <a:solidFill>
                  <a:srgbClr val="66ff33"/>
                </a:solidFill>
                <a:latin typeface="Berlin Sans FB Demi"/>
                <a:ea typeface="华文行楷"/>
              </a:rPr>
              <a:t>.   </a:t>
            </a:r>
            <a:r>
              <a:rPr b="1" lang="zh-CN" sz="4000" spc="-1" strike="noStrike">
                <a:solidFill>
                  <a:srgbClr val="66ff33"/>
                </a:solidFill>
                <a:latin typeface="Berlin Sans FB Demi"/>
                <a:ea typeface="华文行楷"/>
              </a:rPr>
              <a:t>非洲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17352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一望无际的非洲草原上，一群羚羊自由自在、悠闲地嬉戏。突然，一只非洲豹向羊群扑去。羚羊受到惊吓，开始拼命地四处奔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非洲豹死死盯住一只未成年的羚羊，穷追不舍。在追捕的过程中，非洲豹掠过了一只又一直站在旁边惊恐观望的羚羊，对这些挨得很近的羚羊像没看见一样，一次又一次地放过它们。终于那只未成年的羚羊被凶悍的非洲豹扑倒了，挣扎着倒在了血泊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39640" y="1197000"/>
            <a:ext cx="5905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问题</a:t>
            </a: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：非洲豹为什么不放弃先前那只羚羊而去追其他离得更近的羚羊呢？那样岂不是更容易得手？这只非洲豹是不是弱智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711680"/>
            <a:ext cx="71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羚羊特别善于奔跑，如果豹子在追赶的途中改变目标，一会儿追这只，一会儿追那只，到头来哪只也追不上，反倒把自己累得疲惫不堪。因此聪明的非洲豹一直紧紧盯住先前那只被追累了的羚羊，使之最终成为自己口中的猎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95280" y="32454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我们的目标就像一只羚羊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。如果想得到它，就必须一直追下去。中途很可能出现各种各样的诱惑，它们会分散你的视线和注意力，这时，我们千万不要轻易改变目标。如果你老是改变目标，最终将一无所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199880" y="259560"/>
            <a:ext cx="41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故事二 </a:t>
            </a:r>
            <a:r>
              <a:rPr b="1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. </a:t>
            </a:r>
            <a:r>
              <a:rPr b="1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强悍的猎狗与带伤的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28656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一天，猎人带着猎狗一枪击中了一只兔子的后腿，受伤的兔子拼命逃生，猎狗在其后穷追不舍。可是追了一阵子，悻悻地回到猎人身边。猎人气急败坏地骂道：“你真没用，连一只受伤的兔子都追不到！”猎狗听了很不服气地辩解道：“我已经尽力了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兔子带着枪伤成功地逃生回家，它的兄弟们都围过来惊讶地问：“那只猎狗很凶呀，你又带了枪伤，是怎么甩掉他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兔子说：“那只狗只是努力而已，我却是竭尽全力呀！它没追上我，最多挨它主人的一顿骂，可我就没命了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5640" y="189900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每个人都有巨大的潜能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。即使身处逆境，只要竭尽全力就有成功的可能，甚至能够创造奇迹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想创造奇迹，仅仅做到努力还不够，必须竭尽全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093320" y="332640"/>
            <a:ext cx="28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故事三</a:t>
            </a:r>
            <a:r>
              <a:rPr b="0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.   </a:t>
            </a:r>
            <a:r>
              <a:rPr b="0" lang="zh-CN" sz="3200" spc="-1" strike="noStrike">
                <a:solidFill>
                  <a:srgbClr val="66ff33"/>
                </a:solidFill>
                <a:latin typeface="华文行楷"/>
                <a:ea typeface="华文行楷"/>
              </a:rPr>
              <a:t>狐狸和葡萄</a:t>
            </a:r>
            <a:r>
              <a:rPr b="0" lang="zh-CN" sz="32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805400"/>
            <a:ext cx="64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从前，</a:t>
            </a: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有一只狐狸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走过一个葡萄架。葡萄熟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一串串挂在高高的葡萄架上，晶莹剔透，十分诱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狐狸垂涎三尺，于是使劲儿一跳，但是葡萄架很高，狐狸没有成功，“人生能有几回搏，让我再试 一次”，很遗憾，它仍没有够着，三次、四次，试了很多次，最后它筋疲力尽，觉得没什么希望，无可奈何地走了，边走边自我安慰：这些葡萄没有熟，肯定是酸 的，我根本就不想吃。    这就是吃不到葡萄反说葡萄酸——</a:t>
            </a: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酸葡萄心理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30080" y="4795200"/>
            <a:ext cx="42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不可能事事行，也不可能事事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事行不等于事事行，一事不行不等于事事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今天行不等于明天行，今天不行不等于明天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做事不行不等于做人不行。虽然成功未必在我，但努力一定有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4480" y="391392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  <a:ea typeface="华文行楷"/>
              </a:rPr>
              <a:t>屡败屡战，何等坚强！</a:t>
            </a:r>
            <a:r>
              <a:rPr b="0" lang="zh-CN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79280" y="13496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第二只狐狸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来到葡萄架下，像第一只狐狸一样，也没能摘到葡萄，他想：这么鲜美的葡萄我都不能享用，上帝太不公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3187800"/>
            <a:ext cx="63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在我们同学当中可能有这样一种想法：如果考不上重点大学，我这一辈子就完了。果真是这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经常处于惶恐不安之中，于是出现了一些生理症状：经常感到胃不舒服，头疼，睡眠不好，去医院检查也查不出什么毛病。这已经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试焦虑的症状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245320" y="112464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  <a:ea typeface="华文行楷"/>
              </a:rPr>
              <a:t>要学会减压</a:t>
            </a:r>
            <a:r>
              <a:rPr b="0" lang="zh-CN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3160080"/>
            <a:ext cx="7921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张弛有度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在学习和考试中，适度紧张和兴奋有利于提高效率，但是如果紧张和压力超过一定的限度就是有害的。就像琴弦，如果太松了便无法弹奏乐曲，只有适度地紧弦，才能奏出美妙的乐曲，但是如果一根弦绷得太紧太久了，就会失去弹性，甚至绷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每个人都可能出现紧张、焦虑等情绪困扰，著名电视节目主持人崔永元曾坦言，自己由于工作和生活压力等各种原因，一度出现精神抑郁，经过一段时间的调整之后，才有了一个新的开始。你也要张弛有度，学会爱惜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2:29:54Z</dcterms:created>
  <dc:creator>zpy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5:10Z</dcterms:modified>
  <cp:revision>9</cp:revision>
  <dc:subject>主题班会课件(分28大类): http://shop62905894.taobao.com</dc:subject>
  <dc:title>主题班会课件(分28大类): http://shop62905894.taobao.com</dc:title>
</cp:coreProperties>
</file>