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drumroll.wav" ContentType="audio/x-wav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16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7.jpeg" ContentType="image/jpeg"/>
  <Override PartName="/ppt/media/image12.jpeg" ContentType="image/jpeg"/>
  <Override PartName="/ppt/media/image6.png" ContentType="image/pn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184-F899-40AE-B9CB-3C71EA60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076-D095-4036-B7ED-8B95693C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F90-3DC7-47E6-9599-577C6B48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B28-5891-4A2D-A98A-AABA4376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42F-8A55-4020-A257-B521BEE0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F8B-5A42-4A5B-8457-B9413113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705-862D-4030-9C2B-0C6D86D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194A-8EC7-4AA5-B476-012B66E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C1A-2290-4407-9093-3C3B1AD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F0D-BE31-48E9-A06C-E50F4A1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E0AE-FFC7-4385-A38D-4FF46B49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0F3-D683-4266-BA49-E15E000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962-C4F3-4497-9B95-2A87587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2DCD-1158-46A0-BF08-7EA637A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64C9-6F41-4C10-B99E-99F4CDCE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B305-117F-48F3-9FA0-CF3836BA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E381-ED62-4B93-93B2-1A5798A4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03CE-55A6-41E3-8420-CF92E1BF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A918-C881-48FE-B632-057A8EE9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8E95-6F0B-47B7-9148-91D0764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EBE1-D730-442E-BEEC-47F1EBF7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F195-4B2F-4BFF-83B7-677E5CA1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4B0-1F6B-446D-A588-C6644922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439B-CFA7-4442-BEC0-311FD4C2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0F28-A19B-4DBD-BEBB-9050A56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E8C5-32A3-44BF-8163-78A6766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758A-9C3A-4434-A3CD-30265B2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9230-0D13-49A1-A8D0-74CA6A1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2BC3-A772-4EF2-8857-188867EF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E275-3B40-434C-8115-6DF74B6D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F0D-722E-458E-BDC7-10EAF0EE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94F-FA7D-43FD-9005-495F076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C9C-4149-450B-9417-F90CF98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642-A9A3-4234-A094-B52EB58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07D-F3D6-4304-AE76-464027A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6FC-F743-41F0-8129-4C0F437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209-91F3-4DBE-A8FB-962E3D714D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1A67-65E4-49C8-A1D8-EC2446D3ACD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B9B9-1B68-4E21-8415-64DDB7B6390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6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1905120"/>
            <a:ext cx="6781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爱拼才会赢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708360" y="1268280"/>
            <a:ext cx="3313080" cy="682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19520" y="4572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Smudger LET"/>
              </a:rPr>
              <a:t>NBA</a:t>
            </a:r>
            <a:r>
              <a:rPr b="1" lang="zh-CN" sz="3600" spc="-1" strike="noStrike">
                <a:solidFill>
                  <a:srgbClr val="ff6600"/>
                </a:solidFill>
                <a:latin typeface="Smudger LET"/>
              </a:rPr>
              <a:t>季后赛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990720" y="419112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14400" y="-11430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白纸黑点与黑纸白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  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27400" y="914400"/>
            <a:ext cx="3159000" cy="1496880"/>
          </a:xfrm>
          <a:prstGeom prst="borderCallout1">
            <a:avLst>
              <a:gd name="adj1" fmla="val 18750"/>
              <a:gd name="adj2" fmla="val -8333"/>
              <a:gd name="adj3" fmla="val 70518"/>
              <a:gd name="adj4" fmla="val -34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276720"/>
            <a:ext cx="3047760" cy="1523880"/>
          </a:xfrm>
          <a:prstGeom prst="borderCallout1">
            <a:avLst>
              <a:gd name="adj1" fmla="val 18750"/>
              <a:gd name="adj2" fmla="val -8333"/>
              <a:gd name="adj3" fmla="val -82916"/>
              <a:gd name="adj4" fmla="val -36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1523880"/>
            <a:ext cx="5335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3962520"/>
            <a:ext cx="6858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256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885080" y="609300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nt">
            <a:hlinkClick r:id="rId3" action="ppaction://hlinksldjump"/>
          </p:cNvPr>
          <p:cNvSpPr/>
          <p:nvPr/>
        </p:nvSpPr>
        <p:spPr>
          <a:xfrm>
            <a:off x="8604360" y="6354720"/>
            <a:ext cx="36036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3020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11280" y="692280"/>
            <a:ext cx="82087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结束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方正舒体"/>
              </a:rPr>
              <a:t>在我们的人生道路上，困难和挫折是无处不在的，面对困难和挫折，我们要像女排运动员和杨利伟那样勇于面对困难和挫折。既要敢拼、爱拼，而且还要会拼，这样在人生的道路上你一定能获得成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32360" y="522936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同学们，再见！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511360" cy="2819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06668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次出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2311200" cy="2692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2900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次得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771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次灌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姚明征战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13372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仇国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2590560" cy="2819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200400" y="5105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仇步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629400" y="762120"/>
            <a:ext cx="2057400" cy="2547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6294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挑翻湖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697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553080" y="32767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大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666880" cy="3206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767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挑战乔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2210040" cy="2666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2971800" cy="2001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4267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会巴特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571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力压邓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934320" y="4038480"/>
            <a:ext cx="1251000" cy="2230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14400" y="304920"/>
            <a:ext cx="3505320" cy="1447560"/>
          </a:xfrm>
          <a:prstGeom prst="cloudCallout">
            <a:avLst>
              <a:gd name="adj1" fmla="val -43750"/>
              <a:gd name="adj2" fmla="val 5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609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taccato222 BT"/>
                <a:ea typeface="隶书"/>
              </a:rPr>
              <a:t>诗朗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09680" y="2286000"/>
            <a:ext cx="533412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我就是我</a:t>
            </a:r>
            <a:endParaRPr b="1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57148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3440160" cy="3886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304776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4496040" cy="3124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191120" y="609480"/>
            <a:ext cx="4647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田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</a:rPr>
              <a:t>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800000"/>
                </a:solidFill>
                <a:latin typeface="Times New Roman"/>
              </a:rPr>
              <a:t>用嘴打电脑的女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3352680" cy="3809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973680" cy="4419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4495680" cy="4953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905120" y="1447920"/>
            <a:ext cx="3135240" cy="426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103640" y="2133720"/>
            <a:ext cx="3135240" cy="3429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45720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2133720" y="1905120"/>
            <a:ext cx="3209760" cy="419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380880" y="1143000"/>
            <a:ext cx="3505320" cy="4114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800520" y="1295280"/>
            <a:ext cx="4200480" cy="5181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2743200" y="68580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1600200" y="762120"/>
            <a:ext cx="6019920" cy="5790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6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400800" cy="3581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219320" y="304920"/>
            <a:ext cx="32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田甜做客焦点访谈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391520" y="228600"/>
            <a:ext cx="1295280" cy="53341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90720" y="990720"/>
            <a:ext cx="2191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面对挫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drumroll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5:23:06Z</dcterms:created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4:19Z</dcterms:modified>
  <cp:revision>1</cp:revision>
  <dc:subject>主题班会课件(分28大类): http://shop62905894.taobao.com</dc:subject>
  <dc:title>主题班会课件(分28大类): http://shop62905894.taobao.com</dc:title>
</cp:coreProperties>
</file>