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12.jpeg" ContentType="image/jpeg"/>
  <Override PartName="/ppt/media/image13.jpeg" ContentType="image/jpeg"/>
  <Override PartName="/ppt/media/image18.gif" ContentType="image/gif"/>
  <Override PartName="/ppt/media/image23.png" ContentType="image/png"/>
  <Override PartName="/ppt/media/image8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28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22.wmf" ContentType="image/x-wmf"/>
  <Override PartName="/ppt/media/image21.gif" ContentType="image/gif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9.jpeg" ContentType="image/jpeg"/>
  <Override PartName="/ppt/media/image4.jpeg" ContentType="image/jpeg"/>
  <Override PartName="/ppt/media/image25.png" ContentType="image/png"/>
  <Override PartName="/ppt/media/image2.png" ContentType="image/png"/>
  <Override PartName="/ppt/media/image27.gif" ContentType="image/gif"/>
  <Override PartName="/ppt/media/image1.jpeg" ContentType="image/jpeg"/>
  <Override PartName="/ppt/media/image3.jpeg" ContentType="image/jpeg"/>
  <Override PartName="/ppt/media/image2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4558-C023-4432-840F-D864950D0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0F6A-C33D-4EFA-A829-32ED662A7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7DD8-6F1E-47EE-A8F5-28AB184BC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2CA5-95B3-4DDD-8532-3AA98C7F3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54CF-83C5-4201-ACAF-4525B9908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CB46-4621-428B-9D50-85784916B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64CD-6BA3-44B6-A5F9-2985E3B13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70C5-68A8-470D-A512-AF8DA518E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2E95-44F3-4C15-ACDA-EE8F11C8A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DAB5-0653-4688-9A19-C6B12C321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0F68-4AAB-4625-B4A3-655217720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3B4E-1B1E-4A71-A260-984998697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8E2EE-AA0A-4929-9A0D-18C83481A0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&#21315;&#25163;&#35266;&#38899;.rm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png"/><Relationship Id="rId3" Type="http://schemas.openxmlformats.org/officeDocument/2006/relationships/hyperlink" Target="http://resource.smjy.net/staticres/2004/czpd/xsxt/04-05shang/rjb/c1yw/09/data/zstz.htm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725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98480" y="28954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990720" y="533520"/>
            <a:ext cx="5943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班会主题</a:t>
            </a: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: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2895480"/>
            <a:ext cx="61722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66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超越自我，唱响人生</a:t>
            </a:r>
            <a:endParaRPr b="0" lang="en-US" sz="1800" spc="1" strike="noStrike">
              <a:ln w="12600">
                <a:solidFill>
                  <a:srgbClr val="ff66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609480" y="380880"/>
            <a:ext cx="533412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9999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七嘴八舌</a:t>
            </a:r>
            <a:endParaRPr b="0" lang="en-US" sz="1800" spc="1" strike="noStrike">
              <a:ln w="9360">
                <a:solidFill>
                  <a:srgbClr val="009999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3" name=""/>
          <p:cNvSpPr/>
          <p:nvPr/>
        </p:nvSpPr>
        <p:spPr>
          <a:xfrm>
            <a:off x="762120" y="2743200"/>
            <a:ext cx="8076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当我们看到这些残疾人成功的事例时，我们觉得他们成功的原因是什么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066680" y="2565360"/>
            <a:ext cx="7467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谈谈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方正平和简体"/>
              </a:rPr>
              <a:t>我们在学习中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方正平和简体"/>
              </a:rPr>
              <a:t>生活中遇到的烦恼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、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方正平和简体"/>
              </a:rPr>
              <a:t>忧愁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、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方正平和简体"/>
              </a:rPr>
              <a:t>磨难和挫折等。妳是怎么对待的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5157720"/>
            <a:ext cx="8693280" cy="1143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651640" y="981000"/>
            <a:ext cx="252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762120" y="380880"/>
            <a:ext cx="518148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实话实说：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629400" y="533520"/>
            <a:ext cx="1866960" cy="18669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84360" y="1844640"/>
            <a:ext cx="7920000" cy="35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946d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946df"/>
                </a:solidFill>
                <a:latin typeface="Arial"/>
                <a:ea typeface="隶书"/>
              </a:rPr>
              <a:t>游戏目的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be0e3"/>
                </a:solidFill>
                <a:latin typeface="Arial"/>
                <a:ea typeface="隶书"/>
              </a:rPr>
              <a:t>      </a:t>
            </a: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隶书"/>
              </a:rPr>
              <a:t>体验挫折—成功—无悔的关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400" spc="-1" strike="noStrike">
                <a:solidFill>
                  <a:srgbClr val="0033cc"/>
                </a:solidFill>
                <a:latin typeface="隶书"/>
                <a:ea typeface="隶书"/>
              </a:rPr>
              <a:t>游戏：追求成功</a:t>
            </a: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39280" y="404640"/>
            <a:ext cx="8425080" cy="495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0" lang="zh-CN" sz="3200" spc="-1" strike="noStrike">
                <a:solidFill>
                  <a:srgbClr val="0946df"/>
                </a:solidFill>
                <a:latin typeface="隶书"/>
                <a:ea typeface="隶书"/>
              </a:rPr>
              <a:t>很久很久以前，在一座很高的山上住着一位名叫“成功”的神仙，这位神仙穿着一件敞开的外套，传说谁只要能找到这位神仙，并把他外套的拉链拉上，“成功”就可以实现这个人的梦想。可是山很高，路很远，路上还会遇到魔鬼的迫害。很多人去到半山就被魔鬼逼了回来，所以只有极少数人找到神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946df"/>
                </a:solidFill>
                <a:latin typeface="隶书"/>
                <a:ea typeface="隶书"/>
              </a:rPr>
              <a:t>      </a:t>
            </a:r>
            <a:r>
              <a:rPr b="0" lang="zh-CN" sz="3200" spc="-1" strike="noStrike">
                <a:solidFill>
                  <a:srgbClr val="0946df"/>
                </a:solidFill>
                <a:latin typeface="隶书"/>
                <a:ea typeface="隶书"/>
              </a:rPr>
              <a:t>可是，因为人们不愿意放弃自己的梦想，所以直到今天，还有人在不断地追寻“成功”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276720" y="333360"/>
            <a:ext cx="25905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隶书"/>
              </a:rPr>
              <a:t>游戏背景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5440" cy="1282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隶书"/>
              </a:rPr>
              <a:t>角色分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6421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登山者——单臂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/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瞎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魔鬼——恐吓、嘲笑、陷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天使——安慰、鼓励、指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隶书"/>
              </a:rPr>
              <a:t>说明：当登山者拉上拉链，请所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隶书"/>
              </a:rPr>
              <a:t>         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隶书"/>
              </a:rPr>
              <a:t>人为他们鼓掌，并大声说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隶书"/>
              </a:rPr>
              <a:t>           “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隶书"/>
              </a:rPr>
              <a:t>祝贺你，你成功了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隶书"/>
              </a:rPr>
              <a:t>!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8920" y="1197000"/>
            <a:ext cx="10429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700" spc="-1" strike="noStrike" u="sng">
                <a:solidFill>
                  <a:srgbClr val="000000"/>
                </a:solidFill>
                <a:uFillTx/>
                <a:latin typeface="Arial"/>
                <a:ea typeface="隶书"/>
              </a:rPr>
              <a:t>游戏说明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4419720" y="304920"/>
            <a:ext cx="1345680" cy="457200"/>
            <a:chOff x="4419720" y="304920"/>
            <a:chExt cx="1345680" cy="457200"/>
          </a:xfrm>
        </p:grpSpPr>
        <p:sp>
          <p:nvSpPr>
            <p:cNvPr id="101" name=""/>
            <p:cNvSpPr/>
            <p:nvPr/>
          </p:nvSpPr>
          <p:spPr>
            <a:xfrm>
              <a:off x="4419720" y="376560"/>
              <a:ext cx="286920" cy="288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 txBox="1"/>
            <p:nvPr/>
          </p:nvSpPr>
          <p:spPr>
            <a:xfrm>
              <a:off x="4851360" y="304920"/>
              <a:ext cx="91404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ff0066"/>
                    </a:solidFill>
                    <a:miter/>
                  </a:ln>
                  <a:solidFill>
                    <a:srgbClr val="00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隶书"/>
                </a:rPr>
                <a:t>神仙</a:t>
              </a:r>
              <a:endParaRPr b="1" lang="en-US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隶书"/>
                <a:ea typeface="隶书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4724280" y="5715000"/>
            <a:ext cx="1368360" cy="647640"/>
            <a:chOff x="4724280" y="5715000"/>
            <a:chExt cx="1368360" cy="647640"/>
          </a:xfrm>
        </p:grpSpPr>
        <p:sp>
          <p:nvSpPr>
            <p:cNvPr id="104" name=""/>
            <p:cNvSpPr/>
            <p:nvPr/>
          </p:nvSpPr>
          <p:spPr>
            <a:xfrm>
              <a:off x="4724280" y="5715000"/>
              <a:ext cx="1368360" cy="64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 txBox="1"/>
            <p:nvPr/>
          </p:nvSpPr>
          <p:spPr>
            <a:xfrm>
              <a:off x="4895640" y="5786280"/>
              <a:ext cx="93348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ff0066"/>
                    </a:solidFill>
                    <a:miter/>
                  </a:ln>
                  <a:solidFill>
                    <a:srgbClr val="00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隶书"/>
                </a:rPr>
                <a:t>讲台</a:t>
              </a:r>
              <a:endParaRPr b="1" lang="en-US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隶书"/>
                <a:ea typeface="隶书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050560" y="2133720"/>
            <a:ext cx="1081080" cy="3455640"/>
            <a:chOff x="2050560" y="2133720"/>
            <a:chExt cx="1081080" cy="3455640"/>
          </a:xfrm>
        </p:grpSpPr>
        <p:sp>
          <p:nvSpPr>
            <p:cNvPr id="107" name=""/>
            <p:cNvSpPr/>
            <p:nvPr/>
          </p:nvSpPr>
          <p:spPr>
            <a:xfrm>
              <a:off x="3131640" y="2133720"/>
              <a:ext cx="0" cy="3455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 txBox="1"/>
            <p:nvPr/>
          </p:nvSpPr>
          <p:spPr>
            <a:xfrm rot="5400000">
              <a:off x="1620360" y="3477600"/>
              <a:ext cx="1317600" cy="45756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ff0066"/>
                    </a:solidFill>
                    <a:miter/>
                  </a:ln>
                  <a:solidFill>
                    <a:srgbClr val="00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隶书"/>
                </a:rPr>
                <a:t>座位</a:t>
              </a:r>
              <a:endParaRPr b="1" lang="en-US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隶书"/>
                <a:ea typeface="隶书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7236000" y="2133720"/>
            <a:ext cx="0" cy="3455640"/>
            <a:chOff x="7236000" y="2133720"/>
            <a:chExt cx="0" cy="3455640"/>
          </a:xfrm>
        </p:grpSpPr>
        <p:sp>
          <p:nvSpPr>
            <p:cNvPr id="110" name=""/>
            <p:cNvSpPr/>
            <p:nvPr/>
          </p:nvSpPr>
          <p:spPr>
            <a:xfrm>
              <a:off x="7236000" y="2133720"/>
              <a:ext cx="0" cy="3455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4587840" y="1268280"/>
            <a:ext cx="2624040" cy="457200"/>
            <a:chOff x="4587840" y="1268280"/>
            <a:chExt cx="2624040" cy="457200"/>
          </a:xfrm>
        </p:grpSpPr>
        <p:sp>
          <p:nvSpPr>
            <p:cNvPr id="112" name=""/>
            <p:cNvSpPr/>
            <p:nvPr/>
          </p:nvSpPr>
          <p:spPr>
            <a:xfrm>
              <a:off x="4587840" y="1341360"/>
              <a:ext cx="21564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019480" y="134136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451120" y="134136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 txBox="1"/>
            <p:nvPr/>
          </p:nvSpPr>
          <p:spPr>
            <a:xfrm>
              <a:off x="5811480" y="1268280"/>
              <a:ext cx="14004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ff0066"/>
                    </a:solidFill>
                    <a:miter/>
                  </a:ln>
                  <a:solidFill>
                    <a:srgbClr val="00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隶书"/>
                </a:rPr>
                <a:t>登山者</a:t>
              </a:r>
              <a:endParaRPr b="1" lang="en-US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隶书"/>
                <a:ea typeface="隶书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003640" y="2492280"/>
            <a:ext cx="1035360" cy="2590560"/>
            <a:chOff x="5003640" y="2492280"/>
            <a:chExt cx="1035360" cy="2590560"/>
          </a:xfrm>
        </p:grpSpPr>
        <p:sp>
          <p:nvSpPr>
            <p:cNvPr id="117" name=""/>
            <p:cNvSpPr txBox="1"/>
            <p:nvPr/>
          </p:nvSpPr>
          <p:spPr>
            <a:xfrm rot="5400000">
              <a:off x="5343840" y="3593880"/>
              <a:ext cx="933120" cy="45720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ff0066"/>
                    </a:solidFill>
                    <a:miter/>
                  </a:ln>
                  <a:solidFill>
                    <a:srgbClr val="00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隶书"/>
                </a:rPr>
                <a:t>路线</a:t>
              </a:r>
              <a:endParaRPr b="1" lang="en-US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隶书"/>
                <a:ea typeface="隶书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003640" y="2492280"/>
              <a:ext cx="289080" cy="2590560"/>
            </a:xfrm>
            <a:prstGeom prst="downArrow">
              <a:avLst>
                <a:gd name="adj1" fmla="val 50000"/>
                <a:gd name="adj2" fmla="val 22403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286000" y="609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81080" y="60948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362320" y="114300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找借口，推卸责任，情绪低落，丧失信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133720" y="5335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向挫折屈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76920" y="1600200"/>
            <a:ext cx="24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事无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209680" y="411480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勇敢地战胜挫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09680" y="472428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明确的生活目标，不畏困难，力求进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876920" y="5257800"/>
            <a:ext cx="42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生活中的成功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95480" y="1828800"/>
            <a:ext cx="1676520" cy="22860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5486400"/>
            <a:ext cx="1676520" cy="22860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772400" y="3049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981080" y="22860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挑战而不能坚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438280" y="281952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意志不坚，缺乏恒心，最终放弃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3505320"/>
            <a:ext cx="1676520" cy="22860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876920" y="327672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碌碌无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828800" y="838080"/>
            <a:ext cx="380880" cy="4800600"/>
          </a:xfrm>
          <a:custGeom>
            <a:avLst/>
            <a:gdLst>
              <a:gd name="textAreaLeft" fmla="*/ 243360 w 380880"/>
              <a:gd name="textAreaRight" fmla="*/ 381240 w 380880"/>
              <a:gd name="textAreaTop" fmla="*/ 124920 h 4800600"/>
              <a:gd name="textAreaBottom" fmla="*/ 4675680 h 4800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77200" y="838080"/>
            <a:ext cx="13993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不同态度，不同人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476360" y="1413000"/>
            <a:ext cx="3527280" cy="1944720"/>
          </a:xfrm>
          <a:prstGeom prst="cloudCallout">
            <a:avLst>
              <a:gd name="adj1" fmla="val -43518"/>
              <a:gd name="adj2" fmla="val -4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imes New Roman"/>
                <a:ea typeface="隶书"/>
              </a:rPr>
              <a:t>坚持拼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---------- ---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443640" y="3429000"/>
            <a:ext cx="2700360" cy="2592360"/>
          </a:xfrm>
          <a:prstGeom prst="cloudCallout">
            <a:avLst>
              <a:gd name="adj1" fmla="val -43768"/>
              <a:gd name="adj2" fmla="val 6169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imes New Roman"/>
                <a:ea typeface="隶书"/>
              </a:rPr>
              <a:t>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imes New Roman"/>
                <a:ea typeface="隶书"/>
              </a:rPr>
              <a:t>不能、不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-----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11280" y="3645000"/>
            <a:ext cx="3095640" cy="2087640"/>
          </a:xfrm>
          <a:prstGeom prst="cloudCallout">
            <a:avLst>
              <a:gd name="adj1" fmla="val -19796"/>
              <a:gd name="adj2" fmla="val 5243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imes New Roman"/>
                <a:ea typeface="隶书"/>
              </a:rPr>
              <a:t>              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imes New Roman"/>
                <a:ea typeface="隶书"/>
              </a:rPr>
              <a:t>算了吧          足够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----------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-181080" y="1989000"/>
            <a:ext cx="223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行楷"/>
                <a:ea typeface="楷体_GB2312"/>
              </a:rPr>
              <a:t>挑战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5851440"/>
            <a:ext cx="341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行楷"/>
                <a:ea typeface="楷体_GB2312"/>
              </a:rPr>
              <a:t>半途而废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150680" y="6033960"/>
            <a:ext cx="196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行楷"/>
                <a:ea typeface="楷体_GB2312"/>
              </a:rPr>
              <a:t>放弃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5640" y="0"/>
            <a:ext cx="763272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华文行楷"/>
                <a:ea typeface="楷体_GB2312"/>
              </a:rPr>
              <a:t>请你将挑战者、半途而废者、放弃者在挫折面常用的词语填写在下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148360" y="1125360"/>
            <a:ext cx="2303280" cy="25927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3924360" y="3716280"/>
            <a:ext cx="23763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75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75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75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75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75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75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838080"/>
            <a:ext cx="91440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有一个天生失语的小女孩，爸爸在她很小的时候就去世了。她和妈妈相依为命。妈妈每天很早出去工作，很晚才回来。每到日落时分，小女孩就开始站在家门口，充满期待地望着门前的那条路，等妈妈回家。妈妈回来的时候是她一天中最快乐的时刻，因为妈妈每天都要给她带一块年糕回家。在她们贫穷的家里，一块小小的年糕都是无上的美味了啊。  </a:t>
            </a:r>
            <a:br>
              <a:rPr sz="2400"/>
            </a:b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       有一天，下着很大的雨，已经过了晚饭时间了，妈妈却还没有回来。小女孩站在家门口望啊望啊，总也等不到妈妈的身影。天，越来越黑，雨，越下越大，小女孩决定顺着妈妈每天回来的路自己去找妈妈。她走啊走啊，走了很远，终于在路边看见了倒在地上的妈妈。她使劲摇着妈妈的身体，妈妈却没有回答她。她以为妈妈太累，睡着了。就把妈妈的头枕在自己的腿上，想让妈妈睡得舒服一点。但是这时她发现，妈妈的眼睛没有闭上！小女孩突然明白：妈妈可能已经死了！她感到恐惧，拉过妈妈的手使劲摇晃，却发现妈妈的手里还紧紧地拽着一块年糕……她拼命地哭着，却发不出一点声音……  </a:t>
            </a:r>
            <a:br>
              <a:rPr sz="2400"/>
            </a:b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_x001c_  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80880" y="228600"/>
            <a:ext cx="2667240" cy="6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66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背景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66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533520" y="685800"/>
            <a:ext cx="80769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　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雨一直在下，小女孩也不知哭了多久。她知道妈妈再也不会醒来，现在就只剩下她自己。妈妈的眼睛为什么不闭上呢？她是因为不放心她吗？她突然明白了自己该怎样做。于是擦干眼泪，决定用自己的语言来告诉妈妈她一定会好好地活着，让妈妈放心地走……  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 小女孩就在雨中一遍一遍用手语做着这首《感恩的心》，泪水和雨水混在一起，从她小小的却写满坚强的脸上滑过…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.“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感恩的心，感谢有你，伴我一生，让我有勇气做我自己……感恩的心，感谢命运，花开花落，我一样会珍惜……”她就这样站在雨中不停歇地做着，一直到妈妈的眼睛终于闭上……  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23880" y="5867280"/>
            <a:ext cx="6324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请欣赏舞蹈</a:t>
            </a:r>
            <a:r>
              <a:rPr b="0" lang="zh-CN" sz="4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千手观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20400" y="95400"/>
            <a:ext cx="3852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0866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677520" cy="63244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 rot="5400000">
            <a:off x="-988920" y="1598400"/>
            <a:ext cx="3581640" cy="1603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02ab0"/>
                </a:solidFill>
                <a:latin typeface="宋体"/>
              </a:rPr>
              <a:t>手语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02ab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0" dur="1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1828800" y="457200"/>
            <a:ext cx="647712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cap="rnd" w="936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  <a:solidFill>
                  <a:srgbClr val="ff0000"/>
                </a:solidFill>
                <a:latin typeface="黑体"/>
              </a:rPr>
              <a:t>战胜并超越自己！</a:t>
            </a:r>
            <a:endParaRPr b="1" lang="en-US" sz="5400" spc="1" strike="noStrike">
              <a:ln cap="rnd" w="9360">
                <a:solidFill>
                  <a:srgbClr val="ffffff"/>
                </a:solidFill>
                <a:custDash>
                  <a:ds d="100000" sp="1000"/>
                </a:custDash>
                <a:miter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-380880" y="-685800"/>
            <a:ext cx="2822400" cy="32767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1905120" y="3657600"/>
            <a:ext cx="723888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唱响人生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4161960" y="971640"/>
            <a:ext cx="77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幼圆"/>
              </a:rPr>
              <a:t>用拼搏、用奋斗去创造希望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900000" y="2421000"/>
            <a:ext cx="7000920" cy="638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宋体"/>
              </a:rPr>
              <a:t>用拼搏、用奋斗去创造希望 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979720" cy="4343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971800" y="0"/>
            <a:ext cx="6172200" cy="43084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57200" y="4619520"/>
            <a:ext cx="830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看完这精彩的表演，没有人会想到这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21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位舞者是生活在无声世界的聋哑人，他们平均年龄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17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岁，最小的只有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13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岁。一个个没有声的世界的人，却舞动出那么动人的旋律，他们成功的背后该付出了多少时间和汗水呀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152280" y="0"/>
            <a:ext cx="9296280" cy="73152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5334120" y="0"/>
            <a:ext cx="3809880" cy="3809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952880" cy="38307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38862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领舞：邰丽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434340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当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具有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优美舞姿和娴静神情的邰丽华与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20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位同样生活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无声世界的伙伴站在舞台上，用千手千眼将爱撒向人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时，没有人还会记得他们身有残疾，剩下的只是心灵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震撼。邰丽华与伙伴们用汗水和努力证实，自己的意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和智慧也可以给人们带来纯净至美的艺术享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52280"/>
            <a:ext cx="9144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2004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年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月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28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日，在雅典残疾人奥运会闭幕式上，邰丽华带领中国残疾人艺术团聋人舞蹈队表演的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千手观音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震撼了世界，向全世界展示了灿烂的中华文化以及特殊艺术与人性之美，为中华民族赢得了荣耀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213372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邰丽华曾经用这样一段文字，精辟而质朴地概括了自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的人生哲学：“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其实所有人的人生都是一样的，有圆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缺有满有空，这是你不能选择的。但你可以选择看人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的角度，多看看人生的圆满，然后带着一颗快乐感恩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心去面对人生的不圆满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--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这就是我所领悟的生活真谛。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4651200"/>
            <a:ext cx="3200400" cy="2206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791320" y="4551480"/>
            <a:ext cx="3352680" cy="23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772400" y="518148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609480" y="2743200"/>
            <a:ext cx="75438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你还知道那些身残志坚的名人？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838080" y="838080"/>
            <a:ext cx="52578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了解了邰丽华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-81000"/>
            <a:ext cx="9829800" cy="6939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8600" y="4267080"/>
            <a:ext cx="8577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海伦凯勒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 在她一岁半的时候，一场重病 夺去了她的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力和听力，接着 ，她又丧失了语言表达能力。 在这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暗而又寂寞的世界里，她竟然学会了读书和说话，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以优 异的成绩毕业于美国哈佛大学，成为一个学识渊博的人。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886200" y="0"/>
            <a:ext cx="5257800" cy="3943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6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32097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81480" cy="47242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867280" y="0"/>
            <a:ext cx="3276720" cy="47624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04920" y="51814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黄阳光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用自己残缺的肢体，演绎着不再残缺的舞台人生。就像他的名字一样，生活的每一天，都充满了金色的阳光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-81000"/>
            <a:ext cx="9829800" cy="6939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28600" y="4495680"/>
            <a:ext cx="937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张海迪</a:t>
            </a:r>
            <a:r>
              <a:rPr b="1" lang="zh-CN" sz="2800" spc="-1" strike="noStrike">
                <a:solidFill>
                  <a:srgbClr val="302ab0"/>
                </a:solidFill>
                <a:latin typeface="Times New Roman"/>
              </a:rPr>
              <a:t> 著名作家</a:t>
            </a:r>
            <a:r>
              <a:rPr b="1" lang="zh-CN" sz="2800" spc="-1" strike="noStrike">
                <a:solidFill>
                  <a:srgbClr val="302ab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哲学博士，中共党员、中国残 疾人联合会副主席。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2001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年被新华社《环球》杂志评为“环球二十位最具影响力的世纪女性”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762120" y="0"/>
            <a:ext cx="2857320" cy="426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29200" y="0"/>
          <a:ext cx="3000240" cy="411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0"/>
                    <a:ext cx="30002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4132800" y="457200"/>
            <a:ext cx="6678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自强不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14:15:37Z</dcterms:created>
  <dc:creator>微软用户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6:13:15Z</dcterms:modified>
  <cp:revision>1</cp:revision>
  <dc:subject>主题班会课件(分28大类): http://shop62905894.taobao.com</dc:subject>
  <dc:title>主题班会课件(分28大类): http://shop62905894.taobao.com</dc:title>
</cp:coreProperties>
</file>