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D8E-D25E-4E2E-B8CD-204AA7E6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C0A-D582-439C-B57A-32E2C26A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44D-4973-4963-9EC2-154F1758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3FB-E62C-48CC-9A7C-89D39BB9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4B8-03F3-4DC4-B2CE-A38A8356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B5B-F22B-4701-9339-1E7CE32A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132E-AB83-4146-B777-17C1ECED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713-7139-48F1-A93A-70B5F11A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F9F-A077-4A7D-A6BA-369F3BBA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452-799A-4E06-94A7-BA5BAB93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1AF2-1704-4252-BF4F-D44641EC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1A32-6DA5-41AE-A36B-1EB2A030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098C-BA57-4826-9BC7-3FB735C096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348000" y="476280"/>
            <a:ext cx="2519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渴望成功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2060640"/>
            <a:ext cx="8459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有很多人都渴望成功，但是事实是只有那么一小部分人能够梦想成真，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81280" y="4659480"/>
            <a:ext cx="383832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因为我们选择的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过程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不同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54480" y="6707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1409760"/>
            <a:ext cx="828036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我们又何尝不是这样。我们漫不经心地“建造”自己的生活，不是积极行动，而是消极应付，凡事不肯精益求精，在关键时刻不能尽最大努力。等我们惊觉自己的处境，早已深困在自己建造的“房子”里了。</a:t>
            </a:r>
            <a:br>
              <a:rPr sz="2400"/>
            </a:b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　　把你当成那个木匠吧，想想你的房子，每天你敲进去一颗钉，加上去一块板，或者竖起一面墙，用你的智慧好好建造吧！你的生活是你一生唯一的创造，不能抹平重建，即使只有一天可活，那一天也要活得优美、高贵，墙上的铭牌上写着：“生活是自己创造的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8103240" y="61657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4720" y="83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参考评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8000" y="1125360"/>
            <a:ext cx="8964720" cy="2562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个农场主在巡视谷仓时不慎将一只名贵的金表遗失在谷仓里，他遍寻不获，便在农场门口贴了一张告示，要人们帮忙，悬赏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美元。人们面对重赏的诱惑，无不卖力地四处翻找，无奈谷仓内谷粒成山，还有成捆成捆的稻草，要想在其中找寻一块金表如同大海捞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人们忙到太阳下山仍没有找到金表，他们不是抱怨金表太小，就是抱怨谷仓太大、稻草太多，他们一个个放弃了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美元的诱惑。只有一个穿破衣的小孩在众人离开之后仍不死心，努力寻找，他已整整一天没吃饭，希望在天黑之前找到金表，解决一家人的吃饭困难。</a:t>
            </a:r>
            <a:br>
              <a:rPr sz="2400"/>
            </a:b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天越来越黑，小孩在谷仓内坚持寻找，突然他发现一切喧闹静下来后有一个奇特的声音“嘀答、滴答”不停地响着。</a:t>
            </a:r>
            <a:br>
              <a:rPr sz="2400"/>
            </a:b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小孩顿时停止寻找。谷仓内更加安静，滴答声响十分清晰。</a:t>
            </a:r>
            <a:br>
              <a:rPr sz="2400"/>
            </a:b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小孩循声找到了金表，最终得到了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美元。</a:t>
            </a:r>
            <a:br>
              <a:rPr sz="24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03640" y="0"/>
            <a:ext cx="2286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成功的法则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"/>
          <p:cNvSpPr/>
          <p:nvPr/>
        </p:nvSpPr>
        <p:spPr>
          <a:xfrm>
            <a:off x="426600" y="404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之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5280" y="1628640"/>
            <a:ext cx="84247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成功的法则其实很简单，而成功者之所以稀有，是因大多数人认为这些法则太简单了，没有坚持，不屑于去做。这个法则叫执著。成功如同谷仓内的金表，早已存在于我们周围，散布于人生的每个角落，只要执著地去寻找，专注而冷静地思考，我们就会听到那清晰的滴答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8030160" y="6093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1000" y="876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参考评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68200" y="1341360"/>
            <a:ext cx="869652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一行人去玩赛车。都是头一次玩，除了兴奋，还不免惴惴。玩赛车就是玩速度。胆大的，几圈过后，就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"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飞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"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起来了；胆小的，任别人一再超过他，也不紧不慢。    回来的路上，一行人仍谈论着赛车。有一位说：啊，今天终于有了风驰电掣的感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   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有一位说：我怎么老觉得不够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   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众人一听都笑。原来说“不够快”的，乃是一行人中速度最快者；而有了“风驰电掣的感觉”的，恰是其中最慢的那一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   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初听好笑，细想对极，一个因感觉“不够快”，才会越开越快；一个已感觉到“风驰电掣”了，当然不会再加速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987640" y="333360"/>
            <a:ext cx="280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保持进取之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499680" y="62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之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61280" y="549360"/>
            <a:ext cx="504216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拿破仑关于成功的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7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条定律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积极的心态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明确的目标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丰富的经历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正确的思考方法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高度的自制力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培养领导才能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建立自信心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迷人的个性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65960" y="528480"/>
            <a:ext cx="217692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 创新精神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充满热忱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1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专心致志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2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合作精神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3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正确看待失败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4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永葆进取之心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5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合理安排时间和金钱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6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保持身心健康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7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养成良好习惯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1125360"/>
            <a:ext cx="8640720" cy="1739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995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夏季对我们小镇中学来说异乎寻常，史无前例，两位女孩儿分摘中考冠、亚军：柳第一，我以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分之差屈居第二。乡村的女孩儿上学的本来就少，能上到初中并有如此的成绩更是凤毛麟角。因而，这一年，柳与我拥有相当的知名度。自然，没有谁注意总分少我近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分，位居第三的建军——一位矮小、沉默的男孩儿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    柳读中专。大家包括我羡慕不已，这意味着她可以不用交学费，每月拿津贴，更重要的是她已经高枕无忧地捧着“铁饭碗”了——这是当时的乡村人一生最大又最难企及的梦想。柳以她的第一获得了那惟一的名额，我和建军则负笈远行一百多公里到县城读高中。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  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132000" y="115920"/>
            <a:ext cx="3200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七年前和七年后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530280" y="404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585720"/>
            <a:ext cx="8767800" cy="155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巧得很，我与建军又在同一个班．按全县中考成绩排学号，我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号，建军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号。高中的课程有些难，特别是理科。月考的连连失利弄得我信心大减，我越来越偏科以至潜意识里放弃了理科，分班时顺理成章地进了文科班。同样因理科薄弱而进文科班的建军却一直稳中求进。从高一开始他就经常被值周老师当成小偷误抓，因为我们就寝时他躲着巡查跑到校园路灯下看书、做习题，更不用说周末我们逛街郊游时他却在教室埋头苦读。柳的校园生活可自在多了：从来不用为学业担心。她尽情唱歌跳舞，下乡考察，挥洒青春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4000" y="596880"/>
            <a:ext cx="8372160" cy="1373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996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高考，我被南昌大学录取，建军北上就读中国人民大学，柳中专毕业分配在镇政府从事着一份当地人羡慕的会计工作。我们三人又成为当地父母的话题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    大学四年，是我的流金岁月。我由一个怯怯的，逛街不知红绿灯的乡姑，逐步脱胎为自信、乐观、开朗的现代女孩。但我大量的时间是在忙着做家教，参加社团活动而忽视了学业。大一、大二时还与建军通信，他踌躇满志地准备读硕、读博，大段大段地谈他的专业，打电话去他宿舍，十有八九被告知在图书馆，逐渐地我们联系少了，而柳的来信少了飞扬的青春快乐，说的是单位里的是是非非，她恋爱了，分手了，又恋爱了，结婚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1424160"/>
            <a:ext cx="8713800" cy="94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临近毕业，我在浙江东阳找了一份教书的工作，五月底面试后我顺道回了趟小镇。柳已大腹便便，却没有做妈妈的幸福光彩，因为机构精简，她已下岗近三个月了，靠丈夫微薄的薪水艰难度日。而小镇此时到处传诵着一个振奋人心的消息：建军将留学德国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    几年之后，建军将以归国博士的身份衣锦还乡，而我，在东阳任教。至于柳，在那闭塞的乡镇，命运也许更坎坷。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3645720" y="1208160"/>
            <a:ext cx="113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做好你的每一件小事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2424600" y="2227320"/>
            <a:ext cx="306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生活由你自己创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4" action="ppaction://hlinksldjump"/>
          </p:cNvPr>
          <p:cNvSpPr/>
          <p:nvPr/>
        </p:nvSpPr>
        <p:spPr>
          <a:xfrm>
            <a:off x="2183400" y="3235320"/>
            <a:ext cx="22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成功的法则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5" action="ppaction://hlinksldjump"/>
          </p:cNvPr>
          <p:cNvSpPr/>
          <p:nvPr/>
        </p:nvSpPr>
        <p:spPr>
          <a:xfrm>
            <a:off x="2280240" y="4297320"/>
            <a:ext cx="25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永葆进取之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62160" y="58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 Black"/>
                <a:ea typeface="黑体"/>
              </a:rPr>
              <a:t>几点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276720" y="692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5435640" y="692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1619280" y="148428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1619280" y="457992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1619280" y="350028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1619280" y="249228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413000"/>
            <a:ext cx="9144000" cy="1739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荷兰，有一个刚初中毕业的青年农民，来到一个小镇，找到了一份替镇政府看门的工作。他在这个门卫的岗位上一直工作了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多年，他一生没有离开过这个小镇，也没有再换过工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也许是工作太清闲，他又太年轻，他得打发时间。他选择了又费时又费工的打磨镜片当自己的业余爱好。就这样，他磨呀磨，一磨就是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。他是那样的专注和细致，锲而不舍，他的技术已经超过专业技师了，他磨出的复合镜片的放大倍数，比他们的都要高。借着他研磨的镜片，他终于发现了当时科技尚未知晓的另一个广阔和世界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--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微生物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340000" y="260280"/>
            <a:ext cx="4114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一生磨一镜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6" name=""/>
          <p:cNvSpPr/>
          <p:nvPr/>
        </p:nvSpPr>
        <p:spPr>
          <a:xfrm>
            <a:off x="282240" y="47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之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692280"/>
            <a:ext cx="8642160" cy="143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从此，他声名大振，只有初中文化的他，被授予了他看来是高深莫测的巴黎科学院院士的头衔。就连英国女王都到小镇拜会过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创造这个奇迹的小人物，就是科学史上鼎鼎大名的、活了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90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岁的荷兰科学家万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·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列文虎克，他老老实实地把手头上的每一个玻璃片磨好，用尽毕生的心血，致力于每一个平淡无奇的细节的完善，终于他在他的细节里看到了他的上帝，科学也在他的细节里看到了自己更广阔的前景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8084160" y="6237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1917720"/>
            <a:ext cx="866124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有个老木匠准备退休，他告诉老板，说要离开建筑行业，回家与妻子儿女享受天伦之乐。老板舍不得他的好工人走，问他是否能帮忙再建一座房子，老木匠说可以。但是大家后来都看得出来，他的心已不在工作上，他用的是软料，出的是粗活。房子建好的时候，老板把大门的钥匙递给他。</a:t>
            </a:r>
            <a:br>
              <a:rPr sz="2400"/>
            </a:b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　　“这是你的房子，”他说，“我送给你的礼物。”</a:t>
            </a:r>
            <a:br>
              <a:rPr sz="2400"/>
            </a:b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　　他震惊得目瞪口呆，羞愧得无地自容。如果他早知道是在给自己建房子，他怎么会这样呢？现在他得住在一幢粗制滥造的房子里！</a:t>
            </a:r>
            <a:br>
              <a:rPr sz="2400"/>
            </a:b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916360" y="476280"/>
            <a:ext cx="32004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建造自己的房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426600" y="76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之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06:08:53Z</dcterms:created>
  <dc:creator>yinfeng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23:43Z</dcterms:modified>
  <cp:revision>59</cp:revision>
  <dc:subject>主题班会课件(分28大类): http://shop62905894.taobao.com</dc:subject>
  <dc:title>主题班会课件(分28大类): http://shop62905894.taobao.com</dc:title>
</cp:coreProperties>
</file>