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85A-099A-4F31-B47C-B6C7370A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760-68BB-4188-9F1B-0E1F3AD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815-89B6-4130-BF1B-4393E311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B17-15E7-4245-8A20-F38C4DC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5E6-EA0C-403D-835A-DF124C2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27A-ED48-4C22-B15F-6F05B32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491-FC79-40C5-AB0A-EA916C07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CEA-6A40-4ED0-8D59-22BE2DAB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E22-9E9F-49B6-AF74-6001C1E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C89-E1F2-459F-9C29-6F7E72F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DC5-A1DA-4AE6-A24E-D197400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B6A-B739-49DE-9531-95F7B1A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3D38-7440-410A-BC22-BF670C37C0A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057400"/>
            <a:ext cx="842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方正舒体"/>
                <a:ea typeface="方正舒体"/>
              </a:rPr>
              <a:t>活 </a:t>
            </a:r>
            <a:r>
              <a:rPr b="0" lang="zh-CN" sz="6000" spc="-1" strike="noStrike">
                <a:solidFill>
                  <a:srgbClr val="ffff00"/>
                </a:solidFill>
                <a:latin typeface="方正舒体"/>
                <a:ea typeface="方正舒体"/>
              </a:rPr>
              <a:t>着</a:t>
            </a:r>
            <a:r>
              <a:rPr b="0" lang="zh-TW" sz="6000" spc="-1" strike="noStrike">
                <a:solidFill>
                  <a:srgbClr val="ffff00"/>
                </a:solidFill>
                <a:latin typeface="方正舒体"/>
                <a:ea typeface="方正舒体"/>
              </a:rPr>
              <a:t> 的 每 一 天</a:t>
            </a:r>
            <a:r>
              <a:rPr b="1" lang="zh-TW" sz="6000" spc="-1" strike="noStrike">
                <a:solidFill>
                  <a:srgbClr val="ffff00"/>
                </a:solidFill>
                <a:latin typeface="汉仪雪峰体简"/>
                <a:ea typeface="汉仪雪峰体简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都 是 </a:t>
            </a:r>
            <a:r>
              <a:rPr b="0" lang="zh-CN" sz="6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特 别</a:t>
            </a:r>
            <a:r>
              <a:rPr b="0" lang="zh-TW" sz="6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 的 日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96720" y="0"/>
            <a:ext cx="10332720" cy="7356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052640"/>
            <a:ext cx="7774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宋体"/>
                <a:ea typeface="宋体"/>
              </a:rPr>
              <a:t>以後，每當我想起這幾句話時，</a:t>
            </a:r>
            <a:br>
              <a:rPr sz="4000"/>
            </a:br>
            <a:r>
              <a:rPr b="1" lang="zh-TW" sz="4000" spc="-1" strike="noStrike">
                <a:solidFill>
                  <a:srgbClr val="ff6600"/>
                </a:solidFill>
                <a:latin typeface="宋体"/>
                <a:ea typeface="宋体"/>
              </a:rPr>
              <a:t>我常會把手邊的雜事放下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找一本小說，打開音響，躺在沙發上，抓住一些自己的時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133720"/>
            <a:ext cx="81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宋体"/>
                <a:ea typeface="宋体"/>
              </a:rPr>
              <a:t>生活應當是我們珍惜的一種經驗，而不是要捱過去的日子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宋体"/>
                <a:ea typeface="宋体"/>
              </a:rPr>
              <a:t>我會從落地窗欣賞淡水河的景色，不去管玻璃上的灰塵</a:t>
            </a:r>
            <a:r>
              <a:rPr b="1" lang="zh-TW" sz="4000" spc="-1" strike="noStrike">
                <a:solidFill>
                  <a:srgbClr val="ffffff"/>
                </a:solidFill>
                <a:latin typeface="Arial"/>
                <a:ea typeface="華康古印體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我會拉著太太到外面去吃飯，不管家裡的菜飯該怎麼處理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6320"/>
            <a:ext cx="91440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宋体"/>
                <a:ea typeface="宋体"/>
              </a:rPr>
              <a:t>我曾經將這段談話與一位女士分享，　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宋体"/>
                <a:ea typeface="宋体"/>
              </a:rPr>
              <a:t>後來見面時，她告訴我她現在已不像從前那樣，　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宋体"/>
                <a:ea typeface="宋体"/>
              </a:rPr>
              <a:t>把美麗的磁具放在酒櫃裡了。</a:t>
            </a: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　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以前她也以為要留待特別的日子才拿出來用，</a:t>
            </a:r>
            <a:br>
              <a:rPr sz="5400"/>
            </a:b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後來發現那一天從未到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31608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57720"/>
            <a:ext cx="882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「將來」，「總有一天」已經不存在她的字典裡了。　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如果有什麼值得高興的事，有什麼得意的事，她現在就要聽到，就要看到。　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692280"/>
            <a:ext cx="84610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我們常想跟老朋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聚一聚，但總是說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「找機會」。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　</a:t>
            </a:r>
            <a:br>
              <a:rPr sz="4000"/>
            </a:b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1015056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836640"/>
            <a:ext cx="95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我們常想擁抱一下已經長大的小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但總是等適當的時機</a:t>
            </a:r>
            <a:r>
              <a:rPr b="1" lang="zh-TW" sz="3600" spc="-1" strike="noStrike">
                <a:solidFill>
                  <a:srgbClr val="ffff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我們常想寫封信給另外一半，表達一下濃郁的情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或甚至想讓他知道你很佩服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，但總是告訴自己</a:t>
            </a: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不急。</a:t>
            </a: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標楷體"/>
              </a:rPr>
              <a:t>　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3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你看完這篇短文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可以馬上起身去擦桌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或洗碗；　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24300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89000"/>
            <a:ext cx="8642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宋体"/>
                <a:ea typeface="宋体"/>
              </a:rPr>
              <a:t>其實每天早上我們睜開眼睛時，都要告訴自己這是特別的一天。</a:t>
            </a:r>
            <a:br>
              <a:rPr sz="4000"/>
            </a:br>
            <a:r>
              <a:rPr b="1" lang="zh-TW" sz="4000" spc="-1" strike="noStrike">
                <a:solidFill>
                  <a:srgbClr val="333399"/>
                </a:solidFill>
                <a:latin typeface="宋体"/>
                <a:ea typeface="宋体"/>
              </a:rPr>
              <a:t>每一天，每一分鐘都是那麼可貴。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3300"/>
                </a:solidFill>
                <a:latin typeface="宋体"/>
                <a:ea typeface="宋体"/>
              </a:rPr>
              <a:t>有人說：你該盡情的跳舞，好像沒有人在看你一樣。　</a:t>
            </a:r>
            <a:br>
              <a:rPr sz="4800"/>
            </a:br>
            <a:r>
              <a:rPr b="1" lang="zh-TW" sz="4800" spc="-1" strike="noStrike">
                <a:solidFill>
                  <a:srgbClr val="cc3300"/>
                </a:solidFill>
                <a:latin typeface="宋体"/>
                <a:ea typeface="宋体"/>
              </a:rPr>
              <a:t>你該盡情的愛人，好像從來不會受傷害一樣。</a:t>
            </a:r>
            <a:br>
              <a:rPr sz="4800"/>
            </a:br>
            <a:r>
              <a:rPr b="1" lang="zh-TW" sz="4800" spc="-1" strike="noStrike">
                <a:solidFill>
                  <a:srgbClr val="cc3300"/>
                </a:solidFill>
                <a:latin typeface="宋体"/>
                <a:ea typeface="宋体"/>
              </a:rPr>
              <a:t>我也要盡情的跳舞，盡情的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86064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你呢？　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第一件事是不是與好朋友分享這想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lackletter686 BT"/>
                <a:ea typeface="黑体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0200"/>
            <a:ext cx="9144000" cy="653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宋体"/>
              </a:rPr>
              <a:t>可以把報紙放一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宋体"/>
              </a:rPr>
              <a:t>閉起眼睛 沈思一會；　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宋体"/>
              </a:rPr>
              <a:t>也可以把這篇短文剪下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宋体"/>
              </a:rPr>
              <a:t>傳真給很多朋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1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宋体"/>
              </a:rPr>
              <a:t>當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宋体"/>
              </a:rPr>
              <a:t>我最希望你選擇最後這一 項，　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宋体"/>
              </a:rPr>
              <a:t>誰知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宋体"/>
              </a:rPr>
              <a:t>你可能會改變很多人的一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多年前我跟高雄的一位同學談話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700280"/>
            <a:ext cx="765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宋体"/>
                <a:ea typeface="宋体"/>
              </a:rPr>
              <a:t>那時</a:t>
            </a: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他太太剛去世不久，　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他告訴我說，他在整理他太太的東西的時候，　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發現了一條絲質的圍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07664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宋体"/>
                <a:ea typeface="宋体"/>
              </a:rPr>
              <a:t>那是他們去紐約旅遊時，在一家名牌店買的。</a:t>
            </a: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　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宋体"/>
                <a:ea typeface="宋体"/>
              </a:rPr>
              <a:t>那是一條雅致、漂亮的名牌圍巾，高昂的價格標籤還掛在上面。</a:t>
            </a:r>
            <a:r>
              <a:rPr b="1" lang="zh-TW" sz="3200" spc="-1" strike="noStrike">
                <a:solidFill>
                  <a:srgbClr val="ffff00"/>
                </a:solidFill>
                <a:latin typeface="宋体"/>
                <a:ea typeface="宋体"/>
              </a:rPr>
              <a:t>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387360"/>
            <a:ext cx="9144000" cy="724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-243000"/>
            <a:ext cx="89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他太太一直捨不得用，她想等一個特殊的日子才用。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講到這裡，他停住了，我也沒接話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612880"/>
            <a:ext cx="8532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好一會後他說，再也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把好東西留到特別的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才用 ， 你活著的每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宋体"/>
                <a:ea typeface="宋体"/>
              </a:rPr>
              <a:t>都是特別的日子。</a:t>
            </a:r>
            <a:r>
              <a:rPr b="1" lang="zh-TW" sz="4400" spc="-1" strike="noStrike">
                <a:solidFill>
                  <a:srgbClr val="ffff00"/>
                </a:solidFill>
                <a:latin typeface="宋体"/>
                <a:ea typeface="宋体"/>
              </a:rPr>
              <a:t>　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6:03:45Z</dcterms:created>
  <dc:creator>CLA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4:45Z</dcterms:modified>
  <cp:revision>20</cp:revision>
  <dc:subject>主题班会课件(分28大类): http://shop62905894.taobao.com</dc:subject>
  <dc:title>主题班会课件(分28大类): http://shop62905894.taobao.com</dc:title>
</cp:coreProperties>
</file>