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2.gif" ContentType="image/gif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4EF-7B21-4944-B6E7-529EA4DB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E0E-61BD-4D59-A1DF-AB644116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C0A-673B-4E11-AECF-1FCC77AD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6FA-EEED-4AC1-A26C-85E1CC36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0C2C-13A1-42BF-A0B7-29F69DE5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77D1-456C-407F-A3D3-F6756338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D58D-15E0-44A6-A688-C6848C3F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F0FB-C6BC-4757-8C04-D252DD0F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C22A-EDCE-46D1-8647-3E18E313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1AE2-B091-4590-933D-6C72F644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C4F0-A306-47CE-9829-AF5AFB3E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AE6-9C04-497A-A59E-FF13D071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0593-DB96-4291-A680-61D84D83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A569-E414-4260-84A9-FE89783B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78D9-2B59-433E-A29B-2E01E671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2073-F8B9-4AD9-A92A-1D7A20EE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1543-01E1-4C1A-A0FE-64842425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F9F-C94B-4F57-975A-1391FBC1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FAEF-73FB-4CB5-87F6-A491E632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B6DC-B120-4171-9C5F-718C3CA5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413-F946-4692-82A8-B95C38D1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855-115C-4E83-B958-170054A4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8D9-69DF-4230-A365-E222D23D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93C-7911-426C-A29C-115CEC18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E394-6342-4EFA-81AD-A5BAC7C0319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6ECE-F8EE-437B-BC2D-9EE360A0A0B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549360"/>
            <a:ext cx="7770600" cy="272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00"/>
                </a:solidFill>
                <a:latin typeface="Arial"/>
                <a:ea typeface="隶书"/>
              </a:rPr>
              <a:t>治学三境界</a:t>
            </a:r>
            <a:br>
              <a:rPr sz="11700"/>
            </a:br>
            <a:r>
              <a:rPr b="1" lang="zh-CN" sz="4400" spc="-1" strike="noStrike">
                <a:solidFill>
                  <a:srgbClr val="00ffff"/>
                </a:solidFill>
                <a:latin typeface="隶书"/>
                <a:ea typeface="隶书"/>
              </a:rPr>
              <a:t>——有关求学的点点滴滴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818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华文新魏"/>
              </a:rPr>
              <a:t>望望蓝天重新振作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低下头来努力拼搏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cc66"/>
                </a:solidFill>
                <a:latin typeface="Arial"/>
                <a:ea typeface="隶书"/>
              </a:rPr>
              <a:t>   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52480" y="19051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昨夜西风凋碧树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独上高楼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望尽天涯路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914400"/>
            <a:ext cx="6858000" cy="11430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imes New Roman"/>
                <a:ea typeface="隶书"/>
              </a:rPr>
              <a:t>第一境界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ff00"/>
                </a:solidFill>
                <a:latin typeface="Arial"/>
                <a:ea typeface="隶书"/>
              </a:rPr>
              <a:t>志当存高远</a:t>
            </a:r>
            <a:endParaRPr b="0" lang="en-US" sz="10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800100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Arial Unicode MS"/>
                <a:ea typeface="隶书"/>
              </a:rPr>
              <a:t>        </a:t>
            </a:r>
            <a:r>
              <a:rPr b="0" lang="zh-CN" sz="4800" spc="-1" strike="noStrike">
                <a:solidFill>
                  <a:srgbClr val="ffff66"/>
                </a:solidFill>
                <a:latin typeface="Arial Unicode MS"/>
                <a:ea typeface="隶书"/>
              </a:rPr>
              <a:t>宗悫，字元干，南阳人也。叔父炳，高尚不仕。悫年少时，炳问其志，悫曰： “</a:t>
            </a:r>
            <a:r>
              <a:rPr b="0" lang="zh-CN" sz="4800" spc="-1" strike="noStrike">
                <a:solidFill>
                  <a:srgbClr val="ffffff"/>
                </a:solidFill>
                <a:latin typeface="Arial Unicode MS"/>
                <a:ea typeface="隶书"/>
              </a:rPr>
              <a:t>愿乘长风破万里浪。</a:t>
            </a:r>
            <a:r>
              <a:rPr b="0" lang="zh-CN" sz="4800" spc="-1" strike="noStrike">
                <a:solidFill>
                  <a:srgbClr val="ffff66"/>
                </a:solidFill>
                <a:latin typeface="Arial Unicode MS"/>
                <a:ea typeface="隶书"/>
              </a:rPr>
              <a:t>”炳曰：“汝不富贵，即破我家矣。”</a:t>
            </a:r>
            <a:r>
              <a:rPr b="0" lang="zh-CN" sz="4800" spc="-1" strike="noStrike">
                <a:solidFill>
                  <a:srgbClr val="ffff66"/>
                </a:solidFill>
                <a:latin typeface="隶书"/>
                <a:ea typeface="隶书"/>
              </a:rPr>
              <a:t> 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ffff66"/>
                </a:solidFill>
                <a:latin typeface="隶书"/>
                <a:ea typeface="隶书"/>
              </a:rPr>
              <a:t>      ——《宋书</a:t>
            </a:r>
            <a:r>
              <a:rPr b="0" lang="zh-CN" sz="4800" spc="-1" strike="noStrike">
                <a:solidFill>
                  <a:srgbClr val="ffff66"/>
                </a:solidFill>
                <a:latin typeface="隶书"/>
                <a:ea typeface="隶书"/>
              </a:rPr>
              <a:t>.</a:t>
            </a:r>
            <a:r>
              <a:rPr b="0" lang="zh-CN" sz="4800" spc="-1" strike="noStrike">
                <a:solidFill>
                  <a:srgbClr val="ffff66"/>
                </a:solidFill>
                <a:latin typeface="Arial Unicode MS"/>
                <a:ea typeface="隶书"/>
              </a:rPr>
              <a:t>宗悫传》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庄子《逍遥游》：</a:t>
            </a:r>
            <a:r>
              <a:rPr b="0" lang="zh-CN" sz="54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1404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6633"/>
                </a:solidFill>
                <a:latin typeface="Times New Roman"/>
                <a:ea typeface="隶书"/>
              </a:rPr>
              <a:t>        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北冥有鱼，其名为鲲。鲲之大，不知其几千里也；化而为鸟，其名为鹏。鹏之背，不知其几千里也；怒而飞，其翼若垂天之云。是鸟也，海运则将徙于南冥。南冥者，天池也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424720" cy="51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zh-CN" sz="5400" spc="-1" strike="noStrike">
                <a:solidFill>
                  <a:srgbClr val="ffcc66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……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蜩与学鸠笑之曰：“我决起而飞，抢榆枋而止，时则不至，而控于地而已矣；奚以之九万里而南为？”</a:t>
            </a:r>
            <a:br>
              <a:rPr sz="4800"/>
            </a:br>
            <a:br>
              <a:rPr sz="54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62120" y="3276720"/>
            <a:ext cx="73152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——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弃燕雀之小志，</a:t>
            </a:r>
            <a:br>
              <a:rPr sz="4800"/>
            </a:b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   慕鸿鹄以高翔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09480" y="590040"/>
            <a:ext cx="7925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隶书"/>
                <a:ea typeface="隶书"/>
              </a:rPr>
              <a:t>*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故立志者，为学之心也；为学者，立志之事也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——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王阳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隶书"/>
                <a:ea typeface="隶书"/>
              </a:rPr>
              <a:t>* </a:t>
            </a:r>
            <a:r>
              <a:rPr b="0" lang="zh-CN" sz="4400" spc="-1" strike="noStrike">
                <a:solidFill>
                  <a:srgbClr val="ff33cc"/>
                </a:solidFill>
                <a:latin typeface="隶书"/>
                <a:ea typeface="隶书"/>
              </a:rPr>
              <a:t>我从来不把安逸和快乐看作是生活目的本身</a:t>
            </a:r>
            <a:r>
              <a:rPr b="0" lang="zh-CN" sz="4400" spc="-1" strike="noStrike">
                <a:solidFill>
                  <a:srgbClr val="ff33cc"/>
                </a:solidFill>
                <a:latin typeface="隶书"/>
                <a:ea typeface="隶书"/>
              </a:rPr>
              <a:t>---</a:t>
            </a:r>
            <a:r>
              <a:rPr b="0" lang="zh-CN" sz="4400" spc="-1" strike="noStrike">
                <a:solidFill>
                  <a:srgbClr val="ff33cc"/>
                </a:solidFill>
                <a:latin typeface="隶书"/>
                <a:ea typeface="隶书"/>
              </a:rPr>
              <a:t>这种伦理基础，我叫它猪栏的理想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隶书"/>
                <a:ea typeface="隶书"/>
              </a:rPr>
              <a:t>             —— </a:t>
            </a:r>
            <a:r>
              <a:rPr b="0" lang="zh-CN" sz="4400" spc="-1" strike="noStrike">
                <a:solidFill>
                  <a:srgbClr val="ff33cc"/>
                </a:solidFill>
                <a:latin typeface="隶书"/>
                <a:ea typeface="隶书"/>
              </a:rPr>
              <a:t>爱因斯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2941560"/>
            <a:ext cx="6858000" cy="360"/>
            <a:chOff x="0" y="2941560"/>
            <a:chExt cx="6858000" cy="360"/>
          </a:xfrm>
        </p:grpSpPr>
        <p:sp>
          <p:nvSpPr>
            <p:cNvPr id="128" name=""/>
            <p:cNvSpPr/>
            <p:nvPr/>
          </p:nvSpPr>
          <p:spPr>
            <a:xfrm>
              <a:off x="0" y="294156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294156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57200" y="2941560"/>
            <a:ext cx="82296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r>
              <a:rPr b="0" lang="zh-CN" sz="5400" spc="-1" strike="noStrike">
                <a:solidFill>
                  <a:srgbClr val="66ff33"/>
                </a:solidFill>
                <a:latin typeface="华文行楷"/>
                <a:ea typeface="华文行楷"/>
              </a:rPr>
              <a:t>*</a:t>
            </a: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个人都应该有自己心中的清华。</a:t>
            </a: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生定位：为什么学习</a:t>
            </a: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*</a:t>
            </a: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瞄准星星固然射不到， 但总比瞄准树枝射的远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43200" y="457200"/>
            <a:ext cx="4267080" cy="11430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长远目标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2819520"/>
            <a:ext cx="4343400" cy="11430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中期目标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5105520"/>
            <a:ext cx="4191120" cy="121896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近期目标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1676520"/>
            <a:ext cx="137160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4038480"/>
            <a:ext cx="1447920" cy="1067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523880" y="2819520"/>
            <a:ext cx="1143000" cy="304776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533520 h 3047760"/>
              <a:gd name="textAreaBottom" fmla="*/ 221004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086600" y="380520"/>
            <a:ext cx="1066680" cy="32767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752480" y="19807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33"/>
                </a:solidFill>
                <a:latin typeface="Times New Roman"/>
                <a:ea typeface="隶书"/>
              </a:rPr>
              <a:t>衣带渐宽终不悔，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33"/>
                </a:solidFill>
                <a:latin typeface="Times New Roman"/>
                <a:ea typeface="隶书"/>
              </a:rPr>
              <a:t>为伊消得人憔悴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29528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ff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imes New Roman"/>
                <a:ea typeface="隶书"/>
              </a:rPr>
              <a:t>第二境界</a:t>
            </a:r>
            <a:endParaRPr b="0" lang="en-US" sz="8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Times New Roman"/>
                <a:ea typeface="隶书"/>
              </a:rPr>
              <a:t>*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昨夜西风凋碧树，独上高楼，望尽天涯路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*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衣带渐宽终不悔，为伊消得人憔悴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*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众里寻他千百度，蓦然回首，那人却在灯火阑珊处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37160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把握生命里的每一分钟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440" y="2971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全力以赴我们心中的梦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30456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* 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每一分钟的奋斗都关系着目标的实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* 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流汗不流泪，掉肉不掉队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* 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平时如战时，战时如平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* 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思考才是勤奋（学法、应试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600" y="90756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有志者善于：</a:t>
            </a:r>
            <a:r>
              <a:rPr b="0" lang="zh-CN" sz="8000" spc="-1" strike="noStrike">
                <a:solidFill>
                  <a:srgbClr val="66ff33"/>
                </a:solidFill>
                <a:latin typeface="Times New Roman"/>
                <a:ea typeface="隶书"/>
              </a:rPr>
              <a:t>总结昨天，计划明天，奋斗今天！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129564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81080" y="304560"/>
            <a:ext cx="6858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1828800"/>
            <a:ext cx="1066680" cy="312408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斗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914400"/>
            <a:ext cx="289548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计划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2362320"/>
            <a:ext cx="2819520" cy="83808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规律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962520"/>
            <a:ext cx="2743200" cy="83808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意志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5562720"/>
            <a:ext cx="2743200" cy="76176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认真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371600" y="114264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1447920"/>
            <a:ext cx="2971800" cy="8380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每  学  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2666880"/>
            <a:ext cx="3048120" cy="83844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每    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4038480"/>
            <a:ext cx="2971800" cy="83844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每    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5486400"/>
            <a:ext cx="2971800" cy="8380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每    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752480"/>
            <a:ext cx="2209680" cy="9907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留有余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4648320"/>
            <a:ext cx="2209680" cy="9903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严格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523880" y="228600"/>
            <a:ext cx="6553440" cy="99072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imes New Roman"/>
                <a:ea typeface="隶书"/>
              </a:rPr>
              <a:t>计划性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600200"/>
            <a:ext cx="2666880" cy="152388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生活规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2895480"/>
            <a:ext cx="1371600" cy="160020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2971800"/>
            <a:ext cx="2590920" cy="152388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学习效率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04560" y="419112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4343400"/>
            <a:ext cx="2590920" cy="152388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学习规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371240" y="380880"/>
            <a:ext cx="6705720" cy="99072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imes New Roman"/>
                <a:ea typeface="隶书"/>
              </a:rPr>
              <a:t>规律性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621560" cy="51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故天将降大任于是人也，必先苦其心志，劳其筋骨，饿其体肤，空乏其身，行拂乱其所为，所以动心忍性，曾益其所不能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     ——</a:t>
            </a: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《孟子</a:t>
            </a: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.</a:t>
            </a: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告子上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010640" cy="99072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imes New Roman"/>
                <a:ea typeface="隶书"/>
              </a:rPr>
              <a:t>意志力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676440"/>
            <a:ext cx="9144000" cy="55051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</a:t>
            </a:r>
            <a:r>
              <a:rPr b="0" lang="zh-CN" sz="7200" spc="-1" strike="noStrike">
                <a:solidFill>
                  <a:srgbClr val="66ff33"/>
                </a:solidFill>
                <a:latin typeface="华文行楷"/>
                <a:ea typeface="华文行楷"/>
              </a:rPr>
              <a:t>只要人生还没有结束，一切都不会成定局。</a:t>
            </a:r>
            <a:br>
              <a:rPr sz="7200"/>
            </a:b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ff"/>
                </a:solidFill>
                <a:latin typeface="Arial"/>
                <a:ea typeface="华文行楷"/>
              </a:rPr>
              <a:t>       </a:t>
            </a: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华文行楷"/>
              </a:rPr>
              <a:t>一个人最可贵的品质是不躲避困难，不畏惧压力，不害怕失败，不屈从命运！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部老师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请原谅我以这种方式和您谈话。因为我想有很多内容是无法用语言表达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我感觉自己要崩溃了！我真的很想大哭一场，却挤不出半点泪水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高考前的最后一次考试过去了，我害怕知道结果。因为这是我最糟糕的一次考试。我希望这是我这一年中最大的遗憾，而不是高考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就在今天以前，我还一直认为自己正在长大，心理上也日趋成熟。而今天短短的几十分钟就让我的心理防线全面崩溃，忽然一下子真正认识了自己，还是原来那个脆弱的小女孩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我微笑的面对每一天、每一个人，因为我想给别人带来快乐，也想给自己带来快乐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95280" y="914400"/>
            <a:ext cx="6705720" cy="11430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高瞻远瞩立大志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2743200"/>
            <a:ext cx="6705720" cy="11430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心甘情愿吃大苦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4724280"/>
            <a:ext cx="6705720" cy="11430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百折不回立大业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560" y="380880"/>
            <a:ext cx="8569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可是，我真的快乐过吗？从五岁一直到现在，我好象总是生活在考试与分数之中，生活在名次与升学之中。一切都由不得我做主，我唯一能做的只是学习，去读那些枯燥无味的书，去做漫无边际的题。也许这些话让您很吃惊。的确，在所有老师眼里，我都是那种乖巧、听话、好学的好孩子。其实，每个人的骨子里都藏着背叛，我也不例外，只是我在竭力地把它藏好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话有些扯远了，我也不知道为什么要对你说这些。也许是因为你是我最信任的人的缘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说了这么多，感觉好多了。您不必为我担心，我会努力走好每一步，勇敢地面对生活的挑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谢谢您读完了这些凌乱的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胡灵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03.5.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7200" spc="-1" strike="noStrike">
              <a:solidFill>
                <a:srgbClr val="ffcc66"/>
              </a:solidFill>
              <a:latin typeface="Arial"/>
              <a:ea typeface="隶书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东汉时有一少年名叫陈蕃，独居一室而庭院却脏乱不堪。其父朋友薛勤见状批评他，他却答道：“大丈夫处世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当扫除天下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安事一屋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?"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薛勤当即反问：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一屋不扫，何以扫天下？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”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304920"/>
            <a:ext cx="6172200" cy="106668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imes New Roman"/>
                <a:ea typeface="隶书"/>
              </a:rPr>
              <a:t>认真劲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7200" spc="-1" strike="noStrike">
              <a:solidFill>
                <a:srgbClr val="ffcc66"/>
              </a:solidFill>
              <a:latin typeface="Arial"/>
              <a:ea typeface="隶书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120" y="30456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*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学习和生活最需要的就是认真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*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能够认真对待生活的人，才能认真对待学习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*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小事的认真是最重要的，只有认真做好生活和学习中的所有小事，才有可能做成大事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ffff66"/>
                </a:solidFill>
                <a:latin typeface="华文行楷"/>
                <a:ea typeface="华文行楷"/>
              </a:rPr>
              <a:t>        </a:t>
            </a:r>
            <a:r>
              <a:rPr b="0" lang="zh-CN" sz="6600" spc="-1" strike="noStrike">
                <a:solidFill>
                  <a:srgbClr val="ffff66"/>
                </a:solidFill>
                <a:latin typeface="华文行楷"/>
                <a:ea typeface="华文行楷"/>
              </a:rPr>
              <a:t>想想，有多少人在关注着我</a:t>
            </a:r>
            <a:br>
              <a:rPr sz="6600"/>
            </a:b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4400" y="1504800"/>
            <a:ext cx="9102600" cy="3814920"/>
            <a:chOff x="14400" y="1504800"/>
            <a:chExt cx="9102600" cy="381492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4400" y="1504800"/>
              <a:ext cx="9102600" cy="16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133720" y="3886200"/>
              <a:ext cx="4724280" cy="1433520"/>
            </a:xfrm>
            <a:prstGeom prst="rect">
              <a:avLst/>
            </a:prstGeom>
            <a:noFill/>
            <a:ln w="0">
              <a:noFill/>
            </a:ln>
            <a:effectLst>
              <a:outerShdw dist="357721" dir="5767421" blurRad="0" rotWithShape="0">
                <a:srgbClr val="99ff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randomBar dir="vert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129528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Arial"/>
              </a:rPr>
              <a:t>父母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90920" y="533160"/>
            <a:ext cx="5943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我可爱的弟子们哪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你们可曾理解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父母已成为两头点燃的蜡烛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一头点燃，照亮了工作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一头点燃，照亮了你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他们在加倍地煎熬着心血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他们在加速地毁灭着自身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你们可曾见到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烛落泪时母泪落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你们可曾听到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烛心燃时父呻吟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2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7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2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29528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Arial"/>
              </a:rPr>
              <a:t>老师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828440" y="731520"/>
            <a:ext cx="70102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没有什么可以轻易把人打动，除了艰辛。生活的河流险滩无数，只有不畏艰辛的跋涉者才能到达成功的彼岸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没有什么可以轻易把人打动，除了感动。当你面对含辛茹苦的父兄，当你面对孤独无助的弱者，当你面对贫穷，面对落后，面对愚昧，你就明白奋斗需要多少代价，奋斗需要多少勇气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5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520" y="0"/>
            <a:ext cx="815328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而我，则不停地为你加油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我不停为你加油，因为你的希望就是我的希望，因为你的痛苦就是我的痛苦！我看着你迈出晨跑的脚步，我看着你匆匆从食堂赶回教室，我看着你咬紧牙关，我看着你挥汗如雨，我看着你痛哭流涕，我看着你笑逐颜开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我看着你，我不停的为你加油。因为，我是你们的一部分！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92468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阳光打在你的脸上，温暖留在我的心里。有一种力量，正从你的指尖悄悄袭来；有一种关怀，正从我的眼中轻轻放出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在这个时刻，我无言，只有祝福：让无力者有力，让悲观者前行，让失败者成功，让所有美好愿望都得以实现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09120" y="4568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总有一种力量，让我们泪流满面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总有一种力量，让我们抖擞精神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总有一种力量，它驱使我们追求、寻找、奋斗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这种力量，源于你，源于我，源于我们中的每一个人。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7440" cy="53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行楷"/>
              </a:rPr>
              <a:t>       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行楷"/>
              </a:rPr>
              <a:t>在生活的每一天，把自己的事认认真真地做完，并争取做好。每天如此就会不得了。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行楷"/>
              </a:rPr>
              <a:t>      </a:t>
            </a:r>
            <a:r>
              <a:rPr b="0" lang="zh-CN" sz="5400" spc="-1" strike="noStrike">
                <a:solidFill>
                  <a:srgbClr val="ffff00"/>
                </a:solidFill>
                <a:latin typeface="华文行楷"/>
                <a:ea typeface="华文行楷"/>
              </a:rPr>
              <a:t>每天进步一点点。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295280" y="549000"/>
            <a:ext cx="640080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隶书"/>
              </a:rPr>
              <a:t>我来了……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众里寻他千百度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蓦然回首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那人却在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灯火阑珊处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ff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imes New Roman"/>
                <a:ea typeface="隶书"/>
              </a:rPr>
              <a:t>第三境界</a:t>
            </a:r>
            <a:endParaRPr b="0" lang="en-US" sz="8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 advTm="19000">
    <p:randomBar dir="vert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Arial"/>
                <a:ea typeface="隶书"/>
              </a:rPr>
              <a:t>阳光总在风雨后</a:t>
            </a:r>
            <a:endParaRPr b="0" lang="en-US" sz="8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隶书"/>
              </a:rPr>
              <a:t>有志者，事竟成。破釜沉舟，百二秦关终属楚。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Times New Roman"/>
                <a:ea typeface="隶书"/>
              </a:rPr>
              <a:t>苦心人，天不负。卧薪尝胆，三千越甲可吞吴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66"/>
                </a:solidFill>
                <a:latin typeface="Arial"/>
              </a:rPr>
              <a:t>三境界：</a:t>
            </a:r>
            <a:br>
              <a:rPr sz="6600"/>
            </a:b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47560" y="106632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*</a:t>
            </a:r>
            <a:r>
              <a:rPr b="0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志当存高远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隶书"/>
                <a:ea typeface="隶书"/>
              </a:rPr>
              <a:t>（高瞻远瞩立大志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*</a:t>
            </a:r>
            <a:r>
              <a:rPr b="0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把握生命里的每一分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隶书"/>
                <a:ea typeface="隶书"/>
              </a:rPr>
              <a:t>（心甘情愿吃大苦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*</a:t>
            </a:r>
            <a:r>
              <a:rPr b="0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阳光总在风雨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隶书"/>
                <a:ea typeface="隶书"/>
              </a:rPr>
              <a:t>（百折不回立大业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549360"/>
            <a:ext cx="80629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多少次挥汗如雨，伤痛曾填满记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只因为始终相信，去拼搏才能胜利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总是在鼓舞自己，要成功就得努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热血在赛场沸腾，巨人在东方升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相信自己，你将赢得胜利，创造奇迹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相信自己，梦想在你手中，这是你的天地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相信自己，你将超越极限，超越自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相信自己，当这一切过去，你们将是第一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6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600200" y="9144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相信自己！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战胜自己！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超越自己！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24000" y="691920"/>
            <a:ext cx="849600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希望每一位同学都胸怀梦想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祝愿每一个梦想都如愿成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2008</a:t>
            </a: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年</a:t>
            </a: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7</a:t>
            </a: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月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心若在，梦就在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,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天地之间还有真爱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看成败，人生豪迈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只不过是从头再来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351640" cy="55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从某种意义上说，复读可能是我们人生路上的一种磨难。但是，又有多少人生是一帆风顺的呢？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从某种意义上说，复读可能是我们的一种无奈。但是，又有多少人永远都扬眉吐气呢？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56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实际上，复读的最重要的意义应该是——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我们不愿屈从于命运，我们要努力用自己的奋斗扼住命运的咽喉，实现理想，改变人生！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189000"/>
            <a:ext cx="845964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李焱磊     北京理工大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胡灵芝     北京中医药大学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宋慧杰     北京交通大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冯晓丽     北京林业大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林    磊     北京科技大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鹿    兴     天津大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张俊松     哈尔滨工业大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吴    鹏     哈尔滨工业大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孙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徐春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无冥冥之志者，无昭昭之明；无惛惛之事者，无赫赫之功。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              ——《荀子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·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劝学》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冥冥之志：精诚专一的精神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惛惛之事：默默无闻的工作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3:01:03Z</dcterms:created>
  <dc:creator>yudongshan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35:54Z</dcterms:modified>
  <cp:revision>258</cp:revision>
  <dc:subject>主题班会课件(分28大类): http://shop62905894.taobao.com</dc:subject>
  <dc:title>主题班会课件(分28大类): http://shop62905894.taobao.com</dc:title>
</cp:coreProperties>
</file>