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6F3-FC84-4864-BCB2-FD056EB4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728-30F1-47F9-937C-8482ED9D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971-92DD-4273-9844-43E1EB29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3B1-AD7E-4FEB-B21A-CF8162FB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AF5-4F23-40B7-BC79-D634C360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EB9-056E-47FE-BCE1-21A23C49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673F-741A-465B-91E0-4995F7F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99FE-DA8E-48B1-800A-EAE95BCB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2A88-C757-47C0-AFB1-76CF6392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07E-44F6-44C7-B719-EBBA78A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507-089F-4AEE-B3B7-27B93F4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B27-8BA2-470F-BB3D-ECD9705B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E709-D5C8-454B-A138-D7674B4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54A1-DAB1-43B9-8710-AD7F0C0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7B1D-EDF7-43FC-91DD-7B706124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7C44-1E50-450C-9CEE-28599197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61D-2A0A-4F4C-97BD-D64B990F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B17-D8A6-490D-8086-BC5BA730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0FA-4265-47E9-BCCA-4A40A483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01E-3BF9-4CF5-A75A-FFBBBCE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383-6152-458B-A0A6-3E258FCE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817-A269-47BD-8E11-3F5A6A1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939-67BD-40D8-A62B-0D6491B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AED-7C01-4F83-9BBD-ACD22781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6F6-BD31-4E89-BEC9-B40A3DE1841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C30A-ED16-4C3D-9F5F-E19F7FD7430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2320" y="9907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572"/>
                </a:solidFill>
                <a:latin typeface="Arial Black"/>
                <a:ea typeface="华文彩云"/>
              </a:rPr>
              <a:t>求索，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 Black"/>
                <a:ea typeface="华文彩云"/>
              </a:rPr>
              <a:t>让生命更精彩</a:t>
            </a:r>
            <a:br>
              <a:rPr sz="7200"/>
            </a:b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848720" y="56386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4114800" cy="278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4953240" cy="106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457200"/>
            <a:ext cx="5181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6666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不管谁说什么，只走“我的路”，再大的阻碍也绝不放弃</a:t>
            </a: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76212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希丁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故事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2362320"/>
            <a:ext cx="4038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乙容踢飞了点球，希丁克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意大利的巴乔也有踢飞点球的时候。不要泄气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半场，这位球员越战越勇，帮助队友攻进关键一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001000" y="5791320"/>
            <a:ext cx="533520" cy="533160"/>
          </a:xfrm>
          <a:prstGeom prst="leftArrow">
            <a:avLst>
              <a:gd name="adj1" fmla="val 50000"/>
              <a:gd name="adj2" fmla="val 25017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5120" y="5335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中学阶段的学习随着时间流逝，描述一下你对中学阶段的学习或生活一些看法好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27432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华文彩云"/>
              </a:rPr>
              <a:t>你抱怨过中学学习生活的单调枯燥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181480" cy="403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914400"/>
            <a:ext cx="79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中学阶段的学习，一种艰苦、复杂的脑力劳动。从某种意义上说，读书是痛苦的，很多人是难于体验到有什么诗情画意的，尤其是数、理、化三科。这就要求我们培养读书的兴趣。凉茶再苦也有甘味。能实现读书从痛苦向快乐的转化，才得读书的意义，才会读出味道来，觉得读书是人生的一种享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800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如何才能实现这种转化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16365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盖士人读书，第一要有志，第二要有识，第三要有恒。有志则断不敢为下流，有识则知学问之无尽，不敢以一得以自足，如河伯之观海，如井蛙之观天，皆无识也。有恒则断无不成之事。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                        ——</a:t>
            </a: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76520" y="83808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我们的中学学习很快就会过去，我们对学习都竭尽全力了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是否都确定一个追求奋斗的目标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为了美好的明天，好好奋斗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90920" y="762120"/>
            <a:ext cx="5638680" cy="58140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任何一位成功人士都有追求，都有一段为之奋斗的历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286520" cy="237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95280" y="2590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我为什么会成为一个成功的球员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乔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066680"/>
            <a:ext cx="8229600" cy="52056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你是否注意到竞争对手和身边的同学是如何学习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你对自己现在所取得成绩感到满意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261936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16365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133720"/>
            <a:ext cx="8229600" cy="350676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艰苦奋斗、奋发进取，从绝望中寻找希望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人生终将辉煌！ 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学习永远是必要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吃苦永远是必须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失败永远是必然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认真学习，充分吃苦，迎接失败，直至成功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00400" y="533520"/>
            <a:ext cx="495288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2120" y="129528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800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自己的追求是什么？</a:t>
            </a:r>
            <a:endParaRPr b="0" lang="en-US" sz="6000" spc="1" strike="noStrike">
              <a:ln cap="sq" w="9360">
                <a:solidFill>
                  <a:srgbClr val="00800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18288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热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2895480" y="37339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目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3352680" y="50292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坚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295280" y="4648320"/>
            <a:ext cx="960480" cy="960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人生是一首诗。对人生的眷恋，对生活的热情，对未来的梦想，这是人生的原动力。若缺乏这些，视读书为畏途，或觉得前路茫茫，即心如古井，死寂人生，那还有什么趣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3962520" cy="23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38680" y="3809880"/>
            <a:ext cx="2971800" cy="20574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41148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向日葵——热情地向着太阳生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1503360" cy="1600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8394840" cy="8510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7772400" y="56386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人生需要有目标，且要始终如一，不能朝立夕改。只有这样，才有个努力的方向，才容易出成果。有目标就有追求，追求中才能展示你人生的光华，展示你人生的全部意义和价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4120" y="3657600"/>
            <a:ext cx="2895480" cy="1752480"/>
          </a:xfrm>
          <a:prstGeom prst="wedgeRoundRectCallout">
            <a:avLst>
              <a:gd name="adj1" fmla="val -83004"/>
              <a:gd name="adj2" fmla="val 42574"/>
              <a:gd name="adj3" fmla="val 16667"/>
            </a:avLst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正如球员——目标永远锁定在球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169992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1828800"/>
            <a:ext cx="4952880" cy="3886200"/>
          </a:xfrm>
          <a:prstGeom prst="wedgeRoundRectCallout">
            <a:avLst>
              <a:gd name="adj1" fmla="val 64745"/>
              <a:gd name="adj2" fmla="val -40564"/>
              <a:gd name="adj3" fmla="val 16667"/>
            </a:avLst>
          </a:prstGeom>
          <a:solidFill>
            <a:srgbClr val="fbf7eb"/>
          </a:solidFill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●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目标越清楚、越明确、越高越好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 ●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把个人的目标变成团队的目标，把团队的目标变成每一个人的目标。</a:t>
            </a:r>
            <a:br>
              <a:rPr sz="2400"/>
            </a:b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 ●找更强硬的对手比赛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发现自己的缺点，才有调整后再打败强手的机会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97360" y="609480"/>
            <a:ext cx="20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希丁克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的故事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43828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希丁克当时为韩国队设定的目标是“世界杯冠军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这在当时是根本不可能达成的目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但事实是他带队奇迹般地打到了四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048120" cy="261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543800" y="533520"/>
            <a:ext cx="1371600" cy="2997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5120" y="685800"/>
            <a:ext cx="1503360" cy="160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62520" y="838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经典繁毛楷"/>
              </a:rPr>
              <a:t>          </a:t>
            </a:r>
            <a:r>
              <a:rPr b="0" lang="zh-CN" sz="4500" spc="-1" strike="noStrike">
                <a:solidFill>
                  <a:srgbClr val="007572"/>
                </a:solidFill>
                <a:latin typeface="Arial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001000" cy="304812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每一个成功者，都有一个非常明确的目标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每一个人都有可能成为世界顶级人士，所以你要有远大的目标，它会促使你非常乐观积极地努力，即使没有达成世界级，你也可能变成地区性的第一名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如果你原来设定的目标，只是想当地区性的第一名，到最后你可能只会变成自己那条街的冠军……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7620120" y="5867280"/>
            <a:ext cx="53316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8380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不要怕失败，甚至要习惯失败。“希望是附于存在的，有存在就有希望，有希望便有光明”。跌倒了又算什么！要有这种气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9880" y="3124080"/>
            <a:ext cx="41911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经典繁毛楷"/>
              </a:rPr>
              <a:t>     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5029200"/>
            <a:ext cx="6781680" cy="121932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“</a:t>
            </a: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不管你经营任何的行业，只要是对的方法，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坚持到底，成功一定是属于你的！”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44:05Z</dcterms:created>
  <dc:creator>0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7:24Z</dcterms:modified>
  <cp:revision>1</cp:revision>
  <dc:subject>主题班会课件(分28大类): http://shop62905894.taobao.com</dc:subject>
  <dc:title>主题班会课件(分28大类): http://shop62905894.taobao.com</dc:title>
</cp:coreProperties>
</file>