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13.jpeg" ContentType="image/jpeg"/>
  <Override PartName="/ppt/media/image16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62D-A17F-4724-AB8A-790FD961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95C-47C3-4D89-B318-D674F184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889-043C-4F19-AE16-861E5E00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8FB-3AC3-4091-BBB7-4DC064D9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F822-548C-41A5-9820-05CE0AD5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7381-8D99-4837-9593-379473E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7CEE-763F-4388-A59F-0019C3CA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DFB1-2560-4628-9DBF-B532C5F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AAEF-EEFA-43EB-AF4A-FA55411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7615-7EB5-44D5-AD35-97545623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B2B-61C0-49BA-B04C-D305800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AA7-6C37-4F62-B509-CAD11D53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EB2-3272-4EDC-BCB0-E2D3370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BCDB-6B83-4070-B3D5-D1FAB3B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21CF-D046-4C2B-A793-1BCA6653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4455-3B75-413B-A24E-D0620129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D5E7-1DAC-4184-BBD8-CB11016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BB9-09FE-4ABC-A767-55019F16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7D5-9606-4604-9B49-2B166D3C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B5A-50BC-414D-B63B-4F54004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BD2-27FF-4033-A88E-94425010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3CB-4ECC-46F5-AFA9-E3798B6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6C4-4114-41B8-9A7D-4BA582D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76E-3353-4E40-9055-79A5A5AA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CA89-56A6-4D58-848A-5AC01767001A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051-44C4-4B6A-931D-15981ACA631B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828800" y="1295280"/>
            <a:ext cx="419112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树立信心，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57400" y="3581280"/>
            <a:ext cx="6400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我的未来不是梦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43000" y="5867280"/>
            <a:ext cx="1143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是不是像我在太阳下低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流着汗水默默辛苦的工作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是不是像我就算受了冷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不放弃自己想要的生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是不是像我整天忙着追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追求一种意想不到的温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是不是像我曾经茫然失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次一次徘徊在十字街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我不在乎别人怎么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我从来没有忘记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自己的承诺对爱的执著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知道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跟着希望在动</a:t>
            </a:r>
            <a:r>
              <a:rPr b="0" lang="zh-CN" sz="2800" spc="-1" strike="noStrike">
                <a:solidFill>
                  <a:srgbClr val="333333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152280"/>
            <a:ext cx="39337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我的未来不是梦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8762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请全体同学将折好的纸飞机，写上自己的心愿、理想，飞向教室上空……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29000" y="685800"/>
            <a:ext cx="27432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放飞梦想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6765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981080" y="2362320"/>
            <a:ext cx="655344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班会到此结束！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楷体_GB2312"/>
                <a:ea typeface="华文行楷"/>
              </a:rPr>
              <a:t>名人的故事和警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志当存高远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2666880"/>
            <a:ext cx="80010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最困难之时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就是离成功不远之日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352680"/>
            <a:ext cx="77724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世界上最快乐的事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莫过于为理想而奋斗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495680"/>
            <a:ext cx="7772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过去属于死神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未来属于自己 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181480"/>
            <a:ext cx="784836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没有志向的青年，就像断了线的风筝，只会在空中东摇西晃，最后必然丧失前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300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世纪初沈阳一所小学。校长问同学们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:“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你们为什么读书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?”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课堂上顿时寂静无声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过了片刻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一个同学毕恭毕敬的站起来回答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:“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读书为了寻求生路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”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话音刚落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另一位同学说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:“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为了光宗耀祖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!”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这时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一位同学从座位上站起来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他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浓眉大眼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昂首挺胸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大声回答道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:“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为了中华民族之崛起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腾飞于世界而读书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”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当时这位少年年仅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岁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请问这位少年是谁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?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505320"/>
            <a:ext cx="800100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歌德巴赫猜想一直被看作数学王冠上的明珠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200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多年前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   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有不少科学家试图征服它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并因此耗费了巨大的精力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却都没有成功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有位中国少年上中学时就暗暗立志摘取这颗明珠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他把它当作自己的事业和理想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他拼命积累知识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奋力演算难题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草稿纸装了一麻袋又一麻袋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最后终于用自己的智慧和理想的合力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移动了数学群山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摘取了数学王冠上这一璀璨的明珠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发明了以他的姓氏的定理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请问这位少年是谁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?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7120" y="121896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主题班会今天开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我们四人走上来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师生领导都来看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使劲干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我们来说三句半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大家同学都爱看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要说节目好不好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请看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每次考试总结找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概念公式多记牢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只要大家齐努力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准考好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班级荣誉争第一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师生团结把心齐， 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试问今后怎么干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努力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19640" y="1142640"/>
            <a:ext cx="3810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如今绿色环校园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塑胶操场更舒坦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人人满面挂笑容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真棒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互助关爱讲文明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骂人打架都不行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班内纪律更是好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保持！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我们是一代新青年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理想伟大志气远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目标实现并不难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实干！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今天班会节目多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我们在这别多说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努力拼搏看未来，</a:t>
            </a: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再会！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457200"/>
            <a:ext cx="3934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《我们的生活》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86880" y="5532480"/>
            <a:ext cx="12571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Arial"/>
                <a:ea typeface="华文新魏"/>
              </a:rPr>
              <a:t>自信——成功的选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隶书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隶书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830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712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我不愿意活的像一个问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东张西望找不到自己的跑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我为梦想超速在奔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在燃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唱出感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ig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味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eah——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再叹气就快变一个句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难道不想看大家都为你尖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64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实你也会像明星一样酷让人心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舞足蹈别怕人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eah——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我的舞台我自己建造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要让全世界看到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我的剧本我自己写好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相信自己永远是个主角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我的魅力我自己创造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出乎每个人意料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我的未来我自己照耀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每个明天把我拥抱</a:t>
            </a:r>
            <a:r>
              <a:rPr b="1" lang="zh-CN" sz="2400" spc="-1" strike="noStrike">
                <a:solidFill>
                  <a:srgbClr val="ff6699"/>
                </a:solidFill>
                <a:latin typeface="华文行楷"/>
                <a:ea typeface="华文行楷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    l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00200" y="380880"/>
            <a:ext cx="27813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中宋"/>
              </a:rPr>
              <a:t>我的舞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中宋"/>
              <a:ea typeface="华文中宋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66680" y="1219320"/>
            <a:ext cx="8077320" cy="38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534520" y="6477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28800"/>
            <a:ext cx="9023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隶书"/>
                <a:ea typeface="隶书"/>
              </a:rPr>
              <a:t>理想是人奋斗的目标，是人生活的希望，没有理想的青春，就像没有太阳的早晨。没有理想的人，就象一台没安马达的机器。对我们青年人来说，理想就更重要了，因为我们是祖国的未来，如果我们胸无大志，那我们的国家未来就没有希望了 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057400" y="2362320"/>
            <a:ext cx="6477120" cy="15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诗朗诵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《我们是新世纪的太阳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91520" y="518148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23880" y="1219320"/>
            <a:ext cx="685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小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《二十年后的我们》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4419720" cy="2540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9920" y="2971800"/>
            <a:ext cx="31240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相信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能行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4:48:42Z</dcterms:created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9:04Z</dcterms:modified>
  <cp:revision>1</cp:revision>
  <dc:subject>主题班会课件(分28大类): http://shop62905894.taobao.com</dc:subject>
  <dc:title>主题班会课件(分28大类): http://shop62905894.taobao.com</dc:title>
</cp:coreProperties>
</file>