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4.gif" ContentType="image/gif"/>
  <Override PartName="/ppt/media/image23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4.jpeg" ContentType="image/jpeg"/>
  <Override PartName="/ppt/media/image25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E56-5896-4987-8E07-1A5CCF83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B3E-B9F9-49C1-B7F3-2FBD411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325-8B0F-489B-82D7-803415A0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402-3001-4068-9925-95DC20B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2E5-989D-472C-BAF8-142C4ABA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6FE5-B084-4F8A-98FC-A5A5D2C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ED19-C526-4D5E-AA99-E7DBEEA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EE2D-FCA3-4DE5-A8AE-69DB9A9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EFBB-7D21-4967-A857-AA84980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8A65-A0A0-4B95-9F56-B9B02CA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DCE-3775-4404-A188-200F948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C5C-2393-406C-AE02-768B77C1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5A02-05E3-4B92-A841-118BBC22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52FB-A443-4B02-95F6-D8E58F7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717-F3F5-4E01-81D8-ABFAF53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4DB-DEA9-42D1-9C6B-5938807A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E914-90F1-4001-BEFE-5E1A43FC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8EE-4A57-42D8-9D3E-AA796C0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9CC-80E8-4585-AB49-864C375D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E92-BA85-4F7C-AE28-C8E6D12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0AD-5034-4999-9DE0-3111135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B98-FE79-45B0-8D2C-595930E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530-30CB-419B-A9F5-16AAF99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C90-EFB1-4409-A7B6-7D953B3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406-FD84-4939-8619-6589BE740A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F01-56D1-45A2-BA6F-1F3D79BD3A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825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ff"/>
                </a:solidFill>
                <a:latin typeface="Arial Black"/>
                <a:ea typeface="华文琥珀"/>
              </a:rPr>
              <a:t>把握生命的每一分钟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057040" y="37339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把握生命里的每一分钟，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全力以赴我们心中的梦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1434960" cy="1741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 Black"/>
              </a:rPr>
              <a:t>心灵体操</a:t>
            </a:r>
            <a:r>
              <a:rPr b="1" lang="zh-CN" sz="4000" spc="-1" strike="noStrike">
                <a:solidFill>
                  <a:srgbClr val="ccffff"/>
                </a:solidFill>
                <a:latin typeface="Arial Black"/>
              </a:rPr>
              <a:t>：</a:t>
            </a:r>
            <a:r>
              <a:rPr b="0" lang="zh-CN" sz="2800" spc="-1" strike="noStrike">
                <a:solidFill>
                  <a:srgbClr val="001932"/>
                </a:solidFill>
                <a:latin typeface="Arial Black"/>
              </a:rPr>
              <a:t>请回顾一下你的昨天是如何度过的，把它们按比例画在下面的时间馅饼上，看看一天中你做了什么事情，用在实现自己目标上的时间又有多少？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睡觉      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个人卫生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和人闲谈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找东西   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看电视   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想心事   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 Black"/>
              </a:rPr>
              <a:t>其他                小时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学习   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吃东西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打电话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打电脑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上厕所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 Black"/>
              </a:rPr>
              <a:t>看书报        小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01000" y="5979960"/>
            <a:ext cx="1143000" cy="87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4240" y="60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时间馅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2438280"/>
            <a:ext cx="3886200" cy="36576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12445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1370160"/>
            <a:ext cx="7848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Arial Black"/>
                <a:ea typeface="华文琥珀"/>
              </a:rPr>
              <a:t>丰盛人生，由把握时间开始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86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方正姚体"/>
              </a:rPr>
              <a:t>有效利用时间的小窍门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51920" y="6172200"/>
            <a:ext cx="892080" cy="685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7391160" cy="40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22000" y="2579760"/>
            <a:ext cx="319824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华文隶书"/>
              </a:rPr>
              <a:t>分清轻重缓急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华文隶书"/>
              </a:rPr>
              <a:t>确立优先顺序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86520" y="7509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小窍门之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8120" y="533520"/>
            <a:ext cx="472428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057400" y="3809880"/>
            <a:ext cx="4876920" cy="0"/>
          </a:xfrm>
          <a:prstGeom prst="line">
            <a:avLst/>
          </a:prstGeom>
          <a:ln w="38160">
            <a:solidFill>
              <a:srgbClr val="001932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752480"/>
            <a:ext cx="0" cy="4572000"/>
          </a:xfrm>
          <a:prstGeom prst="line">
            <a:avLst/>
          </a:prstGeom>
          <a:ln w="38160">
            <a:solidFill>
              <a:srgbClr val="001932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6720" y="122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要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7200" y="30276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紧迫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4720" y="281952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重要但不紧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3320" y="281952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重要而紧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43434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不重要也不紧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6000" y="434340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紧迫但不重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58480" y="13064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有效率的人办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89880" y="2666880"/>
            <a:ext cx="61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Swiss911 XCm BT"/>
              </a:rPr>
              <a:t>A——B——C——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小窍门之二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09680" y="2666520"/>
            <a:ext cx="556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Arial Black"/>
              </a:rPr>
              <a:t>遇事马上做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Arial Black"/>
              </a:rPr>
              <a:t>不要往后拖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1320" y="399960"/>
            <a:ext cx="1295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308760" y="1187280"/>
            <a:ext cx="34725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明日复明日，明日何其多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我生待明日，万事成蹉跎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世人苦被明日累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春去秋来老将至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932"/>
                </a:solidFill>
                <a:latin typeface="Arial Black"/>
              </a:rPr>
              <a:t>小窍门之三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8288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学会统筹方法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同时做几件事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24080" y="39625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b0ff"/>
                </a:solidFill>
                <a:latin typeface="Times New Roman"/>
                <a:ea typeface="华文细黑"/>
              </a:rPr>
              <a:t>边写作业边看电视算不算是统筹时间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5920" y="5334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边写作业边听音乐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41640" y="1447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幼圆"/>
              </a:rPr>
              <a:t>各抒己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1371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86520" y="7160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游戏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133720"/>
            <a:ext cx="7391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个游戏希望你能进入角色认真去做，因为从中你一定会有不少的发现和感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657600"/>
            <a:ext cx="6797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932"/>
                </a:solidFill>
                <a:latin typeface="华文隶书"/>
                <a:ea typeface="华文隶书"/>
              </a:rPr>
              <a:t>假使现在你的生命只剩下一年的时间，你会如何度过呢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932"/>
                </a:solidFill>
                <a:latin typeface="华文隶书"/>
                <a:ea typeface="华文隶书"/>
              </a:rPr>
              <a:t>请你写下你最想做的</a:t>
            </a:r>
            <a:r>
              <a:rPr b="0" lang="zh-CN" sz="4000" spc="-1" strike="noStrike">
                <a:solidFill>
                  <a:srgbClr val="001932"/>
                </a:solidFill>
                <a:latin typeface="华文隶书"/>
                <a:ea typeface="华文隶书"/>
              </a:rPr>
              <a:t>10</a:t>
            </a:r>
            <a:r>
              <a:rPr b="0" lang="zh-CN" sz="4000" spc="-1" strike="noStrike">
                <a:solidFill>
                  <a:srgbClr val="001932"/>
                </a:solidFill>
                <a:latin typeface="华文隶书"/>
                <a:ea typeface="华文隶书"/>
              </a:rPr>
              <a:t>件事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467480" y="560088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小窍门之四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79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66"/>
                </a:solidFill>
                <a:latin typeface="Arial Black"/>
              </a:rPr>
              <a:t>善用零碎时间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66"/>
                </a:solidFill>
                <a:latin typeface="Arial Black"/>
              </a:rPr>
              <a:t>化整为零，循序渐进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9960" y="95868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分钟是一个很短的时间，但是一天抓住两个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分钟，一年就是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6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小时。每个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分钟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个单词，一年就可以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650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个单词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930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一本书有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600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页，假设要一天看完，肯定觉得很累，但是假设每天看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页，分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天看完，这样循序渐进，既不费力又可真正消化知识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914400"/>
            <a:ext cx="73310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800080"/>
                </a:solidFill>
                <a:latin typeface="华文新魏"/>
                <a:ea typeface="华文新魏"/>
              </a:rPr>
              <a:t>作为凡人来说，我们的生命都是有限的。我们不能绝对地延长它，但是，有效的利用时间，却可以相对地伸展我们的生命。我们只拥有一个</a:t>
            </a:r>
            <a:r>
              <a:rPr b="0" lang="zh-CN" sz="3800" spc="-1" strike="noStrike">
                <a:solidFill>
                  <a:srgbClr val="800080"/>
                </a:solidFill>
                <a:latin typeface="华文新魏"/>
                <a:ea typeface="华文新魏"/>
              </a:rPr>
              <a:t>100</a:t>
            </a:r>
            <a:r>
              <a:rPr b="0" lang="zh-CN" sz="3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年的时间，而今天以前的日子已经从中划去了。所以，请你我好好珍惜时间，珍视生命！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531000"/>
            <a:ext cx="5105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ffff"/>
                </a:solidFill>
                <a:latin typeface="Arial Black"/>
                <a:ea typeface="华文琥珀"/>
              </a:rPr>
              <a:t>生命的清单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五官科病房里同时住进来两位病人，都是鼻子不舒服。在等待化验结果期间，甲说，如果是癌，就立即去旅行，首先要去的拉萨。乙表示同意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化验结果出来了，甲得了鼻癌，乙长的是鼻息肉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甲列了一张告别人生的计划表就离开了医院，乙住了下来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781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 Black"/>
                <a:ea typeface="华文楷体"/>
              </a:rPr>
              <a:t>甲的计划是：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去一趟拉萨和敦煌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去攀枝花坐船一直到长江口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到海南的三亚以椰子树为背景拍一张照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在哈尔滨过一个冬天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从大连坐船到广西的北海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登上天安门城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读完莎士比亚的所有作品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力争听一次瞎子阿炳原版的《二泉映月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成为北京大学的一名学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要写一本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270720" indent="-270720">
              <a:lnSpc>
                <a:spcPct val="95000"/>
              </a:lnSpc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60948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这张生命清单后面，他写道：我的一生有很多梦想，有的实现了，有的由于种种原因，没有实现。现在上帝留给我的时间不多了，为了不遗憾地离开这个世界，我打算用生命的最后几年去实现我剩下的</a:t>
            </a:r>
            <a:r>
              <a:rPr b="1" lang="zh-CN" sz="3600" spc="-1" strike="noStrike">
                <a:solidFill>
                  <a:srgbClr val="001932"/>
                </a:solidFill>
                <a:latin typeface="Times New Roman"/>
              </a:rPr>
              <a:t>这</a:t>
            </a:r>
            <a:r>
              <a:rPr b="1" lang="zh-CN" sz="3600" spc="-1" strike="noStrike">
                <a:solidFill>
                  <a:srgbClr val="001932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1932"/>
                </a:solidFill>
                <a:latin typeface="Times New Roman"/>
              </a:rPr>
              <a:t>个梦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09480"/>
            <a:ext cx="76964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当年，甲就辞掉了公司的职务，去了拉萨和敦煌。第二年，又以惊人的毅力和韧性通过了成人考试，成为北京大学中文系的一名学生。这期间，他登上了天安门城楼，去了内蒙古的大草原，还在一户牧民家里住了一个星期。现在，他正在实现他要出一本书的夙愿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208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1080" y="914400"/>
            <a:ext cx="6492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一天，乙在报上看到甲写的一篇散文，就打电话去问候甲。甲说，我真的无法想象，要不是这场病，我的生命会是多么的糟糕。是它提醒了我去做自己想做的事，去实现自己想要实现的梦想。现在我才体会到什么是真正的生活和人生。你生活得也挺好吧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1828800"/>
            <a:ext cx="6111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乙没有回答。因为在医院时所说的一切，早因患的不是癌症而烟消云散了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2133720"/>
            <a:ext cx="67816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难道我们真的非得等到死亡之神来叩门时才会醒悟，才去珍惜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14800"/>
            <a:ext cx="6949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幼圆"/>
              </a:rPr>
              <a:t>不，从现在这一刻开始，我们就应让：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琥珀"/>
              </a:rPr>
              <a:t>生命的每一分钟都有价值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1676520" cy="1555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29600" y="5638680"/>
            <a:ext cx="517680" cy="71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3:11:57Z</dcterms:created>
  <dc:creator>zx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2:44Z</dcterms:modified>
  <cp:revision>28</cp:revision>
  <dc:subject>主题班会课件(分28大类): http://shop62905894.taobao.com</dc:subject>
  <dc:title>主题班会课件(分28大类): http://shop62905894.taobao.com</dc:title>
</cp:coreProperties>
</file>