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44B-3446-4CC7-810F-9A573CEB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DB8-FAC5-4B05-9AC5-6B91DA6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14E-4AEA-43D9-835B-A0F52489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6CD-6D45-4E67-AFAC-6092ABFA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FAD-629C-4D64-85A9-E8758B03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E2-3441-4CDD-BA00-3128FA1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DDE-41F2-49DC-8282-445BE911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DA7-BE90-4649-A82B-FDA940A1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DA5-D6C2-4BD9-9BA3-5FC5FC72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AED-F9EC-42BC-8524-CBA26D7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CB3-6E90-45EE-806C-69B3892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C2B-9EF4-4EDA-9930-2F049A2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13CF-0141-4361-9A81-4707D3F2C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8360" y="1484280"/>
            <a:ext cx="691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高二（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9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）班，扬帆起航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360" y="188640"/>
            <a:ext cx="7207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而我呢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在干什么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请来保姆打扫卫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6425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水马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只为送我求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07920"/>
            <a:ext cx="770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的父母如此辛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呢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可以成为你父母的骄傲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在为你的理想而奋斗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的学习计划正在实行中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看后你的感受如何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同学们谈谈你们的学习目标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几个同学制定了详细的学习计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几个同学坚持执行了自己的学习计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几个同学能够时刻修善自己的学习计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如果你还没有行动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那么现在就要开始了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何制定你的学习计划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?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目标的设置：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人生理想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以后，我要成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什么样的人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长期目标，为了实现人生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-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内我要做什么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层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中期目标，为了实现中期目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-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内我要做什么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短期目标，为了实现短期目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-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内我要做什么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五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近期目标，为了实现近期目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内我要做什么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六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日常计划，为了实现日常计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每月、每周、每天要做什么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的学习目标是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举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一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后）：我要成为一名开发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电脑工程师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二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后）：电脑专业的研究生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三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后）：考上南京大学的计算机系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四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后）：上高三，在班上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五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内）：高二在班上考到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六层（每天）  ：  日常计划（如下）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日常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早操）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: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:30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起床、洗漱、吃饭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7:20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语文 或英语自由朗读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5—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5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早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: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:30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休息（运动）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2: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2:30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午餐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3: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4:00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午睡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4:1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0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来学校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4:3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7:0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课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7: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7:4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休息（运动）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7:4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8:2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晚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新闻联播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8:4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9:1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由阅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书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9: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2:2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晚自习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:5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1:20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复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阅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写日记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寄语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入高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，就要做好迎接挑战的准备，齐头并进。每个人都是高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的一分子，集体少了你就不完整，如同水和鱼的关系。这个集体的未来需要大家的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，是我们最主要的目的。良好的班风对我们的学习起着举足轻重的作用。可是学习除了依靠大家的力量，同学们还要懂得如何去自主学习。于是制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你来说就显得尤为重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、目标的实现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反复拷问自己，为什么要设置这个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标明目标实现期限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制定实现目标的行动计划——即日常计划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把自己指定的目标写下，贴在墙上，经常看，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自然会深入潜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、早晚朗读，早晨大声读三遍，晚上睡前读三遍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、每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检查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衡量进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、根据追求快乐和逃避痛苦的原则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置奖惩制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当发现自己朝目标前进了一步时，自己给自己庆贺一番，或者给自己一些奖励。发现没有进步，则取消所有奖励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、每晚三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我今天都学了哪些知识？回想一遍，都会了吗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今天我都做了哪些事情，哪些事情还可以做得更好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明天准备学习哪些知识？预习了吗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把以上每晚三问，用一张纸写下来，贴在床前，以便每晚反思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准备一个漂亮的，精美的笔记本做每日的计划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每天晚上，把第二天要做的最重要的事情依重要顺序写下来，根据自己的时间精力，至少六件，第二天依照此计划去做，完成一项划掉一项，直到全部完成为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645000"/>
            <a:ext cx="2411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把不喜欢的学科转变成有兴趣的学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首先明确：自己最喜欢的是哪一门学科？最不喜欢的是哪一门学科？要不要把不喜欢的学科变成有兴趣的学科？了解自己，并且确认任何改变都是来自改变的意愿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如果愿意的话，大声说“我一定要学好这门功课！学好这门功课和容易！我对这门功课充满兴趣！”自己说三遍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411280" cy="3213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进行身心放松，然后进行想象训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以下训练以为最喜欢的学科语文，最不喜欢的学科数学为例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闭上眼睛，一边慢慢做深呼吸，一边开始想象：当你学习数学时，是什么感觉，你是怎样听数学老师讲课的？是怎样做数学作业的？怎样进行数学考试的？把自己学习数学时的情景，状态想清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、接下来开始想象学习自己非常喜欢的学科的情景及感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是怎样听语文老师上课的？你是怎样看语文书的，做语文作业的？你是怎么样进行语文考试的？学习自己非常喜欢的课程当然是非常高兴，非常兴奋，学的时候津津有味，充满兴趣，整个身心都非常舒畅。你的语文考了个很高的分数，老师在班上表扬你，同学非常羡慕你，回家后父母听了也很高兴，此时，你的感觉：内心充满喜悦，非常自豪。脸上整天挂满微笑，走起路来如同驾云一般，飘飘欲仙，感觉真是太好了！反复体验这种兴奋的感觉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32720" y="3645000"/>
            <a:ext cx="2411280" cy="3213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觉替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继续想象，学习数学和学习语文一样的非常高兴，非常兴奋，学的时候津津有味，充满兴趣，整个身心都非常舒畅，数学也考了个满分，老师在班上表扬你，同学非常羡慕你，回家后父母听了也很高兴。此时，你内心充满喜悦，非常自豪，脸上挂满微笑。走起路来如同驾晕一般，飘飘欲仙，感觉真是太好了！学数学太好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刻学数学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学习的最佳时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该在一天中大脑活动功能最好的时间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家研究表明：一天之中大脑功能最好的时候是刚睡醒以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左右，也就是上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左右。这是一天中学习的黄金时间，要背要记要理解，其效果都非常好。另外，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是另一个高峰，这段时间，理解材料的效果最好。这两段时间恰是学校上课时间，因此，也可以说，学校上课时间就是最佳的学习时间。对于总学生来说，晚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-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是学习的又一个黄金时间，这时人的大脑非常情形，用来复习一天所学的知识，语系新课是再好不过的了。可惜的是，许多同学这一时间正好在看电视，把精力最好的时间白白浪费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生物钟特点一览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9217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半夜到凌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人体温度最低，大部分功能处于最低潮，是进行睡眠的最好时段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早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体温上升，心率加快，肾上腺激素分泌达到高潮，这时就应该及时起床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早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左右，痛觉最不灵敏，对于患病需要进行手术的人而言这时进行较为合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几乎人都感到困倦，应适度午睡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外向性格者在这时分析力和创造力达到高峰，内向性格者的分析创造能力则在下降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味觉、嗅觉非常敏锐，吃晚餐的最佳时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晚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激素变化，血压升高，情绪通常不太稳定，不要讨论尖锐的话题，以免引起不必要的争执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晚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以后，体温下降，心率降低，身体各功能处于低潮，这时进入睡觉比较容易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培养自信的方法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02528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想你会成功，不要想你会失败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经常提醒自己，你比你想象中的要好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树立大志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自我精神训话（将自己的优点、长处和潜力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成功事例编写成训词）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自我暗示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采取行动增强信心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练习正眼看人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加快行走的速度，抬头挺胸收腹走路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养成主动与人说话的习惯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开怀大笑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熟记“我自信几，我坚强果断，我敢做敢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豁达开朗，我行动迅速，我聪明或拨，我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定沉稳！”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谓“目标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谓学习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谓我的学习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谓我的高中学习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相信自己，坚持不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没有失败，只是暂时还没找到方法。上帝的延迟并不是上帝的拒绝，成功就在与最后一次的坚持之中，坚持不懈，终会成功！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记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若游戏人生，他就一事无成；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不主宰自己，永远是一个奴隶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的看法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天道酬勤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人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溥，明神宗时一个书香门第出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溥天资较差，常常过目即忘。但张溥小时候并不垂头丧气，而想办法来克服这个缺点。有一次，他在读书过程中偶尔发现了一篇有关董遇读书故事的文章，其中“读书百遍其义自见”的一句话给了他很大启发。他想：人家读一篇文章，有个七八遍就能够背诵了，而我读了一二十遍却还只能断断续续地背个大概，这差异不能不承认。可是，我再怎么笨，只要多背几遍，保证每篇文章都读一百遍，不也能行吗？从此，他就开始这么做了起来。古时候的私塾先生要求学生背诵的都是《四书》《五经》之类，而这些枯燥乏味的文章，要重复地读上一百遍，别说一个七八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，就是一个大人也会觉得厌烦的。可张溥硬是不厌其烦地坚持下来。口渴了，他就舀一瓢凉水喝；嗓子哑了，他就把声音放低一点……苦读了一段时间，他终于能连贯地背出文章来了，这使他异常高兴；可是白天背地挺熟的，第二天一觉醒来，又忘得差不多了，这又使他十分焦虑，他决心寻找出一种更为有效的读书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上课时，先生叫张溥背诵文章。开始几段，他背得好好的，先生也挺满意的，可没背一会儿，他就背不下去了。这下他可急了：昨天还当着父亲的面背得很流利的，今天怎么就背不出来了呢？而他越急，就越想不出，最后只好低着头等着挨先生的责打了。先生见张溥愣在那里，非常生气，便拿戒尺使劲地在张溥的手掌上抽打了几下，直打得张溥白嫩的小手掌红肿了起来。打完了，先生余怒未消，说：“你怎么这样不用功？罚你回去把这篇文章抄十遍，明天交给我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溥挨了打，可他一点儿也不怨恨先生，只怪自己不争气。回到家草草吃过晚饭，他就在灯下铺好纸，研好墨，挥笔抄起书来。文章较长，他抄得又认真，等他抄完，已经是半夜了。第二天到校，把抄的书交给了先生没想到先生又让他接着背昨天的文章。这下可把张溥急坏了：这下完了，我只顾抄书，没有特意背呀！可看着先生那严厉的样子，他只得硬着头皮背了起来。谁知奇迹发生了：上句刚一出口，下句居然就跟着跳了出来，一会工夫就把全篇文章顺利地背了出来，而且还没有一次停顿，没有背错一个字。先生听了，不由得连连称赞道：“好，好，就应该这样背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溥琢磨：“奇怪，昨天我并没有可以背书呀，可今天为什么就能脱口而出呢？难道是因为我抄了十遍的缘故吗？”正好先生又留了新的背书作业，他决定按昨天的办法再试一试。回到家，他先把文章朗读一遍，然后开始抄写，边抄还边默诵着，抄完一遍，又大声朗读一遍，接着再抄写一遍。这样循环往复，当抄到第七遍的时候，他觉得不仅已经领会了文章的意思，而且还能够熟练地背诵了。他放下笔，高兴地喊了起来：“好，我终于找到背书地诀窍了！原来果真是‘好记性不如烂笔头’呀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此以后，张溥读书必手抄，读后又随即焚去，再抄，再读，再焚，如此六七次方休。后来，他把这种读书方法称为“七录”，他把读书的屋子也取名为“七录书斋”。一天，他的好友张采来看他，见他正拿着粽子，蘸着墨汁，吃得满口乌黑也没觉察。有人讥讽他近于迂，他去充耳不闻，好学如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太阳每天都是新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高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(9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班的同学加油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5229360"/>
            <a:ext cx="93492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你的目标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就是父母的目标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看他们的辛苦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229360"/>
            <a:ext cx="720720" cy="504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761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坚强却瘦弱的肩膀扛起了我的包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446120"/>
            <a:ext cx="838836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我的依依不舍的母亲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40720" y="274680"/>
            <a:ext cx="10792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学随处可见的现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眺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期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812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壮观的场景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却是可怜天下父母心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353440" cy="57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5:11:43Z</dcterms:created>
  <dc:creator>lzh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5:37Z</dcterms:modified>
  <cp:revision>10</cp:revision>
  <dc:subject>主题班会课件(分28大类): http://shop62905894.taobao.com</dc:subject>
  <dc:title>主题班会课件(分28大类): http://shop62905894.taobao.com</dc:title>
</cp:coreProperties>
</file>