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FA4-1501-49BC-8690-DEE63FD1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B17-4CCF-4CE2-9514-E6523DDC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CFB-3AEF-43B7-ADD2-C07B5121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CB3-1582-4993-B3AD-038F6C50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F182-AB1E-4FC4-8C7E-7B0F4007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F3DC-4745-4403-8266-6811C70B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C98C-D7B9-4D82-ACDA-652B66CE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3AD2-9644-41DE-9846-3A073FB7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6921-C3D5-4D84-A8C9-50AEC7FE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A700-BF2B-463E-84AA-93AE17F7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C83F-D9B2-4964-A89B-4C1D0B3F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E79-61AD-4B45-8F10-C222981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E168-6EE6-4BF7-AD15-8AF80E3B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1230-FA8A-4726-8DFD-00C36257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3B30-0DF9-4879-A3EB-E2A3053C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561B-A38F-4401-9349-641DDEA8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35A1-8B9E-4F70-9197-6A07C3BD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960-6137-4A39-A412-81FB608D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BD4-FD62-42E8-9089-A69220C8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E32-FFB0-4DA1-AE6B-ACC58F79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1CE-695A-4AE9-BD99-61BED71D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90F-E2DD-436D-90C9-66531F7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A3F-C596-457F-AF9E-C9CF8EB8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980-0940-47C2-8EAD-49DB2EB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1F5A-46B2-43D4-83AF-D2FEC29DB37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8911-AC04-48BB-8792-BE3B8BA0B63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333360"/>
            <a:ext cx="8388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高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(1)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最后动员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565360"/>
            <a:ext cx="914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苦不苦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想想家中的父母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累不累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想想自己后半辈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17120" y="3429000"/>
            <a:ext cx="326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直面风雨 不懈追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7120" y="2058840"/>
            <a:ext cx="326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面对联考 我们应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2286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联考的目标成为我们战斗的方向，让考试中的每一点成绩贮藏于我们收获知识的梁仓，让知识在考前复习的滚动中成为我们实现跨越的坚实的桥梁。有了这样的追求，有了饱满的内驱力，我们就有了最根本的动力，我们才有成功的渴望，我们就会燃烧拼搏的欲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7480" y="914400"/>
            <a:ext cx="2619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今天开始，我们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更加饱满自己的内驱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20574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酷暑成为检验我们能否实现一个月冲刺的重要衡量，要让一定战胜酷暑成为我们做好一个月冲刺的精神力量。当然，我们还要增强抗拒学习中各种挫折、失败等因素的影响的能力。我们不应该因严冬而停止我们奋进的步伐，也不会让寒冷冻僵我们的信念，不会因暂时的摔倒而一落千丈。因为，坚强的意志力是在学习中收获成功的保障。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38200" y="1295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今天开始，我们要更加坚强自己的意志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828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没有集中的注意力，我们必将渐渐失去方向；没有集中的注意力，我们必将让短暂的复习时间消耗殆尽。是无聊的闲谈，是庸俗的交往，是频繁的打闹，是无边的遐想在影响着我们的注意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学习的最关键因素。有注意力才能全神贯注于书本，才能全身心投入于学习，有集中的注意力才有复习的效率，才能收获复习的最大效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1880" y="9144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今天开始，我们要更加集中自己的注意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1523880"/>
            <a:ext cx="7543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内驱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根本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意志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保证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注意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键，有了它们，严寒和其他一切困难也仅仅是与我们做伴，甚至会更让我们发扬梅花的精神，将严寒和其他一切困难踩于脚下，我们定将昂首向前，与效率同行，共同铸就和收获联考的成绩与辉煌，共同欢庆你和我和范中又一个春天的到来。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523880" y="1371600"/>
            <a:ext cx="5029200" cy="4800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   </a:t>
            </a: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 rot="5400000">
            <a:off x="5074560" y="3070080"/>
            <a:ext cx="453708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哈尔滨大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2602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班 训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74920" y="836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吃得苦中苦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,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方为人上人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2060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班级座右铭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8136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Aiming higher , Achieving More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3573360"/>
            <a:ext cx="43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班级奋斗目标</a:t>
            </a:r>
            <a:r>
              <a:rPr b="0" lang="zh-CN" sz="4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4292640"/>
            <a:ext cx="676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今天拼搏在范中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明天相聚在名校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5904720" y="2527920"/>
            <a:ext cx="439272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行楷"/>
              </a:rPr>
              <a:t>武汉大学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65440" y="22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167652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7572"/>
                </a:solidFill>
                <a:latin typeface="Arial"/>
                <a:ea typeface="创艺简隶书"/>
              </a:rPr>
              <a:t>战严寒磨意志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7572"/>
                </a:solidFill>
                <a:latin typeface="Arial"/>
                <a:ea typeface="创艺简隶书"/>
              </a:rPr>
              <a:t>创联考辉煌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43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范水高级中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066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红岩上红梅开，千里冰霜脚下踩，三九严寒何所惧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昂首怒放花万朵，香飘云天外，唤醒百花齐开放，高歌欢庆新春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2004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传统剧目《红梅赞》中的一段歌词，不畏严寒的梅花正是以江姐为代表的红岩英雄形象的化身，是顽强的意志，是战胜困难的信心铸就了如火的革命事业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也是如此，当前，严冬成了我们最大的困难，寒冷正在考验着我们的信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057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8380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人生是一首诗。对人生的眷恋，对生活的热情，对未来的梦想，这是人生的原动力。我们不能缺乏追求。若缺乏这些，视读书为畏途，或觉得前路茫茫，即心如古井，死寂人生，那还有什么趣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人生需要有目标，且要始终如一，不能朝令夕改。只有这样，才有努力的方向，才容易出成果。有目标就会有追求，追求中才能展示你人生的光华，展示你人生的全部意义和价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19320" y="205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但我们深知，联考是我们当前最大的目标，联考是我们展示学习奋斗成果的最重要的机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38080" y="16002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面对联考，面对严寒，你准备好了吗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80640" y="1676520"/>
            <a:ext cx="36918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盖士人读书，第一要有志，第二要有识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第三要有恒。有志则断不敢为下流，有识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知学问之无尽，不敢以一得以自足，如河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之观海，如井蛙之观天，皆无识也。有恒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断无不成之事。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《曾国藩家书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76720" y="1981080"/>
            <a:ext cx="38862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黑体"/>
                <a:ea typeface="黑体"/>
              </a:rPr>
              <a:t>追求卓越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44:05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7:29Z</dcterms:modified>
  <cp:revision>114</cp:revision>
  <dc:subject>主题班会课件(分28大类): http://shop62905894.taobao.com</dc:subject>
  <dc:title>主题班会课件(分28大类): http://shop62905894.taobao.com</dc:title>
</cp:coreProperties>
</file>