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19.jpeg" ContentType="image/jpeg"/>
  <Override PartName="/ppt/media/image6.jpeg" ContentType="image/jpeg"/>
  <Override PartName="/ppt/media/image30.wmf" ContentType="image/x-wmf"/>
  <Override PartName="/ppt/media/image27.wmf" ContentType="image/x-wmf"/>
  <Override PartName="/ppt/media/image4.wmf" ContentType="image/x-wmf"/>
  <Override PartName="/ppt/media/image23.jpeg" ContentType="image/jpeg"/>
  <Override PartName="/ppt/media/image7.png" ContentType="image/png"/>
  <Override PartName="/ppt/media/image5.png" ContentType="image/png"/>
  <Override PartName="/ppt/media/image10.jpeg" ContentType="image/jpeg"/>
  <Override PartName="/ppt/media/image8.wmf" ContentType="image/x-wmf"/>
  <Override PartName="/ppt/media/image12.jpeg" ContentType="image/jpeg"/>
  <Override PartName="/ppt/media/image13.jpeg" ContentType="image/jpeg"/>
  <Override PartName="/ppt/media/image9.jpeg" ContentType="image/jpeg"/>
  <Override PartName="/ppt/media/image28.wmf" ContentType="image/x-wmf"/>
  <Override PartName="/ppt/media/image3.jpeg" ContentType="image/jpeg"/>
  <Override PartName="/ppt/media/image11.jpeg" ContentType="image/jpeg"/>
  <Override PartName="/ppt/media/image24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1.png" ContentType="image/png"/>
  <Override PartName="/ppt/media/image31.png" ContentType="image/png"/>
  <Override PartName="/ppt/media/image29.wmf" ContentType="image/x-wmf"/>
  <Override PartName="/ppt/media/image2.wmf" ContentType="image/x-wmf"/>
  <Override PartName="/ppt/media/image21.jpeg" ContentType="image/jpeg"/>
  <Override PartName="/ppt/media/image20.jpeg" ContentType="image/jpeg"/>
  <Override PartName="/ppt/media/image2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A656-0785-4FBF-B31A-2C8A07AE3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7FDE-E453-450B-8C2C-180EAF201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64CA-8370-4334-B530-51C112298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03D6-F8EB-41C8-A6C4-DE91D19C7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09B2-9F55-4A14-8CE0-652C0347B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114B-C3ED-4CBB-9AF7-038C7061E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4901-C567-40B8-A15F-340F32F99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9B4D-132C-4823-A63B-C73D402BE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C935-8CC8-4C1E-B703-A4BA4E54D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1FE4-1BFA-4DF1-9EA3-8139F272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DC84-CBC3-46D0-B290-1F66F565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FC70-CA8C-4B41-99D1-68671C47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D4F04-198F-4E58-BE3C-FACE9FDD51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wmf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189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高二（</a:t>
            </a:r>
            <a:r>
              <a:rPr b="0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6</a:t>
            </a: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）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主题班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35280" y="407664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55600" y="1484280"/>
            <a:ext cx="942840" cy="17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飞得更高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生命就像一条大河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时而宁静时而疯狂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我知道我要的那种幸福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就在那片更高的天空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我要飞得更高飞得更高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狂风一样舞蹈挣脱怀抱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我要飞得更高飞得更高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翅膀卷起风暴心生呼啸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飞得更高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9640" y="3571920"/>
            <a:ext cx="5672880" cy="3314160"/>
            <a:chOff x="539640" y="3571920"/>
            <a:chExt cx="5672880" cy="3314160"/>
          </a:xfrm>
        </p:grpSpPr>
        <p:sp>
          <p:nvSpPr>
            <p:cNvPr id="45" name=""/>
            <p:cNvSpPr/>
            <p:nvPr/>
          </p:nvSpPr>
          <p:spPr>
            <a:xfrm>
              <a:off x="4020120" y="5451480"/>
              <a:ext cx="2192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ff0000"/>
                  </a:solidFill>
                  <a:latin typeface="Arial"/>
                  <a:ea typeface="隶书"/>
                </a:rPr>
                <a:t>得更高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 txBox="1"/>
            <p:nvPr/>
          </p:nvSpPr>
          <p:spPr>
            <a:xfrm>
              <a:off x="539640" y="3571920"/>
              <a:ext cx="2951280" cy="324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隶书"/>
                </a:rPr>
                <a:t>飛</a:t>
              </a:r>
              <a:endPara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  <a:ea typeface="隶书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421080" y="1413000"/>
            <a:ext cx="5111640" cy="41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87280" y="298440"/>
            <a:ext cx="8461440" cy="6154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8244000" y="5445000"/>
            <a:ext cx="576000" cy="57636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1393560" y="6381720"/>
            <a:ext cx="5483520" cy="520560"/>
            <a:chOff x="1393560" y="6381720"/>
            <a:chExt cx="5483520" cy="520560"/>
          </a:xfrm>
        </p:grpSpPr>
        <p:sp>
          <p:nvSpPr>
            <p:cNvPr id="97" name=""/>
            <p:cNvSpPr/>
            <p:nvPr/>
          </p:nvSpPr>
          <p:spPr>
            <a:xfrm>
              <a:off x="1393560" y="6515280"/>
              <a:ext cx="20671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c0c0c0">
                  <a:alpha val="8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金清中学高二（</a:t>
              </a:r>
              <a:r>
                <a:rPr b="0" lang="zh-CN" sz="1800" spc="-1" strike="noStrike">
                  <a:solidFill>
                    <a:srgbClr val="ff0000"/>
                  </a:solidFill>
                  <a:latin typeface="华文行楷"/>
                  <a:ea typeface="华文行楷"/>
                </a:rPr>
                <a:t>6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）主题班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429080" y="6381720"/>
              <a:ext cx="244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隶书"/>
                </a:rPr>
                <a:t>得更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 txBox="1"/>
            <p:nvPr/>
          </p:nvSpPr>
          <p:spPr>
            <a:xfrm>
              <a:off x="4067280" y="6480000"/>
              <a:ext cx="431640" cy="333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隶书"/>
                </a:rPr>
                <a:t>飛</a:t>
              </a:r>
              <a:endPara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  <a:ea typeface="隶书"/>
              </a:endParaRPr>
            </a:p>
          </p:txBody>
        </p:sp>
      </p:grpSp>
    </p:spTree>
  </p:cSld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330515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8424720" cy="63086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1393560" y="6381720"/>
            <a:ext cx="5483520" cy="520560"/>
            <a:chOff x="1393560" y="6381720"/>
            <a:chExt cx="5483520" cy="520560"/>
          </a:xfrm>
        </p:grpSpPr>
        <p:sp>
          <p:nvSpPr>
            <p:cNvPr id="102" name=""/>
            <p:cNvSpPr/>
            <p:nvPr/>
          </p:nvSpPr>
          <p:spPr>
            <a:xfrm>
              <a:off x="1393560" y="6515280"/>
              <a:ext cx="20671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c0c0c0">
                  <a:alpha val="8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金清中学高二（</a:t>
              </a:r>
              <a:r>
                <a:rPr b="0" lang="zh-CN" sz="1800" spc="-1" strike="noStrike">
                  <a:solidFill>
                    <a:srgbClr val="ff0000"/>
                  </a:solidFill>
                  <a:latin typeface="华文行楷"/>
                  <a:ea typeface="华文行楷"/>
                </a:rPr>
                <a:t>6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）主题班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429080" y="6381720"/>
              <a:ext cx="244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隶书"/>
                </a:rPr>
                <a:t>得更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 txBox="1"/>
            <p:nvPr/>
          </p:nvSpPr>
          <p:spPr>
            <a:xfrm>
              <a:off x="4067280" y="6480000"/>
              <a:ext cx="431640" cy="333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隶书"/>
                </a:rPr>
                <a:t>飛</a:t>
              </a:r>
              <a:endPara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  <a:ea typeface="隶书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4920" y="147600"/>
            <a:ext cx="9001080" cy="61610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44280"/>
            <a:ext cx="4537080" cy="4537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0" y="-100080"/>
            <a:ext cx="9144000" cy="695808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1449360" y="6381720"/>
            <a:ext cx="5482800" cy="520560"/>
            <a:chOff x="1449360" y="6381720"/>
            <a:chExt cx="5482800" cy="520560"/>
          </a:xfrm>
        </p:grpSpPr>
        <p:sp>
          <p:nvSpPr>
            <p:cNvPr id="109" name=""/>
            <p:cNvSpPr/>
            <p:nvPr/>
          </p:nvSpPr>
          <p:spPr>
            <a:xfrm>
              <a:off x="1449360" y="6515280"/>
              <a:ext cx="20671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c0c0c0">
                  <a:alpha val="8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金清中学高二（</a:t>
              </a:r>
              <a:r>
                <a:rPr b="0" lang="zh-CN" sz="1800" spc="-1" strike="noStrike">
                  <a:solidFill>
                    <a:srgbClr val="ff0000"/>
                  </a:solidFill>
                  <a:latin typeface="华文行楷"/>
                  <a:ea typeface="华文行楷"/>
                </a:rPr>
                <a:t>6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）主题班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484520" y="6381720"/>
              <a:ext cx="24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隶书"/>
                </a:rPr>
                <a:t>得更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4122720" y="6480000"/>
              <a:ext cx="431280" cy="333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隶书"/>
                </a:rPr>
                <a:t>飛</a:t>
              </a:r>
              <a:endPara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  <a:ea typeface="隶书"/>
              </a:endParaRPr>
            </a:p>
          </p:txBody>
        </p:sp>
      </p:grp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298440"/>
            <a:ext cx="9144000" cy="6259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532720" y="6021360"/>
            <a:ext cx="432000" cy="432000"/>
          </a:xfrm>
          <a:prstGeom prst="rect">
            <a:avLst/>
          </a:prstGeom>
          <a:ln w="0">
            <a:noFill/>
          </a:ln>
        </p:spPr>
      </p:pic>
      <p:grpSp>
        <p:nvGrpSpPr>
          <p:cNvPr id="114" name=""/>
          <p:cNvGrpSpPr/>
          <p:nvPr/>
        </p:nvGrpSpPr>
        <p:grpSpPr>
          <a:xfrm>
            <a:off x="1393560" y="6381720"/>
            <a:ext cx="5483520" cy="520560"/>
            <a:chOff x="1393560" y="6381720"/>
            <a:chExt cx="5483520" cy="520560"/>
          </a:xfrm>
        </p:grpSpPr>
        <p:sp>
          <p:nvSpPr>
            <p:cNvPr id="115" name=""/>
            <p:cNvSpPr/>
            <p:nvPr/>
          </p:nvSpPr>
          <p:spPr>
            <a:xfrm>
              <a:off x="1393560" y="6515280"/>
              <a:ext cx="20671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c0c0c0">
                  <a:alpha val="8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金清中学高二（</a:t>
              </a:r>
              <a:r>
                <a:rPr b="0" lang="zh-CN" sz="1800" spc="-1" strike="noStrike">
                  <a:solidFill>
                    <a:srgbClr val="ff0000"/>
                  </a:solidFill>
                  <a:latin typeface="华文行楷"/>
                  <a:ea typeface="华文行楷"/>
                </a:rPr>
                <a:t>6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）主题班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429080" y="6381720"/>
              <a:ext cx="244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隶书"/>
                </a:rPr>
                <a:t>得更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 txBox="1"/>
            <p:nvPr/>
          </p:nvSpPr>
          <p:spPr>
            <a:xfrm>
              <a:off x="4067280" y="6480000"/>
              <a:ext cx="431640" cy="333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隶书"/>
                </a:rPr>
                <a:t>飛</a:t>
              </a:r>
              <a:endPara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  <a:ea typeface="隶书"/>
              </a:endParaRPr>
            </a:p>
          </p:txBody>
        </p:sp>
      </p:grpSp>
    </p:spTree>
  </p:cSld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83910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34920"/>
            <a:ext cx="9144000" cy="677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348000" y="576360"/>
            <a:ext cx="5340240" cy="4005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3840" y="765000"/>
            <a:ext cx="3079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相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普通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》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陈鑫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冯懿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116000" y="3213000"/>
            <a:ext cx="2160720" cy="20192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979640" y="5554800"/>
            <a:ext cx="396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隶书"/>
              </a:rPr>
              <a:t>得更高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45960" y="5157720"/>
            <a:ext cx="1716120" cy="6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飛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792000" y="260280"/>
            <a:ext cx="7667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Arial"/>
              </a:rPr>
              <a:t>小品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金中百年校庆那天</a:t>
            </a:r>
            <a:r>
              <a:rPr b="1" lang="zh-CN" sz="2400" spc="-1" strike="noStrike">
                <a:solidFill>
                  <a:srgbClr val="006699"/>
                </a:solidFill>
                <a:latin typeface="Arial"/>
              </a:rPr>
              <a:t>》    罗淋俏、张枫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411280" y="1085760"/>
            <a:ext cx="5905800" cy="44308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6409080" cy="44481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1908000" y="944640"/>
            <a:ext cx="6409080" cy="4806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1692360" y="907920"/>
            <a:ext cx="6912000" cy="5185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468360" y="4581360"/>
            <a:ext cx="1436760" cy="1808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7667640" y="6453360"/>
            <a:ext cx="431640" cy="431640"/>
          </a:xfrm>
          <a:prstGeom prst="rect">
            <a:avLst/>
          </a:prstGeom>
          <a:ln w="0">
            <a:noFill/>
          </a:ln>
        </p:spPr>
      </p:pic>
      <p:grpSp>
        <p:nvGrpSpPr>
          <p:cNvPr id="131" name=""/>
          <p:cNvGrpSpPr/>
          <p:nvPr/>
        </p:nvGrpSpPr>
        <p:grpSpPr>
          <a:xfrm>
            <a:off x="1393560" y="6381720"/>
            <a:ext cx="5483520" cy="520560"/>
            <a:chOff x="1393560" y="6381720"/>
            <a:chExt cx="5483520" cy="520560"/>
          </a:xfrm>
        </p:grpSpPr>
        <p:sp>
          <p:nvSpPr>
            <p:cNvPr id="132" name=""/>
            <p:cNvSpPr/>
            <p:nvPr/>
          </p:nvSpPr>
          <p:spPr>
            <a:xfrm>
              <a:off x="1393560" y="6515280"/>
              <a:ext cx="20671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c0c0c0">
                  <a:alpha val="8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金清中学高二（</a:t>
              </a:r>
              <a:r>
                <a:rPr b="0" lang="zh-CN" sz="1800" spc="-1" strike="noStrike">
                  <a:solidFill>
                    <a:srgbClr val="ff0000"/>
                  </a:solidFill>
                  <a:latin typeface="华文行楷"/>
                  <a:ea typeface="华文行楷"/>
                </a:rPr>
                <a:t>6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）主题班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429080" y="6381720"/>
              <a:ext cx="244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隶书"/>
                </a:rPr>
                <a:t>得更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 txBox="1"/>
            <p:nvPr/>
          </p:nvSpPr>
          <p:spPr>
            <a:xfrm>
              <a:off x="4067280" y="6480000"/>
              <a:ext cx="431640" cy="333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隶书"/>
                </a:rPr>
                <a:t>飛</a:t>
              </a:r>
              <a:endPara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  <a:ea typeface="隶书"/>
              </a:endParaRPr>
            </a:p>
          </p:txBody>
        </p:sp>
      </p:grpSp>
    </p:spTree>
  </p:cSld>
  <p:transition>
    <p:diamond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260752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95280" y="3357720"/>
            <a:ext cx="1224000" cy="10569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7093080" y="260280"/>
            <a:ext cx="1825560" cy="1467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7524720" y="4221000"/>
            <a:ext cx="1486080" cy="23227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1744560" y="441360"/>
            <a:ext cx="5302440" cy="477828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684360" y="4794120"/>
            <a:ext cx="4784400" cy="2064960"/>
            <a:chOff x="684360" y="4794120"/>
            <a:chExt cx="4784400" cy="2064960"/>
          </a:xfrm>
        </p:grpSpPr>
        <p:sp>
          <p:nvSpPr>
            <p:cNvPr id="140" name=""/>
            <p:cNvSpPr/>
            <p:nvPr/>
          </p:nvSpPr>
          <p:spPr>
            <a:xfrm>
              <a:off x="3276360" y="5424480"/>
              <a:ext cx="2192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ff0000"/>
                  </a:solidFill>
                  <a:latin typeface="Arial"/>
                  <a:ea typeface="隶书"/>
                </a:rPr>
                <a:t>得更高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 txBox="1"/>
            <p:nvPr/>
          </p:nvSpPr>
          <p:spPr>
            <a:xfrm>
              <a:off x="684360" y="4794120"/>
              <a:ext cx="2010240" cy="1085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隶书"/>
                </a:rPr>
                <a:t>飛</a:t>
              </a:r>
              <a:endPara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  <a:ea typeface="隶书"/>
              </a:endParaRPr>
            </a:p>
          </p:txBody>
        </p:sp>
      </p:grpSp>
    </p:spTree>
  </p:cSld>
  <p:transition>
    <p:zoom dir="out"/>
  </p:transition>
  <p:timing>
    <p:tnLst>
      <p:par>
        <p:cTn id="88" dur="indefinite" restart="never" nodeType="tmRoot">
          <p:childTnLst>
            <p:seq>
              <p:cTn id="89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3" dur="1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节目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67920" y="1125360"/>
            <a:ext cx="4269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隶书"/>
              </a:rPr>
              <a:t>主持人：张爱咪、罗淋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71640" y="2011320"/>
            <a:ext cx="59767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朗诵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渴望飞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》        黄伟、马莎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71640" y="2467080"/>
            <a:ext cx="6696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彩带舞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我要飞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张爱咪、梁超英、陈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马莎莎、陈巧、蔡桑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98640" y="3116160"/>
            <a:ext cx="47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独唱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隐形的翅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》    张爱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71640" y="3603600"/>
            <a:ext cx="7416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英语短剧 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灰姑娘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梁晨曦、梁梦婷、李翩翩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王晓静、陈可、贺远阳、梁超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42920" y="4386240"/>
            <a:ext cx="56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相声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普通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》  陈鑫斌、冯懿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42920" y="4964040"/>
            <a:ext cx="73454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小品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金中百年校庆那天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》    罗淋俏、张枫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42920" y="5419800"/>
            <a:ext cx="34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**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尾声曲  《步步高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42920" y="1579680"/>
            <a:ext cx="3600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主题曲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飞得更高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101080" y="6165720"/>
            <a:ext cx="70812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飛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4360" y="79200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朗诵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渴望飞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》   黄伟、马莎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093080" y="1916280"/>
            <a:ext cx="1866600" cy="1717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124000" y="1484280"/>
            <a:ext cx="5113440" cy="3835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826920" y="3789360"/>
            <a:ext cx="1982880" cy="2881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8459640" y="117360"/>
            <a:ext cx="503280" cy="503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8028000" y="5877000"/>
            <a:ext cx="576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飛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>
    <p:blinds dir="horz"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63328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95280" y="2205000"/>
            <a:ext cx="4032360" cy="3657600"/>
          </a:xfrm>
          <a:prstGeom prst="rect">
            <a:avLst/>
          </a:prstGeom>
          <a:ln w="0">
            <a:noFill/>
          </a:ln>
        </p:spPr>
      </p:pic>
      <p:pic>
        <p:nvPicPr>
          <p:cNvPr id="66" name="guonian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592360" cy="1871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4606920" y="1341360"/>
            <a:ext cx="4286160" cy="4753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403280" y="614052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张爱咪、梁超英、陈婷、马莎莎、陈巧、蔡桑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88000" y="333360"/>
            <a:ext cx="40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彩带舞《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行楷"/>
              </a:rPr>
              <a:t>我要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8459640" y="6165720"/>
            <a:ext cx="503280" cy="503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7451640" y="333360"/>
            <a:ext cx="720720" cy="6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飛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>
    <p:split dir="out" orient="vert"/>
  </p:transition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7168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764000" y="614520"/>
            <a:ext cx="141516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隐形的翅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--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张爱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每一次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都在徘徊孤单中坚强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每一次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就算很受伤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也不闪泪光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知道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一直有双隐形的翅膀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带我飞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飞过绝望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去想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他们拥有美丽的太阳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看见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每天的夕阳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也会有变化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知道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一直有双隐形的翅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68400" y="766800"/>
            <a:ext cx="11408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带我飞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给我希望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终于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看到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所有梦想都开花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追逐的年轻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歌声多嘹亮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终于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翱翔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用心凝望不害怕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哪里会有风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就飞多远吧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隐形的翅膀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让梦恒久比天长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留一个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愿望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让自己想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203640" y="620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24000" y="6381720"/>
            <a:ext cx="304560" cy="304920"/>
          </a:xfrm>
          <a:prstGeom prst="rect">
            <a:avLst/>
          </a:prstGeom>
          <a:ln w="0">
            <a:noFill/>
          </a:ln>
        </p:spPr>
      </p:pic>
      <p:grpSp>
        <p:nvGrpSpPr>
          <p:cNvPr id="76" name=""/>
          <p:cNvGrpSpPr/>
          <p:nvPr/>
        </p:nvGrpSpPr>
        <p:grpSpPr>
          <a:xfrm>
            <a:off x="1393560" y="6381720"/>
            <a:ext cx="5483520" cy="520560"/>
            <a:chOff x="1393560" y="6381720"/>
            <a:chExt cx="5483520" cy="520560"/>
          </a:xfrm>
        </p:grpSpPr>
        <p:sp>
          <p:nvSpPr>
            <p:cNvPr id="77" name=""/>
            <p:cNvSpPr/>
            <p:nvPr/>
          </p:nvSpPr>
          <p:spPr>
            <a:xfrm>
              <a:off x="1393560" y="6515280"/>
              <a:ext cx="20671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c0c0c0">
                  <a:alpha val="8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金清中学高二（</a:t>
              </a:r>
              <a:r>
                <a:rPr b="0" lang="zh-CN" sz="1800" spc="-1" strike="noStrike">
                  <a:solidFill>
                    <a:srgbClr val="ff0000"/>
                  </a:solidFill>
                  <a:latin typeface="华文行楷"/>
                  <a:ea typeface="华文行楷"/>
                </a:rPr>
                <a:t>6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）主题班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429080" y="6381720"/>
              <a:ext cx="244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隶书"/>
                </a:rPr>
                <a:t>得更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 txBox="1"/>
            <p:nvPr/>
          </p:nvSpPr>
          <p:spPr>
            <a:xfrm>
              <a:off x="4067280" y="6480000"/>
              <a:ext cx="431640" cy="333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隶书"/>
                </a:rPr>
                <a:t>飛</a:t>
              </a:r>
              <a:endPara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  <a:ea typeface="隶书"/>
              </a:endParaRPr>
            </a:p>
          </p:txBody>
        </p:sp>
      </p:grpSp>
    </p:spTree>
  </p:cSld>
  <p:transition>
    <p:plus/>
  </p:transition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08462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345975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529272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219640" y="333360"/>
            <a:ext cx="392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英语短剧 《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灰姑娘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梁晨曦、梁梦婷、李翩翩                                                    王晓静、陈可、贺远阳、梁超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451480" y="1989000"/>
            <a:ext cx="3657600" cy="47008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-112680"/>
            <a:ext cx="9144000" cy="699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79280" y="298440"/>
            <a:ext cx="8640720" cy="603900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1393560" y="6381720"/>
            <a:ext cx="5483520" cy="520560"/>
            <a:chOff x="1393560" y="6381720"/>
            <a:chExt cx="5483520" cy="520560"/>
          </a:xfrm>
        </p:grpSpPr>
        <p:sp>
          <p:nvSpPr>
            <p:cNvPr id="86" name=""/>
            <p:cNvSpPr/>
            <p:nvPr/>
          </p:nvSpPr>
          <p:spPr>
            <a:xfrm>
              <a:off x="1393560" y="6515280"/>
              <a:ext cx="20671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c0c0c0">
                  <a:alpha val="8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金清中学高二（</a:t>
              </a:r>
              <a:r>
                <a:rPr b="0" lang="zh-CN" sz="1800" spc="-1" strike="noStrike">
                  <a:solidFill>
                    <a:srgbClr val="ff0000"/>
                  </a:solidFill>
                  <a:latin typeface="华文行楷"/>
                  <a:ea typeface="华文行楷"/>
                </a:rPr>
                <a:t>6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）主题班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429080" y="6381720"/>
              <a:ext cx="244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隶书"/>
                </a:rPr>
                <a:t>得更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 txBox="1"/>
            <p:nvPr/>
          </p:nvSpPr>
          <p:spPr>
            <a:xfrm>
              <a:off x="4067280" y="6480000"/>
              <a:ext cx="431640" cy="333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隶书"/>
                </a:rPr>
                <a:t>飛</a:t>
              </a:r>
              <a:endPara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  <a:ea typeface="隶书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04000" cy="6335640"/>
          </a:xfrm>
          <a:prstGeom prst="rect">
            <a:avLst/>
          </a:prstGeom>
          <a:ln w="0">
            <a:noFill/>
          </a:ln>
        </p:spPr>
      </p:pic>
      <p:grpSp>
        <p:nvGrpSpPr>
          <p:cNvPr id="90" name=""/>
          <p:cNvGrpSpPr/>
          <p:nvPr/>
        </p:nvGrpSpPr>
        <p:grpSpPr>
          <a:xfrm>
            <a:off x="1393560" y="6381720"/>
            <a:ext cx="5483520" cy="520560"/>
            <a:chOff x="1393560" y="6381720"/>
            <a:chExt cx="5483520" cy="520560"/>
          </a:xfrm>
        </p:grpSpPr>
        <p:sp>
          <p:nvSpPr>
            <p:cNvPr id="91" name=""/>
            <p:cNvSpPr/>
            <p:nvPr/>
          </p:nvSpPr>
          <p:spPr>
            <a:xfrm>
              <a:off x="1393560" y="6515280"/>
              <a:ext cx="20671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c0c0c0">
                  <a:alpha val="8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金清中学高二（</a:t>
              </a:r>
              <a:r>
                <a:rPr b="0" lang="zh-CN" sz="1800" spc="-1" strike="noStrike">
                  <a:solidFill>
                    <a:srgbClr val="ff0000"/>
                  </a:solidFill>
                  <a:latin typeface="华文行楷"/>
                  <a:ea typeface="华文行楷"/>
                </a:rPr>
                <a:t>6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）主题班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429080" y="6381720"/>
              <a:ext cx="244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隶书"/>
                </a:rPr>
                <a:t>得更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4067280" y="6480000"/>
              <a:ext cx="431640" cy="333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隶书"/>
                </a:rPr>
                <a:t>飛</a:t>
              </a:r>
              <a:endPara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  <a:ea typeface="隶书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14:18:55Z</dcterms:created>
  <dc:creator>微软用户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6:13:39Z</dcterms:modified>
  <cp:revision>1</cp:revision>
  <dc:subject>主题班会课件(分28大类): http://shop62905894.taobao.com</dc:subject>
  <dc:title>主题班会课件(分28大类): http://shop62905894.taobao.com</dc:title>
</cp:coreProperties>
</file>