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wmf" ContentType="image/x-wmf"/>
  <Override PartName="/ppt/media/image28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58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0.wmf" ContentType="image/x-wmf"/>
  <Override PartName="/ppt/media/image25.jpeg" ContentType="image/jpeg"/>
  <Override PartName="/ppt/media/image2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5.jpeg" ContentType="image/jpeg"/>
  <Override PartName="/ppt/media/image48.wmf" ContentType="image/x-wmf"/>
  <Override PartName="/ppt/media/image27.jpeg" ContentType="image/jpeg"/>
  <Override PartName="/ppt/media/image13.wmf" ContentType="image/x-wmf"/>
  <Override PartName="/ppt/media/image34.jpeg" ContentType="image/jpeg"/>
  <Override PartName="/ppt/media/image43.wmf" ContentType="image/x-wmf"/>
  <Override PartName="/ppt/media/image53.jpeg" ContentType="image/jpeg"/>
  <Override PartName="/ppt/media/image44.wmf" ContentType="image/x-wmf"/>
  <Override PartName="/ppt/media/image46.wmf" ContentType="image/x-wmf"/>
  <Override PartName="/ppt/media/image55.jpeg" ContentType="image/jpeg"/>
  <Override PartName="/ppt/media/image54.jpeg" ContentType="image/jpeg"/>
  <Override PartName="/ppt/media/image49.wmf" ContentType="image/x-wmf"/>
  <Override PartName="/ppt/media/image59.jpeg" ContentType="image/jpeg"/>
  <Override PartName="/ppt/media/image40.jpeg" ContentType="image/jpeg"/>
  <Override PartName="/ppt/media/image17.wmf" ContentType="image/x-wmf"/>
  <Override PartName="/ppt/media/image7.jpeg" ContentType="image/jpeg"/>
  <Override PartName="/ppt/media/image38.jpeg" ContentType="image/jpeg"/>
  <Override PartName="/ppt/media/image45.wmf" ContentType="image/x-wmf"/>
  <Override PartName="/ppt/media/image57.jpeg" ContentType="image/jpeg"/>
  <Override PartName="/ppt/media/image51.wmf" ContentType="image/x-wmf"/>
  <Override PartName="/ppt/media/image11.png" ContentType="image/png"/>
  <Override PartName="/ppt/media/image37.jpeg" ContentType="image/jpeg"/>
  <Override PartName="/ppt/media/image33.jpeg" ContentType="image/jpeg"/>
  <Override PartName="/ppt/media/image31.jpeg" ContentType="image/jpeg"/>
  <Override PartName="/ppt/media/image47.wmf" ContentType="image/x-wmf"/>
  <Override PartName="/ppt/media/image30.jpeg" ContentType="image/jpeg"/>
  <Override PartName="/ppt/media/image52.wmf" ContentType="image/x-wmf"/>
  <Override PartName="/ppt/media/image12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4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941-FE97-45B8-8CB3-547F421D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F85-9ADB-45AE-9659-7049E054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153-79A3-4F33-8638-7D192FB4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CA6-017A-40BA-80A0-5F0584BB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0B8-28A6-4194-9D9F-EF5B6ED8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DA5-0C67-4AA4-9B0B-4A04D72B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0F0-1E49-475F-957D-219F3FB0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FF7-1690-441D-B91C-2DA9EA08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FC1-2659-4D97-8264-A3F65B0D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506-4FE7-483E-ABB7-497C475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1F4-D30E-4971-9562-FF78656C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9FE-2FC2-404D-9BD3-8FCB3CB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FF9A-E0A2-4F24-9F9D-92F521177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dlersoeasy.139.com/photo/2041854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image" Target="../media/image50.wmf"/><Relationship Id="rId11" Type="http://schemas.openxmlformats.org/officeDocument/2006/relationships/image" Target="../media/image51.wmf"/><Relationship Id="rId12" Type="http://schemas.openxmlformats.org/officeDocument/2006/relationships/image" Target="../media/image52.wmf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lc.pconline.com.cn/imgcounter.jsp?dltypeid=4&amp;dlid=262&amp;linkid=268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60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坚定信念  放飞理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3885840"/>
            <a:ext cx="4968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人生我做主系列班会之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星空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个孩子的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岁时，他梦想当一名飞行员，翱翔在蔚蓝的苍穹，然后把飞机停在学校的操场上，载上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爸妈妈周游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七岁时，深邃的星空、灵动的星星引起了他无限的向往，他的心里植下了另一棵幼苗——当一名天文学家，去探索神秘的宇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四岁，他又想成为一名特警，只是羡慕那飒爽的英姿、传奇的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现在，他的向往趋于平淡，他渴望走进理想的大学，由此开始自己奋进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梦想，也许虚幻，也许遥不可及，但它却是掀起人生波澜的东风。让我们放飞我们的梦想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162240" cy="239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191040" cy="239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116000" y="3573360"/>
            <a:ext cx="3162240" cy="2398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148360" y="3573360"/>
            <a:ext cx="3176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efaultOcx" descr=""/>
          <p:cNvPicPr/>
          <p:nvPr/>
        </p:nvPicPr>
        <p:blipFill>
          <a:blip r:embed="rId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HTMLHidden1" descr=""/>
          <p:cNvPicPr/>
          <p:nvPr/>
        </p:nvPicPr>
        <p:blipFill>
          <a:blip r:embed="rId3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HTMLHidden2" descr=""/>
          <p:cNvPicPr/>
          <p:nvPr/>
        </p:nvPicPr>
        <p:blipFill>
          <a:blip r:embed="rId4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HTMLHidden3" descr=""/>
          <p:cNvPicPr/>
          <p:nvPr/>
        </p:nvPicPr>
        <p:blipFill>
          <a:blip r:embed="rId5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HTMLHidden4" descr=""/>
          <p:cNvPicPr/>
          <p:nvPr/>
        </p:nvPicPr>
        <p:blipFill>
          <a:blip r:embed="rId6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HTMLHidden5" descr=""/>
          <p:cNvPicPr/>
          <p:nvPr/>
        </p:nvPicPr>
        <p:blipFill>
          <a:blip r:embed="rId7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HTMLHidden6" descr=""/>
          <p:cNvPicPr/>
          <p:nvPr/>
        </p:nvPicPr>
        <p:blipFill>
          <a:blip r:embed="rId8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HTMLHidden7" descr=""/>
          <p:cNvPicPr/>
          <p:nvPr/>
        </p:nvPicPr>
        <p:blipFill>
          <a:blip r:embed="rId9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HTMLHidden8" descr=""/>
          <p:cNvPicPr/>
          <p:nvPr/>
        </p:nvPicPr>
        <p:blipFill>
          <a:blip r:embed="rId10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HTMLHidden9" descr=""/>
          <p:cNvPicPr/>
          <p:nvPr/>
        </p:nvPicPr>
        <p:blipFill>
          <a:blip r:embed="rId1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HTMLHidden10" descr=""/>
          <p:cNvPicPr/>
          <p:nvPr/>
        </p:nvPicPr>
        <p:blipFill>
          <a:blip r:embed="rId1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http://51tech.net/pic/20041014203548.jpg"/>
          <p:cNvPicPr/>
          <p:nvPr/>
        </p:nvPicPr>
        <p:blipFill>
          <a:blip r:embed="rId13"/>
          <a:stretch/>
        </p:blipFill>
        <p:spPr>
          <a:xfrm>
            <a:off x="755640" y="527040"/>
            <a:ext cx="7632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http://51tech.net/pic/20041014203650.jpg"/>
          <p:cNvPicPr/>
          <p:nvPr/>
        </p:nvPicPr>
        <p:blipFill>
          <a:blip r:embed="rId2"/>
          <a:stretch/>
        </p:blipFill>
        <p:spPr>
          <a:xfrm>
            <a:off x="1187280" y="765000"/>
            <a:ext cx="6767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吴邦国出席复旦百年庆典并发表讲话"/>
          <p:cNvPicPr/>
          <p:nvPr/>
        </p:nvPicPr>
        <p:blipFill>
          <a:blip r:embed="rId3"/>
          <a:stretch/>
        </p:blipFill>
        <p:spPr>
          <a:xfrm>
            <a:off x="324000" y="371628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424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782640"/>
            <a:ext cx="7731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8748720" cy="617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71640" y="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厦  门  大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8487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9576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8900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有了坚定的信念才是不可战胜的（贝蒂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放弃信念，无异死亡（法国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宁肯折断骨头，不能放弃信念（蒙古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只有信念使快乐真实（蒙田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信念是心灵的良知（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沃德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产生信念是要付出很高的代价的（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琼森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人的强烈愿望一旦产生，就很快会转变成信念（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扬格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有必胜信念的人才能成为战场上的胜利者（希金森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信念！有信念的人经得起任何风暴（奥维德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3920" y="171360"/>
            <a:ext cx="86961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8720" y="51264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584280"/>
            <a:ext cx="84978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1055520"/>
            <a:ext cx="7993080" cy="470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5480" y="112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温州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3840" y="485640"/>
            <a:ext cx="88963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5840" y="542880"/>
            <a:ext cx="85723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1127160"/>
            <a:ext cx="8207280" cy="4603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692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西安交通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DefaultOcx" descr=""/>
          <p:cNvPicPr/>
          <p:nvPr/>
        </p:nvPicPr>
        <p:blipFill>
          <a:blip r:embed="rId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HTMLHidden1" descr=""/>
          <p:cNvPicPr/>
          <p:nvPr/>
        </p:nvPicPr>
        <p:blipFill>
          <a:blip r:embed="rId3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HTMLHidden2" descr=""/>
          <p:cNvPicPr/>
          <p:nvPr/>
        </p:nvPicPr>
        <p:blipFill>
          <a:blip r:embed="rId4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HTMLHidden3" descr=""/>
          <p:cNvPicPr/>
          <p:nvPr/>
        </p:nvPicPr>
        <p:blipFill>
          <a:blip r:embed="rId5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HTMLHidden4" descr=""/>
          <p:cNvPicPr/>
          <p:nvPr/>
        </p:nvPicPr>
        <p:blipFill>
          <a:blip r:embed="rId6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HTMLHidden5" descr=""/>
          <p:cNvPicPr/>
          <p:nvPr/>
        </p:nvPicPr>
        <p:blipFill>
          <a:blip r:embed="rId7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HTMLHidden6" descr=""/>
          <p:cNvPicPr/>
          <p:nvPr/>
        </p:nvPicPr>
        <p:blipFill>
          <a:blip r:embed="rId8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HTMLHidden7" descr=""/>
          <p:cNvPicPr/>
          <p:nvPr/>
        </p:nvPicPr>
        <p:blipFill>
          <a:blip r:embed="rId9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HTMLHidden8" descr=""/>
          <p:cNvPicPr/>
          <p:nvPr/>
        </p:nvPicPr>
        <p:blipFill>
          <a:blip r:embed="rId10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HTMLHidden9" descr=""/>
          <p:cNvPicPr/>
          <p:nvPr/>
        </p:nvPicPr>
        <p:blipFill>
          <a:blip r:embed="rId1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HTMLHidden10" descr=""/>
          <p:cNvPicPr/>
          <p:nvPr/>
        </p:nvPicPr>
        <p:blipFill>
          <a:blip r:embed="rId1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http://51tech.net/pic/20041014203819.jpg"/>
          <p:cNvPicPr/>
          <p:nvPr/>
        </p:nvPicPr>
        <p:blipFill>
          <a:blip r:embed="rId13"/>
          <a:stretch/>
        </p:blipFill>
        <p:spPr>
          <a:xfrm>
            <a:off x="900000" y="907920"/>
            <a:ext cx="7166160" cy="5383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05000" y="1079640"/>
            <a:ext cx="139932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北京交通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6697440" cy="5357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14400" y="1222200"/>
            <a:ext cx="139932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剑  桥  大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840" y="189000"/>
            <a:ext cx="884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理想像什么？有人说，理想无影无形，无色无臭，什么也不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说，理想像满天繁星，驱散夜空的黑暗；理想像猎猎劲风，鼓起生命的风帆；理想像灰姑娘的水晶鞋，展现生命的光华；理想像展翅高翔的海燕，呼唤着生命风暴的更加猛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对于今天的我们来说，理想更像高悬天际的启明星，指引我们攻坚克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占领人生的制高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24720" y="907920"/>
            <a:ext cx="3838320" cy="1557000"/>
          </a:xfrm>
          <a:prstGeom prst="rect">
            <a:avLst/>
          </a:prstGeom>
          <a:solidFill>
            <a:srgbClr val="c9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路，在脚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628640"/>
            <a:ext cx="82296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让我们来追寻高考状元们的足迹，撷取智慧的火花，点燃照亮我们的星空的火炬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4936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他山之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74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山东省高考理科状元张博然总结了自己的学习经验，主要有两个方面：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一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注重效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做题时要抓住试题的规律，即从一个有代表性的试题中发现此类问题的一般性规律，并举一反三，触类旁通。这样，学习就成为主动思考、探究的过程，不但感到轻松而有趣，还可以大大提高效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第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培养自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在平时学习的时候，老师就鼓励大家要树立必胜的信心，班里所有同学也都在考前相互鼓励。最后，他们创造了一个奇迹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班级所有同学都考过了重点大学录取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9000"/>
            <a:ext cx="8912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课堂巧做笔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课堂上要保持旺盛的精力、敏捷的思维、敏感的捕捉信息的能力。语文、英语，、化学、生物这些全都要做笔记，你要跟住老师。老师都富于经验，他知道哪里容易出题，哪里是重点，以前的学生在哪容易出错，他会在讲课时一一渗透出来。所以你要时刻“警惕”，老师很不经意的一句话可能就是症结所在。而且一定要记老师的板书，好的板书是一节课的脉络，高中三年记下来后这就是你最大的财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吉林理科状元    薛蓬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260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8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文：多揣摩高考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阅读很灵活，并不是文章读懂就一定能拿高分，需要一定的答题技巧。高三时，我找出历年高考题中阅读的部分，先把文章读熟读通，然后自己组织答案，不需要用笔写出来，再和标准答案进行对照，看自己的语言组织和思考的线索方面和参考答案有什么区别，让自己的思维逐渐接近命题者的思维，这样在考场上，就比较容易答出和参考答案相近的答案，并且可以让自己的语言组织和思路更清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安徽省文科状元   曹姗   高考语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8760" y="333360"/>
            <a:ext cx="8985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数学：追根溯源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理科生有句话叫“物理难，化学烦、数学作业做不完”，可见数学题的数量之惊人。所以，我并不提倡题海战术，做题应该是少而精，做一道就有一道的收获。在数学中注重比较、归纳和对题型的深入挖掘，不同的题常常有相同的本质，而同一道题也能发散、演变成许多不同的题。其内在具有一种规律性。在具体操作上就是找同一方面的典型题来研究。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川文科状元    陈璇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77840"/>
            <a:ext cx="896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英语：经典句型记忆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谓“万变不离其宗”，这在英语上表现得最为明显。所有繁杂的知识点，都能融入一个个生动的句子中，句子尽管千变万化，但其中包含的语法不会变。而记下经典例句，往往比记下枯燥的语法知识要容易得多。对每一个知识点选择若干个经典例句，反复朗读，直到能熟练地运用，目的就达到了。经典例句，可以从课文中选，可以从做过的完型填空和阅读理解中选，可以从读过的课外读物中选……一切由你，但总的原则是句子要好记。如果有能力，不妨让你的经典例句复杂一点，比如把几种从句放入一个大句子中，平日里想一想，读一读，上考场时就可以用上。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湖南文科状元    高焓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3120" y="189000"/>
            <a:ext cx="88408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化学：总结规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别把化学当作化学来学，而应把它当作数学或物理来学，也就是说，不要将化学看成是死记硬背的科目，其实化学中也是有许多规律的，很多同学抱怨化学方程式难记，其实根本不用记，给出确定的反应物，利用学过的知识分析反应物的化学物理性质，再结合原子守恒，氧化还原等规律，很容易就能写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河南理科状元 张超杰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8760" y="266760"/>
            <a:ext cx="880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生物：构建知识网络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物的识记内容相当多，联系又相当复杂，因此我倾向于制作知识网络图，将三册生物书归纳在一起，找到知识点的联系。相对物理，化学而言，生物的书写量大，对科学语言的表述要求很高，特别是实验设计、语言组织很重要，也很有难度。这就还需要熟练掌握书本上实验的步骤与叙述。        （ 湖北理科状元    李龙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31840" y="122400"/>
            <a:ext cx="891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虽然状元们的学习方法不能普遍适用于每一个同学，但是那些具有普遍性的学习经验有哪些呢？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重视阅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大量阅读名著，大量阅读报纸、杂志。他们认为课外阅读对提高语文 能力和阅读能力很有帮助。学习英语也是大量阅读文章，这对提高语感，提高语法知识也颇有益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专心听讲勤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状元们在学习方法上的一个共同特点就是上课用心听讲，课后把老师布置的作业用心做好，多加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84360" y="1413000"/>
            <a:ext cx="4444560" cy="2760840"/>
            <a:chOff x="684360" y="1413000"/>
            <a:chExt cx="4444560" cy="2760840"/>
          </a:xfrm>
        </p:grpSpPr>
        <p:sp>
          <p:nvSpPr>
            <p:cNvPr id="46" name=""/>
            <p:cNvSpPr/>
            <p:nvPr/>
          </p:nvSpPr>
          <p:spPr>
            <a:xfrm>
              <a:off x="684360" y="1413000"/>
              <a:ext cx="44445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方正隶书简体"/>
                  <a:ea typeface="方正隶书简体"/>
                </a:rPr>
                <a:t>        </a:t>
              </a:r>
              <a:r>
                <a:rPr b="1" lang="zh-CN" sz="3200" spc="-1" strike="noStrike">
                  <a:solidFill>
                    <a:srgbClr val="804686"/>
                  </a:solidFill>
                  <a:latin typeface="汉仪雪君体简"/>
                  <a:ea typeface="汉仪雪君体简"/>
                </a:rPr>
                <a:t>理想是指路明灯。没有理想，就没有坚定的方向，而没有方向，就没有生活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97000" y="3592440"/>
              <a:ext cx="11559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ffcc"/>
                  </a:solidFill>
                  <a:latin typeface="方正舒体"/>
                  <a:ea typeface="方正舒体"/>
                </a:rPr>
                <a:t>托尔斯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54160" y="3883680"/>
              <a:ext cx="56736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2811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20640"/>
            <a:ext cx="89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勤学加巧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学习要刻苦，学习要勤奋，这是颠扑不破的一条真理。但是努力的目标，努力的手段，努力途径是什么，这是一个关键问题。只有做到巧学，才不会成为题海的牺牲者，溺水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我们平时说“勤学苦练”。苦，并不是“傻”的意思，而是说，练功时，第一，不要怕苦；第二，要苦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33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做习题的主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不做习题的奴隶，这也是他们共同的学习方法。他们认为，做题不要太多，要精要多思考，同一题型做几道找到了规律即可。高考状元中，尚未发现一名没完没了地做题的同学。要使自己成为驾驭习题的人，要使做题为提高自己的学习质量服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260280"/>
            <a:ext cx="882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师傅领进门，修炼在自身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习是辛苦的，是智慧的，是个性的。愿我们每位同学发挥自己的聪明才智，寻找适合自己的学习方法，让自己的付出结出丰硕的果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醒各位，学习首先是辛苦的，要舍得一身剐，才能把皇帝拉下马。舍此，一切都是水中月，镜中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最后，让我们一起放飞我们的梦想——（认真朗读下文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6360" y="29988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当盛世，血性的我们岂能没有梦想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爱因斯坦说过：没有理想的生活，那是猪栏的生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要挺起腰板，远离猪栏。我宣誓：从公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日起，我要以一个直立的人格形象行走人生长途。我不能虚度光阴，我不能辜负父母的厚望，更不能辜负自己的人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考似乎还很遥远，但是月考已是指日可待，我不是神童，更不是天才，但我们完全可以</a:t>
            </a: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在现有的基础上发奋努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每门增加</a:t>
            </a: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10</a:t>
            </a: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——我甘愿流淌奋斗的汗水。我充满信心，我笑傲月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16360" y="83664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19232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08000" y="5175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是骏马就要驰骋千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333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748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你的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是老师最大的骄傲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也更是你们家长的欣慰和自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2060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你拼搏的身后是我默默关注的目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24000" y="476280"/>
            <a:ext cx="266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们：成功在向我们招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981000"/>
            <a:ext cx="784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睡意朦胧的星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阻挡不了我行程，多年漂泊日夜餐风露宿，为了理想我宁愿忍受寂寞，饮尽那份孤独。抖落异地的尘土，踏上遥远的路途，满怀痴情追求我的梦想，三百六十五日年年地度过，过一日行一程。呀，越过春夏秋冬，三百六十五里路呀，岂能让它虚度。我那万丈的雄心，从来没有消逝过，即使时光渐去依然执着，自从离乡背井已过了多少，三百六十五日。三百六十五里路呀，越过春夏秋冬，三百六十五里路呀，岂能让它虚度。三百六十五里路呀，从故乡到异乡，三百六十五里路呀，从少年到白头。有多少三百六十五里路呀，越过春夏秋冬。三百六十五里路呀，岂能让它虚度。三百六十五里长路，饮尽那份孤独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115920"/>
            <a:ext cx="4176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百六十五里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773360"/>
            <a:ext cx="480060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魏碑简体"/>
              </a:rPr>
              <a:t>        </a:t>
            </a:r>
            <a:r>
              <a:rPr b="1" lang="zh-CN" sz="32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你们临开始运动以前应该定定方向。比如航海远行的人，必先定个目的地。中途的指针总是指着这个方向走，才能达到目的地。若是方向不定，随风飘转，恐怕永无到达的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035760" y="1955880"/>
            <a:ext cx="2193840" cy="3468600"/>
            <a:chOff x="6035760" y="1955880"/>
            <a:chExt cx="2193840" cy="34686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035760" y="1955880"/>
              <a:ext cx="2193840" cy="28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783840" y="49039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方正魏碑简体"/>
                </a:rPr>
                <a:t>李大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7720" y="1611360"/>
            <a:ext cx="8150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心理学家提出的著名公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32000" y="299736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动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=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目标价值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×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期望概率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方正大黑简体"/>
              <a:ea typeface="方正大黑简体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4653000"/>
            <a:ext cx="4572000" cy="36684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653000"/>
            <a:ext cx="7620120" cy="15746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伟大的人生源于伟大的目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伟大的目标产生伟大的动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836640"/>
            <a:ext cx="51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康海报体W12(P)"/>
                <a:ea typeface="华康海报体W12(P)"/>
              </a:rPr>
              <a:t>理想能提高人生的精神境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35764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25880" y="5164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方正隶书简体"/>
              </a:rPr>
              <a:t>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05000"/>
            <a:ext cx="3672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饱食、暖衣、逸居而无教，则近于禽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367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一个人在他的生命盛年，只知道吃吃睡睡，他还算什么东西，简直不过是一头牲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486400" y="1981080"/>
            <a:ext cx="2666880" cy="3138120"/>
            <a:chOff x="5486400" y="1981080"/>
            <a:chExt cx="2666880" cy="3138120"/>
          </a:xfrm>
        </p:grpSpPr>
        <p:pic>
          <p:nvPicPr>
            <p:cNvPr id="64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5486400" y="1981080"/>
              <a:ext cx="2666880" cy="2559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5" name=""/>
            <p:cNvSpPr/>
            <p:nvPr/>
          </p:nvSpPr>
          <p:spPr>
            <a:xfrm>
              <a:off x="6376680" y="4537800"/>
              <a:ext cx="11559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33"/>
                  </a:solidFill>
                  <a:latin typeface="Times New Roman"/>
                  <a:ea typeface="方正隶书简体"/>
                </a:rPr>
                <a:t>莎士比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133720"/>
            <a:ext cx="9144000" cy="411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720" y="476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心，在云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09:03:32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1:39Z</dcterms:modified>
  <cp:revision>3</cp:revision>
  <dc:subject>主题班会课件(分28大类): http://shop62905894.taobao.com</dc:subject>
  <dc:title>主题班会课件(分28大类): http://shop62905894.taobao.com</dc:title>
</cp:coreProperties>
</file>