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0.jpeg" ContentType="image/jpeg"/>
  <Override PartName="/ppt/media/image8.jpeg" ContentType="image/jpeg"/>
  <Override PartName="/ppt/media/image9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1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7C2F-FF7D-4A66-B974-0D8D7775D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6D2D-05AA-4C2F-BBAE-77FEF673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8BD8-5BA3-459E-8FB5-E9AC8928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20BC-3DF8-4640-AA65-552048B7E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0FD8-DD34-4884-B6F5-7871C0632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9992-AC45-4219-895A-BB787906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77E5-B117-496D-A0D6-24E895D5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7072-6EC9-4763-B696-B070DB24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820B-D888-4083-9D5B-7A628542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8990-CA10-4D16-8CC7-29248538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EF47-1007-4A64-8481-5BFC1E39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19EA-6151-4FFD-9B28-2F509936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B2CB-0DB6-4AF6-81BD-00C5821D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AF47-3BCC-43B2-8707-3A8A3740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633F-EBBB-432C-B8C8-4F1DACE8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FECE-2441-4FD1-A848-B0D1BF9CC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3265-1281-4864-9387-74490A803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6C13-9D16-42BD-9728-85803151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869D-9672-405F-BBFC-1370D7F9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2604-7839-47DA-A1A9-ACA9EDB3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E5B4-F47E-40E8-A362-06D8B1BD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E92E-ADE5-4BC8-BA34-0A65B99E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CBF5-5A6A-4AFD-831E-92A66149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D27B-3437-4F3B-8696-63131E62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5ABA-C8AB-44FF-B707-1939E70C5F89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9E2D-7141-4986-8EEE-636E8DE0EAB4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591600" y="981000"/>
            <a:ext cx="196344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0000"/>
                </a:solidFill>
                <a:latin typeface="华文行楷"/>
                <a:ea typeface="华文行楷"/>
              </a:rPr>
              <a:t>班  会</a:t>
            </a:r>
            <a:endParaRPr b="0" lang="en-US" sz="117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1293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095480" y="1413000"/>
            <a:ext cx="75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137160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905120" y="685800"/>
            <a:ext cx="1503360" cy="1600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62520" y="83808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世界华人成功学第一人</a:t>
            </a:r>
            <a:br>
              <a:rPr sz="2800"/>
            </a:b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          </a:t>
            </a:r>
            <a:r>
              <a:rPr b="1" lang="zh-CN" sz="4500" spc="-1" strike="noStrike">
                <a:solidFill>
                  <a:srgbClr val="ff0000"/>
                </a:solidFill>
                <a:latin typeface="黑体"/>
                <a:ea typeface="黑体"/>
              </a:rPr>
              <a:t>说：</a:t>
            </a:r>
            <a:endParaRPr b="0" lang="en-US" sz="4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666880"/>
            <a:ext cx="8001000" cy="3048120"/>
          </a:xfrm>
          <a:prstGeom prst="rect">
            <a:avLst/>
          </a:prstGeom>
          <a:noFill/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66"/>
                </a:solidFill>
                <a:latin typeface="Arial"/>
                <a:ea typeface="黑体"/>
              </a:rPr>
              <a:t>每一个成功者，都有一个非常明确的目标。</a:t>
            </a:r>
            <a:endParaRPr b="0" lang="en-US" sz="2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66"/>
                </a:solidFill>
                <a:latin typeface="Arial"/>
                <a:ea typeface="黑体"/>
              </a:rPr>
              <a:t>每一个人都有可能成为世界顶级人士，所以你要有远大的目标，它会促使你非常乐观积极地努力，即使没有达成世界级，你也可能变成地区性的第一名。</a:t>
            </a:r>
            <a:endParaRPr b="0" lang="en-US" sz="2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66"/>
                </a:solidFill>
                <a:latin typeface="Arial"/>
                <a:ea typeface="黑体"/>
              </a:rPr>
              <a:t>如果你原来设定的目标，只是想当地区性的第一名，到最后你可能只会变成自己那条街的冠军……</a:t>
            </a:r>
            <a:endParaRPr b="0" lang="en-US" sz="2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0120" y="5867280"/>
            <a:ext cx="53316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339966"/>
          </a:solidFill>
          <a:ln cap="sq"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>
    <p:blinds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54849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5029200"/>
            <a:ext cx="403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83808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黑体"/>
              </a:rPr>
              <a:t>不要怕失败，甚至要习惯失败。“希望是附于存在的，有存在就有希望，有希望便有光明”。跌倒了又算什么！要有这种气慨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523880" y="2895480"/>
            <a:ext cx="1981440" cy="1981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809880" y="3124080"/>
            <a:ext cx="41911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世界华人成功学第一人</a:t>
            </a:r>
            <a:br>
              <a:rPr sz="2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经典繁毛楷"/>
              </a:rPr>
              <a:t>           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说：</a:t>
            </a:r>
            <a:endParaRPr b="0" lang="en-US" sz="4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5029200"/>
            <a:ext cx="6781680" cy="1219320"/>
          </a:xfrm>
          <a:prstGeom prst="rect">
            <a:avLst/>
          </a:prstGeom>
          <a:noFill/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666"/>
                </a:solidFill>
                <a:latin typeface="Arial"/>
                <a:ea typeface="黑体"/>
              </a:rPr>
              <a:t>“</a:t>
            </a:r>
            <a:r>
              <a:rPr b="1" lang="zh-CN" sz="2600" spc="-1" strike="noStrike">
                <a:solidFill>
                  <a:srgbClr val="006666"/>
                </a:solidFill>
                <a:latin typeface="Arial"/>
                <a:ea typeface="黑体"/>
              </a:rPr>
              <a:t>不管你经营任何的行业，只要是对的方法，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666"/>
                </a:solidFill>
                <a:latin typeface="Arial"/>
                <a:ea typeface="黑体"/>
              </a:rPr>
              <a:t>坚持到底，成功一定是属于你的！”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>
    <p:blinds dir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095480" y="1413000"/>
            <a:ext cx="75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137160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581280" y="838080"/>
            <a:ext cx="4114800" cy="2787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295280" y="4267080"/>
            <a:ext cx="4953240" cy="1067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095480" y="1413000"/>
            <a:ext cx="75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14800" y="137160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457200"/>
            <a:ext cx="5181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006666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幼圆"/>
                <a:ea typeface="幼圆"/>
              </a:rPr>
              <a:t>不管谁说什么，只走“我的路”，再大的阻碍也绝不放弃</a:t>
            </a:r>
            <a:r>
              <a:rPr b="1" lang="zh-CN" sz="2800" spc="-1" strike="noStrike">
                <a:solidFill>
                  <a:srgbClr val="006666"/>
                </a:solidFill>
                <a:latin typeface="幼圆"/>
                <a:ea typeface="幼圆"/>
              </a:rPr>
              <a:t>!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762120"/>
            <a:ext cx="3124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希丁克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的故事……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95680" y="2362320"/>
            <a:ext cx="40388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李乙容踢飞了点球，希丁克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意大利的巴乔也有踢飞点球的时候。不要泄气！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半场，这位球员越战越勇，帮助队友攻进关键一球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914400" y="3276720"/>
            <a:ext cx="3276720" cy="29718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8001000" y="5791320"/>
            <a:ext cx="533520" cy="533160"/>
          </a:xfrm>
          <a:prstGeom prst="leftArrow">
            <a:avLst>
              <a:gd name="adj1" fmla="val 50000"/>
              <a:gd name="adj2" fmla="val 25017"/>
            </a:avLst>
          </a:prstGeom>
          <a:solidFill>
            <a:srgbClr val="339966"/>
          </a:solidFill>
          <a:ln cap="sq"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>
    <p:blinds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692360" y="260280"/>
            <a:ext cx="705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华文行楷"/>
              </a:rPr>
              <a:t>中学阶段的学习随着时间流逝，描述一下你对中学阶段的学习或生活一些看法好吗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867280" y="2708280"/>
            <a:ext cx="250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华文彩云"/>
              </a:rPr>
              <a:t>你抱怨过中学学习生活的单调枯燥吗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5181480" cy="40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>
    <p:blinds dir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4360" y="620640"/>
            <a:ext cx="796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中学阶段的学习，一种艰苦、复杂的脑力劳动。从某种意义上说，读书是痛苦的，很多人是难于体验到有什么诗情画意的，尤其是数、理、化三科。这就要求我们培养读书的兴趣。凉茶再苦也有甘味。能实现读书从痛苦向快乐的转化，才得读书的意义，才会读出味道来，觉得读书是人生的一种享受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32000" y="56610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如何才能实现这种转化呢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>
    <p:blinds dir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79280" y="163656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6666"/>
                </a:solidFill>
                <a:latin typeface="黑体"/>
                <a:ea typeface="黑体"/>
              </a:rPr>
              <a:t>盖士人读书，第一要有志，第二要有识，第三要有恒。有志则断不敢为下流，有识则知学问之无尽，不敢以一得以自足，如河伯之观海，如井蛙之观天，皆无识也。有恒则断无不成之事。       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黑体"/>
                <a:ea typeface="黑体"/>
              </a:rPr>
              <a:t>                        ——</a:t>
            </a:r>
            <a:r>
              <a:rPr b="1" lang="zh-CN" sz="3200" spc="-1" strike="noStrike">
                <a:solidFill>
                  <a:srgbClr val="006666"/>
                </a:solidFill>
                <a:latin typeface="黑体"/>
                <a:ea typeface="黑体"/>
              </a:rPr>
              <a:t>《曾国藩家书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26920" y="692280"/>
            <a:ext cx="813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我们的中学学习很快就会过去，我们对学习都竭尽全力了吗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是否都确定一个追求奋斗的目标呢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为了美好的明天，好好奋斗吧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600200" y="3809880"/>
            <a:ext cx="2971800" cy="228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>
    <p:zoom dir="ou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9640" y="549360"/>
            <a:ext cx="8064720" cy="764280"/>
          </a:xfrm>
          <a:prstGeom prst="rect">
            <a:avLst/>
          </a:prstGeom>
          <a:noFill/>
          <a:ln cap="sq"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任何一位成功人士都有追求，都有一段为之奋斗的历程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209680" y="3352680"/>
            <a:ext cx="4286520" cy="2371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39640" y="2276640"/>
            <a:ext cx="813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隶书"/>
              </a:rPr>
              <a:t>我为什么会成为一个成功的球员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3886200"/>
            <a:ext cx="68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99"/>
                </a:solidFill>
                <a:latin typeface="Arial"/>
              </a:rPr>
              <a:t>乔丹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09480" y="1066680"/>
            <a:ext cx="8229600" cy="520560"/>
          </a:xfrm>
          <a:prstGeom prst="rect">
            <a:avLst/>
          </a:prstGeom>
          <a:noFill/>
          <a:ln cap="sq"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  <a:ea typeface="黑体"/>
              </a:rPr>
              <a:t>你是否注意到竞争对手和身边的同学是如何学习的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198108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华文行楷"/>
              </a:rPr>
              <a:t>你对自己现在所取得成绩感到满意吗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619280" y="2637000"/>
            <a:ext cx="2984400" cy="373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>
    <p:blinds dir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5247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921000" y="260280"/>
            <a:ext cx="182628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我们的使命是追求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79280" y="163656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2133720"/>
            <a:ext cx="8229600" cy="3385800"/>
          </a:xfrm>
          <a:prstGeom prst="rect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艰苦奋斗、奋发进取，从绝望中寻找希望，人生终将辉煌！ 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学习永远是必要的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吃苦永远是必须的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失败永远是必然的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认真学习，充分吃苦，迎接失败，直至成功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200400" y="533520"/>
            <a:ext cx="495288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>
    <p:blinds dir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352320" y="990720"/>
            <a:ext cx="5791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 Black"/>
                <a:ea typeface="华文行楷"/>
              </a:rPr>
              <a:t>求索，</a:t>
            </a:r>
            <a:br>
              <a:rPr sz="7200"/>
            </a:br>
            <a:r>
              <a:rPr b="0" lang="zh-CN" sz="7200" spc="-1" strike="noStrike">
                <a:solidFill>
                  <a:srgbClr val="ff0000"/>
                </a:solidFill>
                <a:latin typeface="Arial Black"/>
                <a:ea typeface="华文行楷"/>
              </a:rPr>
              <a:t>让生命更精彩</a:t>
            </a:r>
            <a:br>
              <a:rPr sz="7200"/>
            </a:br>
            <a:endParaRPr b="0" lang="en-US" sz="72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54849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62120" y="1295280"/>
            <a:ext cx="685800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cap="sq" w="9360">
                  <a:solidFill>
                    <a:srgbClr val="008000"/>
                  </a:solidFill>
                  <a:miter/>
                </a:ln>
                <a:solidFill>
                  <a:srgbClr val="006666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自己的追求是什么？</a:t>
            </a:r>
            <a:endParaRPr b="0" lang="en-US" sz="6000" spc="1" strike="noStrike">
              <a:ln cap="sq" w="9360">
                <a:solidFill>
                  <a:srgbClr val="008000"/>
                </a:solidFill>
                <a:miter/>
              </a:ln>
              <a:solidFill>
                <a:srgbClr val="006666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1828800" y="2514600"/>
            <a:ext cx="434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Arial"/>
                <a:ea typeface="黑体"/>
              </a:rPr>
              <a:t>人生需要热情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373392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Arial"/>
                <a:ea typeface="黑体"/>
              </a:rPr>
              <a:t>人生需要目标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5029200"/>
            <a:ext cx="403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Arial"/>
                <a:ea typeface="黑体"/>
              </a:rPr>
              <a:t>人生需要坚持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0" y="523872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54849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52680" y="5029200"/>
            <a:ext cx="403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54936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Arial"/>
                <a:ea typeface="华文行楷"/>
              </a:rPr>
              <a:t>人生是一首诗。对人生的眷恋，对生活的热情，对未来的梦想，这是人生的原动力。若缺乏这些，视读书为畏途，或觉得前路茫茫，即心如古井，死寂人生，那还有什么趣味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371600" y="3733920"/>
            <a:ext cx="3962520" cy="2361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638680" y="3809880"/>
            <a:ext cx="2971800" cy="205740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4114800"/>
            <a:ext cx="257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华文行楷"/>
              </a:rPr>
              <a:t>向日葵——热情地向着太阳生长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>
    <p:blinds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95480" y="1413000"/>
            <a:ext cx="75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16000" y="333360"/>
            <a:ext cx="2735280" cy="2879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8360" y="357336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世界华人成功学第一人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说：</a:t>
            </a:r>
            <a:endParaRPr b="0" lang="en-US" sz="45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24000" y="4941720"/>
            <a:ext cx="8394480" cy="8510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772400" y="56386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339966"/>
          </a:solidFill>
          <a:ln cap="sq"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140360" y="404640"/>
            <a:ext cx="4176720" cy="2880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284720" y="3357720"/>
            <a:ext cx="316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cc"/>
                </a:solidFill>
                <a:latin typeface="Arial"/>
              </a:rPr>
              <a:t>陈安之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>
    <p:blinds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54849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5029200"/>
            <a:ext cx="403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47628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华文行楷"/>
              </a:rPr>
              <a:t>人生需要有目标，且要始终如一，不能朝立夕改。只有这样，才有个努力的方向，才容易出成果。有目标就有追求，追求中才能展示你人生的光华，展示你人生的全部意义和价值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219320" y="3276720"/>
            <a:ext cx="3200400" cy="3047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334120" y="3657600"/>
            <a:ext cx="2895480" cy="1752480"/>
          </a:xfrm>
          <a:prstGeom prst="wedgeRoundRectCallout">
            <a:avLst>
              <a:gd name="adj1" fmla="val -83004"/>
              <a:gd name="adj2" fmla="val 42574"/>
              <a:gd name="adj3" fmla="val 16667"/>
            </a:avLst>
          </a:prstGeom>
          <a:solidFill>
            <a:srgbClr val="ffffff"/>
          </a:solidFill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黑体"/>
                <a:ea typeface="黑体"/>
              </a:rPr>
              <a:t>正如球员——目标永远锁定在球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>
    <p:blinds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95480" y="1413000"/>
            <a:ext cx="75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137160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443640" y="620640"/>
            <a:ext cx="1700280" cy="1600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14400" y="1828800"/>
            <a:ext cx="4952880" cy="3886200"/>
          </a:xfrm>
          <a:prstGeom prst="wedgeRoundRectCallout">
            <a:avLst>
              <a:gd name="adj1" fmla="val 64745"/>
              <a:gd name="adj2" fmla="val -40564"/>
              <a:gd name="adj3" fmla="val 16667"/>
            </a:avLst>
          </a:prstGeom>
          <a:solidFill>
            <a:srgbClr val="fbf7eb"/>
          </a:solidFill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●</a:t>
            </a: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目标越清楚、越明确、越高越好！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 ●</a:t>
            </a: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把个人的目标变成团队的目标，把团队的目标变成每一个人的目标。</a:t>
            </a:r>
            <a:br>
              <a:rPr sz="2400"/>
            </a:b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 ●找更强硬的对手比赛</a:t>
            </a: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发现自己的缺点，才有调整后再打败强手的机会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>
    <p:zoom dir="in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114800" y="137160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97360" y="609480"/>
            <a:ext cx="207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  <a:ea typeface="黑体"/>
              </a:rPr>
              <a:t>希丁克</a:t>
            </a:r>
            <a:br>
              <a:rPr sz="4400"/>
            </a:br>
            <a:r>
              <a:rPr b="0" lang="zh-CN" sz="4400" spc="-1" strike="noStrike">
                <a:solidFill>
                  <a:srgbClr val="007572"/>
                </a:solidFill>
                <a:latin typeface="Arial"/>
                <a:ea typeface="黑体"/>
              </a:rPr>
              <a:t>的故事……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2438280"/>
            <a:ext cx="36576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  <a:ea typeface="楷体_GB2312"/>
              </a:rPr>
              <a:t>希丁克当时为韩国队设定的目标是“世界杯冠军”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  <a:ea typeface="楷体_GB2312"/>
              </a:rPr>
              <a:t>这在当时是根本不可能达成的目标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  <a:ea typeface="楷体_GB2312"/>
              </a:rPr>
              <a:t>但事实是他带队奇迹般地打到了四强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2971800" cy="1981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57200" y="3505320"/>
            <a:ext cx="3048120" cy="2619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7543800" y="533520"/>
            <a:ext cx="1371600" cy="299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14:44:05Z</dcterms:created>
  <dc:creator>该资料由书利华教育网【www.ShuLiHua.net】为您整理提供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5:49:16Z</dcterms:modified>
  <cp:revision>48</cp:revision>
  <dc:subject>主题班会课件(分28大类): http://shop62905894.taobao.com</dc:subject>
  <dc:title>主题班会课件(分28大类): http://shop62905894.taobao.com</dc:title>
</cp:coreProperties>
</file>