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wmf" ContentType="image/x-wmf"/>
  <Override PartName="/ppt/media/image10.jpeg" ContentType="image/jpeg"/>
  <Override PartName="/ppt/media/image8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704-837F-4B12-BB48-A884CF79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38DC-8D63-4267-AB20-06CE924A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264-D750-4205-BAA1-E06E2110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48F-9F6B-47E6-826F-D5F78151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F394-500D-42AD-AF5C-B364DF33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7912-E824-4A57-A06A-CAFA6905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E4D5-6B9E-43FD-B4C7-7E6DBEB4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6F87-876A-4F41-9B4D-20C4E18D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EE9D-B071-42EF-A019-47E5A5D3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84DF-BD53-46E0-BFEE-1288B4E3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D8DA-AB68-4CCA-AB84-2CFE6A33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0F7-9D44-45FB-932E-7A2495EF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9247-CC3B-45AD-85C0-14313140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7C55-16A7-4D5C-9E34-E6775C26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288E-4AAB-4425-AA98-A8F50D58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522F-AFE7-4445-9905-399AA4E0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90A7-97EA-4B59-9685-6622D7DA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69F-44C3-465E-8DD6-C5FBCF9D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86A-DA01-44FB-AACF-C8339BFC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52B-7D66-4897-9B84-245B9D41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A45-BE06-4A7A-A60D-11A657F7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804-8291-46DA-AB63-DC678925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D8C-E632-44F4-B6ED-45F906CC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7EB-6A2B-4A8F-9749-7EEE3F23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63C1-A20B-442C-AF12-4640EDEEAD9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7CBD-1BBA-4727-93A6-0CF0529667A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195640" y="1557360"/>
            <a:ext cx="5400720" cy="21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隶书"/>
              </a:rPr>
              <a:t>如何获取成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757440" y="260280"/>
            <a:ext cx="9434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Comic Sans MS"/>
              </a:rPr>
              <a:t>二</a:t>
            </a:r>
            <a:r>
              <a:rPr b="1" lang="zh-CN" sz="54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lang="zh-CN" sz="5400" spc="-1" strike="noStrike">
                <a:solidFill>
                  <a:srgbClr val="0033cc"/>
                </a:solidFill>
                <a:latin typeface="Comic Sans MS"/>
              </a:rPr>
              <a:t>坚强的信念</a:t>
            </a:r>
            <a:r>
              <a:rPr b="1" lang="zh-CN" sz="5400" spc="-1" strike="noStrike">
                <a:solidFill>
                  <a:srgbClr val="0033cc"/>
                </a:solidFill>
                <a:latin typeface="Comic Sans MS"/>
              </a:rPr>
              <a:t>,</a:t>
            </a:r>
            <a:r>
              <a:rPr b="1" lang="zh-CN" sz="5400" spc="-1" strike="noStrike">
                <a:solidFill>
                  <a:srgbClr val="0033cc"/>
                </a:solidFill>
                <a:latin typeface="Comic Sans MS"/>
              </a:rPr>
              <a:t>强烈的意愿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山穷水复疑无路，柳暗花明又一村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行至水穷处，坐看云起时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日本邮政大臣——野田圣子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351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Tahoma"/>
              </a:rPr>
              <a:t>她的第一份工作是洗厕所，当时正值青春妙龄。可她并没有忽视这份看起来“低贱’，做起来“肮脏”的简单工作。她也有过痛苦、有过失落、有过退却的念头，但经过一番激烈的自我较量，她最终找回了自信：就算一生洗厕所，自己也会是一名洗厕所最出色的人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Tahoma"/>
              </a:rPr>
              <a:t>!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Tahoma"/>
              </a:rPr>
              <a:t>她不断地激励自己鞭策自己，给自己加油鼓励，并给自己制定了严格的工作要求：让马桶“光洁如新”。其检验方法是：让马桶中的水达到可以喝的程度。她多次喝过厕水，为了证实自己的工作质量，为了强化自己的事业心，也是为了检验自己的自信心。正是她的这种事业心，使她由一位普通的清洁女工，竟然一跃而为日本政府的主要官员——邮政大臣！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51200" y="151920"/>
            <a:ext cx="78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277080" y="0"/>
            <a:ext cx="8425080" cy="69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荷兰国徽上的格言是：让我们坚持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伊索寓言》在故事结尾处总会总结道坚持下去，方法正确，你就会成功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哥伦布在他每天的航海日志的最后一句话总是写道—今天我们继续航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手中的牌没打完，我是不会认输的。 我成功过，我失败过，可我从来没有放弃过。                                            ——林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458040" y="151920"/>
            <a:ext cx="1923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0"/>
            <a:ext cx="53672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沟算什么，坎算什么，走过去，头上依然是蓝天，脚下依然是大路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9292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华文行楷"/>
                <a:ea typeface="华文行楷"/>
              </a:rPr>
              <a:t>只要青春还在，我就不会悲哀，纵使黑夜吞噬了一切，太阳还可以重新回来                 ——汪国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9292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华文行楷"/>
                <a:ea typeface="华文行楷"/>
              </a:rPr>
              <a:t>东风吹战鼓擂，当今世界谁怕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040" y="151920"/>
            <a:ext cx="1923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757080" y="151920"/>
            <a:ext cx="33098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华文行楷"/>
                <a:ea typeface="华文行楷"/>
              </a:rPr>
              <a:t>成功的花儿，人们只惊慕她现时的明艳，然而当初她的芽儿，浸透了奋斗的泪泉，洒满了牺牲的血雨                               ——冰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7993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醉过方知酒浓，爱过方知情重，尝试过方知个中的酸甜苦痛，不经历风雨，怎能见彩虹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世之奇伟、瑰怪、非常之观，常在于险远，而人之所罕至故非有志者不能至也。 ——王安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要为天下奇男子，须历人间万里程 ——冯梦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古之成大事者，不惟有超世之才，亦有坚忍不拔之志。                           ——苏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即使命运扔给我一千个理由哭泣，我也要用第一千零一个理由微笑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千淘万漉虽辛苦，吹尽狂沙始得金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300720" y="4941720"/>
            <a:ext cx="208764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三</a:t>
            </a: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.</a:t>
            </a: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团队的合作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大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木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一滴水只有融入大海才能不干涸，水滴石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众人划桨开大船，众人拾柴火焰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0"/>
            <a:ext cx="4788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行楷"/>
              </a:rPr>
              <a:t>昨夜西风凋碧树，独上高楼，望尽天涯路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行楷"/>
              </a:rPr>
              <a:t>衣带渐宽终不悔，为伊消得人憔悴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行楷"/>
              </a:rPr>
              <a:t>众里寻她千百度，蓦然回首，那人却在灯火阑珊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97608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990720" y="304920"/>
            <a:ext cx="76197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今天，我还是一株幼苗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900000" y="981000"/>
            <a:ext cx="7543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明天，我是国家栋梁！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687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703dff"/>
                </a:solidFill>
                <a:latin typeface="Comic Sans MS"/>
                <a:ea typeface=""/>
              </a:rPr>
              <a:t>一</a:t>
            </a:r>
            <a:r>
              <a:rPr b="1" lang="zh-CN" sz="4400" spc="-1" strike="noStrike">
                <a:solidFill>
                  <a:srgbClr val="703dff"/>
                </a:solidFill>
                <a:latin typeface="Comic Sans MS"/>
                <a:ea typeface=""/>
              </a:rPr>
              <a:t>.</a:t>
            </a:r>
            <a:r>
              <a:rPr b="1" lang="zh-CN" sz="4400" spc="-1" strike="noStrike">
                <a:solidFill>
                  <a:srgbClr val="703dff"/>
                </a:solidFill>
                <a:latin typeface="Comic Sans MS"/>
                <a:ea typeface=""/>
              </a:rPr>
              <a:t>明确的目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435640" y="4653000"/>
            <a:ext cx="2243160" cy="1824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9640" y="1125360"/>
            <a:ext cx="7920000" cy="60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确立的目标要远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9900ff"/>
                </a:solidFill>
                <a:latin typeface="Comic Sans MS"/>
              </a:rPr>
              <a:t>人无远虑，必有近忧”——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9900ff"/>
                </a:solidFill>
                <a:latin typeface="Comic Sans MS"/>
              </a:rPr>
              <a:t>志当存高远”——诸葛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9900ff"/>
                </a:solidFill>
                <a:latin typeface="Comic Sans MS"/>
              </a:rPr>
              <a:t>五子登科”——票子、房子、车子、位子、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“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人生本应为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happy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，何必苦苦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study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，不如多赚点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money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，找个漂亮的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lady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，抱个胖胖的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bab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9185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29292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92929"/>
                </a:solidFill>
                <a:latin typeface="Comic Sans MS"/>
                <a:ea typeface="隶书"/>
              </a:rPr>
              <a:t>马克思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29292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92929"/>
                </a:solidFill>
                <a:latin typeface="Comic Sans MS"/>
                <a:ea typeface="隶书"/>
              </a:rPr>
              <a:t>     </a:t>
            </a:r>
            <a:r>
              <a:rPr b="1" lang="zh-CN" sz="5400" spc="-1" strike="noStrike">
                <a:solidFill>
                  <a:srgbClr val="292929"/>
                </a:solidFill>
                <a:latin typeface="Comic Sans MS"/>
                <a:ea typeface="隶书"/>
              </a:rPr>
              <a:t>周恩来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3024000" cy="321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093080" y="5229360"/>
            <a:ext cx="1738080" cy="1827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003640" y="3284640"/>
            <a:ext cx="273708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070480" y="151920"/>
            <a:ext cx="78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324000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cc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66"/>
                </a:solidFill>
                <a:latin typeface="Comic Sans MS"/>
                <a:ea typeface="隶书"/>
              </a:rPr>
              <a:t>乘风破浪会有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cc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66"/>
                </a:solidFill>
                <a:latin typeface="Comic Sans MS"/>
                <a:ea typeface="隶书"/>
              </a:rPr>
              <a:t>直挂云帆济沧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63640" y="990720"/>
            <a:ext cx="86853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找准立足点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Comic Sans MS"/>
              </a:rPr>
              <a:t>西楚霸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Comic Sans MS"/>
              </a:rPr>
              <a:t>哥伦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Comic Sans MS"/>
              </a:rPr>
              <a:t>阿基米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794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94" fill="hold">
                                          <p:stCondLst>
                                            <p:cond delay="179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794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94" fill="hold">
                                          <p:stCondLst>
                                            <p:cond delay="179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794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94" fill="hold">
                                          <p:stCondLst>
                                            <p:cond delay="179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794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94" fill="hold">
                                          <p:stCondLst>
                                            <p:cond delay="179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640" y="620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学会从零做起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“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合抱之树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生于毫未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;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九层之台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起于垒土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;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千里之行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始于足下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.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“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不积跬步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无以至千里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;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不积小流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无以成江海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.”  ——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隶书"/>
              </a:rPr>
              <a:t>荀子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2440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自卑是一种过多地自我否定而产生的自惭形秽的情绪体验</a:t>
            </a: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自信是成功的第一秘诀</a:t>
            </a: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是英雄主义品质—— 爱默生</a:t>
            </a: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美</a:t>
            </a: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悲观的人</a:t>
            </a: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先被自己打败</a:t>
            </a: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;</a:t>
            </a: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然后才被生活打败</a:t>
            </a: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乐观的人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战胜自己</a:t>
            </a: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然后才战胜生活。              ——汪国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玫瑰就是玫瑰，莲花就是莲花，只要去看，不要比较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                                           ——</a:t>
            </a: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奥修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只在意天边的彩虹，而忽视了脚边的玫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020000" y="5033880"/>
            <a:ext cx="1773000" cy="1824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-243000"/>
            <a:ext cx="8028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正确认识自我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正确评价自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认识你自己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珍惜拥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新加坡总理——李光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相信自己，总有一天，毛毛虫能变成美丽的蝴蝶；丑小鸭变成白天鹅；灰姑娘会穿上美丽的水晶鞋变成公主；青蛙也会变成王子的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196056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20872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◇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如果我赶时髦，不见得就会更得民心。坦白地说，我是个老派的社会主义者。这样，我才可以始终如一，保持自我，不必为什么是最新的时尚、潮流或流行的玩意儿而操心。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(1976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    ◇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如果有一天，你再也不能适应，再也无法改变了，那就是你枯萎、凋谢的开始……就这么简单。假如有一天，我无法再学习新事物，并与世界脱节，我将变成废人。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职总对话会，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    ◇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人们听到赞美时通常有三种不同的反应：第一种是陶醉于温馨的溢美之词，忘记了关节的疼痛和自疑的伤感。第二种是处之泰然，因为自己已有无数荣耀，后来的只是锦上添花。第三种是苛刻地自我反省，并有点难为情，明知别人是刻意掩饰我们的缺点并凸显我们的优点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的反应难免是第三种，因为我很了解我自己，知道那些赞语是别人的过奖。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在伦敦接受荣誉市民荣衔时谈话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98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02:22:03Z</dcterms:created>
  <dc:creator>0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46:02Z</dcterms:modified>
  <cp:revision>1</cp:revision>
  <dc:subject>主题班会课件(分28大类): http://shop62905894.taobao.com</dc:subject>
  <dc:title>主题班会课件(分28大类): http://shop62905894.taobao.com</dc:title>
</cp:coreProperties>
</file>