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C3B-C5C6-4F71-B5D9-E80B4B50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F4D-E417-4C6C-9794-DE734CB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F90-B4AF-40CB-B94C-CB9667A2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2FD-4175-4C8D-B8D4-B5F51E6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55A-DFAB-4E26-9A3E-312AA79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8A8-930E-4737-9656-17DDFD0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04E-E500-44BF-A2AB-4B753FF8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9B9-F709-4944-9D4B-69003A6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B99-B63C-408C-99D4-B05D151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F6E-FB3F-4D07-A97D-A1CDBA7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3ED-607D-4D3B-B9D2-D4BF2E66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BAC-EBE1-477D-B744-BCAF631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F28-5ACD-4B19-B183-DE36306CC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t8848.net/ReAdRotator.asp?url=nmhzj.htm&amp;image=lb/4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45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448920" y="228600"/>
            <a:ext cx="144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年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1143000"/>
            <a:ext cx="4191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明天更辉煌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4572000"/>
            <a:ext cx="15242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成功与失败得失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04920" y="3581280"/>
            <a:ext cx="2262240" cy="22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952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高一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班主题班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457200"/>
            <a:ext cx="86104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经过一番思想斗争后，他找到当时的校长霍里厄克，把书还给了学校。霍里厄克校长收下书，感谢了他。然后下令把他开除出校，理由是，这名学生违反了校规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开除这名学生行吗？也可以，不管怎么说，毕竟是他使哈佛牧师的书总算留下了一本——这可能是我们的行事态度。但霍里厄克校长没有这么做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他感谢那位同学，是因为那位同学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把违反校规带出馆外的书又送了回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；开除他，是因为有校规。哈佛的理念是：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让校规看守哈佛的一切比让道德看守哈佛更安全有效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这便是他们的行事态度：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法理第一。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43000" y="2682720"/>
            <a:ext cx="6858000" cy="1494000"/>
            <a:chOff x="1143000" y="2682720"/>
            <a:chExt cx="6858000" cy="1494000"/>
          </a:xfrm>
        </p:grpSpPr>
        <p:sp>
          <p:nvSpPr>
            <p:cNvPr id="85" name=""/>
            <p:cNvSpPr/>
            <p:nvPr/>
          </p:nvSpPr>
          <p:spPr>
            <a:xfrm>
              <a:off x="1143000" y="268272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143000" y="2682720"/>
              <a:ext cx="2435400" cy="1494000"/>
              <a:chOff x="1143000" y="2682720"/>
              <a:chExt cx="2435400" cy="1494000"/>
            </a:xfrm>
          </p:grpSpPr>
          <p:sp>
            <p:nvSpPr>
              <p:cNvPr id="87" name=""/>
              <p:cNvSpPr/>
              <p:nvPr/>
            </p:nvSpPr>
            <p:spPr>
              <a:xfrm>
                <a:off x="1143000" y="2682720"/>
                <a:ext cx="2435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43000" y="2682720"/>
                <a:ext cx="2435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8300" spc="-1" strike="noStrike">
                    <a:solidFill>
                      <a:srgbClr val="576575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576575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838080" y="1447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自律，他将自食任性的苦果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过分的强调自由，他便没有自由了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38880" y="3657600"/>
            <a:ext cx="1548000" cy="291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81280" y="3886200"/>
            <a:ext cx="2438640" cy="838080"/>
          </a:xfrm>
          <a:prstGeom prst="cloudCallout">
            <a:avLst>
              <a:gd name="adj1" fmla="val 102671"/>
              <a:gd name="adj2" fmla="val 51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4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成功的秘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下。大家能做到吗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学生们都笑了。这么简单的事，有什么做不到的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过了一个月，苏格拉底问学生们：“每天甩手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下，哪些同学坚持了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％的同学骄傲地举起了手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又过了一个月，苏格拉底又问，这回，坚持下来的学生只剩下八成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一年过后，苏格拉底再一次问大家：“请告诉我，最简单的甩手运动，还有哪几位同学坚持了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这时，整个教室里，只有一人举起了手。这个学生就是后来成为古希腊另一位大哲学家的柏拉图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世间最容易的事是坚持，最难的事也是坚持。说它容易，是因为只要愿意做，人人能做到；说它难，是因为真正能做到的，终究只是少数人。成功在于坚持。这是一个并不神秘的秘诀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291960"/>
            <a:ext cx="89154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方正隶二简体"/>
              </a:rPr>
              <a:t>扪心自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柏拉图为什么能取得成功出人头地？他其实并没有什么惊人之举，没有什么过人的智慧，他只不过是坚持下去了，比一般的人做得好一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大家记住：只要你比一般人做得好一点——仅仅是好一点——你就一定能出人头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扪心自问：我和班上和级里品学兼优的同学相比，我输在哪里？我还会重蹈以往失败之覆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方正魏碑简体"/>
              </a:rPr>
              <a:t>成败在于人品的优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美国哈佛大学心理学教授乔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博士多年的研究成果，事业的成败在于人品优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成功有九大要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为人有幽默感；②待人处事温文尔雅；③注重友情、热心；④与人真诚合作；⑤仪表大方；⑥人格平衡发展；⑦富于想象力；⑧有克服任何困难的勇气；⑨有必胜的坚强毅力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失败也有九大因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言行孤僻，不善与人合作；②言而无信；③脾气古怪无常；④处事敷衍，工作丢三落四；⑤自负，目空一切；⑥惹是生非，胆大妄为；⑦看不起别人，自诩天下无双；⑧不求进取，懒惰；⑨不尊重别人建议，亦不接受别人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教授指出：“成功人物最重要的是高尚的品格和健康的身心，事业上的失意者大都是由于品格低劣及不能自我调节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7621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让我们一起筹划未来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订立班级与个人的期末考试目标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3124080"/>
            <a:ext cx="269568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01a9"/>
            </a:gs>
            <a:gs pos="100000">
              <a:srgbClr val="7b01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5562360" cy="476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90732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27560" y="158760"/>
            <a:ext cx="3784680" cy="2809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让我们一起分享你成功的喜悦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048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99ff99"/>
                </a:solidFill>
                <a:latin typeface="Times New Roman"/>
              </a:rPr>
              <a:t>我觉得，我最大的成功是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43828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　　您尝试过失败吗？我愿与你分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7800" y="480060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周记欣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9528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中段考结束了，成绩虽然没有完全出来，但我深知这次的中段考会彻彻底底地失败。都怪我平时不努力学习，语言上巨人，行动上矮子。如果当父母看到一科科不合格的成绩，多为我担忧啊！父母为了供我读书，已经够辛苦了，现在因为我这么差劲的成绩，使他们多一点忧虑，这太不应该了。这次，我成了一个不孝子了。为什么在失败后才来后悔，而不好好准备，等待失败降临在自己关上呢？这一次是高中以来受到的最大挫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　　－－这是我班某同学中考后的周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2193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欣赏完周记，您发觉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040" y="25902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不能在拥有的时候就好好地珍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2640" y="36252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非要在失去的时候才深深地叹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77120" y="601992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回顾中段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990720"/>
            <a:ext cx="7619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习如逆水行舟，不进则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59092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你明白这个道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成功，是世界上任何人都羡慕的；失败，是世界上任何人都害怕和讨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每个人的前面都有一条通往远方的路，崎岖但充满希望。不是人人都能走到远方，因为总有人因为没有倒掉鞋子里的沙子而疲惫不堪半途而废。所以，主宰人的感受的并非欢乐和痛苦本身，而是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049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很快我们就要分开了，我想看看我们全班真正努力 读书，一齐报志愿，一齐考高考，继而一起实现我们的梦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895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摘自某同学的周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8839080" cy="32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同学们看看《哈佛的理念》一文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水柱简体"/>
              </a:rPr>
              <a:t>哈佛的理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当年，哈佛牧师立遗嘱时，把他的一块地皮和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遗赠给了当地一所学院，这所学院发展成了现在的哈佛大学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关于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，有这样一个故事：哈佛学院一直把哈佛牧师的这批书珍藏在哈佛楼里的一个图书馆内，并规定学生只能在馆内阅读，不能携出馆外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176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年的一天深夜，一场大火烧毁了哈佛楼。在大火发生前，一名学生碰巧把哈佛牧师捐赠的一册名为《基督教针对魔鬼、世俗与肉欲的战争》的书带出了馆外，打算在宿舍里优哉游哉地阅读。第二天他得知大火的消息，意识到自己从图书馆携出的那本书，已是哈佛捐赠的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惟一存世的一本了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1:34:27Z</dcterms:created>
  <dc:creator>nhyz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1:18Z</dcterms:modified>
  <cp:revision>23</cp:revision>
  <dc:subject>主题班会课件(分28大类): http://shop62905894.taobao.com</dc:subject>
  <dc:title>主题班会课件(分28大类): http://shop62905894.taobao.com</dc:title>
</cp:coreProperties>
</file>