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220-83C0-4E85-AB62-6B8FF2C5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F05-9CED-46AC-87C4-4F91294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80D-5ACB-4716-B3CD-42EA7A2D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70E-426B-40CA-90A3-1D799C6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2BE-DBA2-43B3-A214-8CEDADC7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EA6-6CFF-4ECE-905D-F7EBDB1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2A1-6886-43E2-BA4D-E94E1D3F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1C7-F23E-4DA2-8956-D59EEC2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CD6-2577-4CA8-9572-AEBB18E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C65-6BA9-48EC-B81F-982733D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083-0C55-4FED-A74F-0E43593B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02D-AC9B-4A6A-9569-9C1BD4F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C2E-ED2C-4BC7-BD0D-D27AB4538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914400"/>
            <a:ext cx="792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</a:t>
            </a:r>
            <a:r>
              <a:rPr b="1" i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对二个小故事的理性思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一大群青蛙围着铁塔看比赛，给它们加油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比赛开始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835280" y="1773360"/>
            <a:ext cx="4247640" cy="1511280"/>
            <a:chOff x="1835280" y="1773360"/>
            <a:chExt cx="4247640" cy="151128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572000" y="1773360"/>
              <a:ext cx="15109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1835280" y="1773360"/>
              <a:ext cx="2878920" cy="1511280"/>
              <a:chOff x="1835280" y="1773360"/>
              <a:chExt cx="2878920" cy="151128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3280" y="1773360"/>
                <a:ext cx="1510920" cy="15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1773360"/>
                <a:ext cx="1510920" cy="151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3" name=""/>
          <p:cNvGrpSpPr/>
          <p:nvPr/>
        </p:nvGrpSpPr>
        <p:grpSpPr>
          <a:xfrm>
            <a:off x="1332000" y="4581360"/>
            <a:ext cx="6048360" cy="898560"/>
            <a:chOff x="1332000" y="4581360"/>
            <a:chExt cx="6048360" cy="898560"/>
          </a:xfrm>
        </p:grpSpPr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1332000" y="458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6299280" y="458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2340000" y="458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3274920" y="458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8"/>
            <a:stretch/>
          </p:blipFill>
          <p:spPr>
            <a:xfrm>
              <a:off x="4282920" y="458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9"/>
            <a:stretch/>
          </p:blipFill>
          <p:spPr>
            <a:xfrm>
              <a:off x="5291280" y="458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9898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老实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群蛙中没有谁相信这些小小的青蛙会到达塔顶，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都在议论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太难了！！它们肯定到不了塔顶！”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他们绝不可能成功的，塔太高了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听到这些，一只接一只的青蛙开始泄气了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除了那些情绪高涨的几只还在往上爬。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群蛙继续喊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“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太难了！！没有谁能爬上顶的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2016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越来越多的青蛙累坏了，退出了比赛。但，有一只却还在越爬越高，一点没有放弃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最后，其他所有的青蛙都退出了比赛，除了一只，它费了很大的劲，终于成为唯一一只到达塔顶的胜利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很自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其他所有的青蛙都想知道它是怎么成功的 </a:t>
            </a:r>
            <a:br>
              <a:rPr sz="3200"/>
            </a:br>
            <a:br>
              <a:rPr sz="1800"/>
            </a:b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有一只青蛙跑上前去问那只胜利者它哪来那么大的力气跑完全程？</a:t>
            </a: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64000" y="1341360"/>
            <a:ext cx="2233440" cy="898560"/>
            <a:chOff x="3564000" y="1341360"/>
            <a:chExt cx="2233440" cy="8985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564000" y="134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716360" y="134136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164360" y="3645000"/>
            <a:ext cx="16257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42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它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这只青蛙是个</a:t>
            </a:r>
            <a:r>
              <a:rPr b="0" lang="zh-CN" sz="41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聋子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个故事的寓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永远不要听信那些习惯消极悲观看问题的人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因为他们只会粉碎你内心最美好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梦想与希望</a:t>
            </a: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122868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总是记住你听到的充满力量的话语，因为所有你听到的或读到的话语都会影响你的行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以，总是要保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积极、乐观！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1400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而且，最重要的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当有人告诉你你的梦想不可能成真时，你要变成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“聋子”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，对此充耳不闻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要总是想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我一定能做到！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将这个故事告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个你关心的“小青蛙”，以此激励他们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1728720" cy="9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42244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北大学生郭辉的成才经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1" i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事之一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3644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郭辉成才的不利因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7524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身体残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0481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基础薄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32756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人际环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3644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郭辉成才必备的基本要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7524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顽强的毅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0481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勤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432756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自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974880"/>
            <a:ext cx="83818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与郭辉相比，我们具备的有利条件有哪些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你认为制约你进步或成功的最大因素是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762120"/>
            <a:ext cx="731520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i="1" lang="zh-CN" sz="16000" spc="-1" strike="noStrike">
                <a:solidFill>
                  <a:srgbClr val="ff0000"/>
                </a:solidFill>
                <a:latin typeface="黑体"/>
                <a:ea typeface="黑体"/>
              </a:rPr>
              <a:t>惰</a:t>
            </a:r>
            <a:r>
              <a:rPr b="0" i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字当头</a:t>
            </a:r>
            <a:r>
              <a:rPr b="0" i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万事皆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29440" y="3352680"/>
            <a:ext cx="291456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243828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小青蛙的攀爬比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09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1" i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事之二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0629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从前，有一群青蛙组织了一场攀爬比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比赛的终点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个非常高的铁塔的塔顶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42920" y="1989000"/>
            <a:ext cx="5832360" cy="898560"/>
            <a:chOff x="1042920" y="1989000"/>
            <a:chExt cx="5832360" cy="8985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04292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79420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1906200" y="1989000"/>
              <a:ext cx="10814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76984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377820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478620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577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23:20:18Z</dcterms:created>
  <dc:creator>use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5:02Z</dcterms:modified>
  <cp:revision>8</cp:revision>
  <dc:subject>主题班会课件(分28大类): http://shop62905894.taobao.com</dc:subject>
  <dc:title>主题班会课件(分28大类): http://shop62905894.taobao.com</dc:title>
</cp:coreProperties>
</file>