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5800" y="118584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6920" y="-7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 Black"/>
                <a:ea typeface="华文行楷"/>
              </a:rPr>
              <a:t>小故事，大道理，每天读一遍，十天你就变。</a:t>
            </a:r>
            <a:r>
              <a:rPr b="0" lang="zh-CN" sz="1800" spc="-1" strike="noStrike">
                <a:solidFill>
                  <a:srgbClr val="0000ff"/>
                </a:solidFill>
                <a:latin typeface="Arial Black"/>
              </a:rPr>
              <a:t>　　　　　　　－－－</a:t>
            </a:r>
            <a:r>
              <a:rPr b="0" lang="zh-CN" sz="1800" spc="-1" strike="noStrike">
                <a:solidFill>
                  <a:srgbClr val="0000ff"/>
                </a:solidFill>
                <a:latin typeface="Arial Black"/>
              </a:rPr>
              <a:t>0808</a:t>
            </a:r>
            <a:r>
              <a:rPr b="0" lang="zh-CN" sz="1800" spc="-1" strike="noStrike">
                <a:solidFill>
                  <a:srgbClr val="0000ff"/>
                </a:solidFill>
                <a:latin typeface="Arial Black"/>
                <a:ea typeface="华文行楷"/>
              </a:rPr>
              <a:t>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35640" y="6308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方正硬笔行书简体"/>
                <a:ea typeface="方正硬笔行书简体"/>
              </a:rPr>
              <a:t>版权：</a:t>
            </a:r>
            <a:r>
              <a:rPr b="1" lang="zh-CN" sz="2000" spc="-1" strike="noStrike">
                <a:solidFill>
                  <a:srgbClr val="ff3300"/>
                </a:solidFill>
                <a:latin typeface="方正硬笔行书简体"/>
                <a:ea typeface="方正硬笔行书简体"/>
              </a:rPr>
              <a:t>0808</a:t>
            </a:r>
            <a:r>
              <a:rPr b="1" lang="zh-CN" sz="2000" spc="-1" strike="noStrike">
                <a:solidFill>
                  <a:srgbClr val="ff3300"/>
                </a:solidFill>
                <a:latin typeface="方正硬笔行书简体"/>
                <a:ea typeface="方正硬笔行书简体"/>
              </a:rPr>
              <a:t>班独著，盗版必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329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你背向太阳的时候，你会只看到自己的阴影，连别人看你，也只会看见你脸上阴黑一片。只拿愤世嫉俗来替代反省自己，对自己的成长是一种最大的耽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小男孩玩耍一只贵重的花瓶。他把手伸进去，结果竟拔不出来。父亲费尽了力气也帮不上忙，决定打破瓶子。但在此之前，他决心再试一次：“孩子，现在你张开手掌，伸直手指，像我这样，看能不能拉出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男孩却说了一句令人惊讶的话：“不行，爸，我不能松手，那样我会失去一分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1341360"/>
            <a:ext cx="3278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何不能松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少人正像那男孩一样，执意抓住那无用的一分钱，不愿获得自由。所以，很多时候我们应该放掉那些无意义的东西，获取本属于我们的生命自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位年轻的炮兵军官上任后，到下属部队视察操练情况，发现有几个部队操练时有一个共同的情况：在操练中，总有一个士兵自始至终站在大炮的炮筒下，纹丝不动。经过询问，得到的答案是：操练条例就是这样规定的。原来，条例因循的是用马拉大炮时代的规则，当时站在炮筒下的士兵的任务是拉住马的缰绳，防止大炮发射后因后座力产生的距离偏差，减少再次瞄准的时间。现在大炮不再需要这一角色了。但条例没有及时调整，出现了不拉马的士兵。这位军官的发现使他受到了国防部的表彰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理的首要工作就是科学分工。只有每个员工都明确自己的岗位职责，才不会产生推委、扯皮等不良现象。如果公司象一个庞大的机器，那么每个员工就是一个个零件，只有他们爱岗敬业，公司的机器才能得以良性运转。公司是发展的，管理者应当根据实际动态情况对人员数量和分工及时做出相应调整。否则，队伍中就会出现“不拉马的士兵”。如果队伍中有人滥竽充数，给企业带来的不仅仅是工资的损失，而且会导致其他人员的心理不平衡，最终导致公司工作效率整体下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个小和尚担任撞钟一职，半年下来，觉得无聊之极，“做一天和尚撞一天钟”而已。有一天，主持宣布调他到后院劈柴挑水，原因是他不能胜任撞钟一职。小和尚很不服气地问：“我撞的钟难道不准时、不响亮？”老主持耐心地告诉他：“你撞的钟虽然很准时、也很响亮，但钟声空泛、疲软，没有感召力。钟声是要唤醒沉迷的众生，因此，撞出的钟声不仅要洪亮，而且要圆润、浑厚、深沉、悠远。”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06064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故事中的主持犯了一个常识性管理错误，“做一天和尚撞一天钟”是由于主持没有提前公布工作标准造成的。如果小和尚进入寺院的当天就明白撞钟的标准和重要性，我想他也不会因怠工而被撤职。工作标准是员工的行为指南和考核依据。缺乏工作标准，往往导致员工的努力方向与公司整体发展方向不统一，造成大量的人力和物力资源浪费。因为缺乏参照物，时间久了员工容易形成自满情绪，导致工作懈怠。制定工作标准尽量做到数字化，要与考核联系起来，注意可操作性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916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七个人住在一起，每天共喝一桶粥，显然粥每天都不够。一开始，他们抓阄决定谁来分粥，每天轮一个。于是乎每周下来，他们只有一天是饱的，就是自己分粥的那一天。后来他们开始推选出一个道德高尚的人出来分粥。强权就会产生腐败，大家开始挖空心思去讨好他，贿赂他，搞得整个小团体乌烟障气。然后大家开始组成三人的分粥委员会及四人的评选委员会，互相攻击扯皮下来，粥吃到嘴里全是凉的。最后想出来一个方法：轮流分粥，但分粥的人要等其它人都挑完后拿剩下的最后一碗。为了不让自己吃到最少的，每人都尽量分得平均，就算不平，也只能认了。大家快快乐乐，和和气气，日子越过越好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98900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理的真谛在“理”不在“管”。管理者的主要职责就是建立一个象“轮流分粥，分者后取”那样合理的游戏规则，让每个员工按照游戏规则自我管理。游戏规则要兼顾公司利益和个人利益，并且要让个人利益与公司整体利益统一起来。责任、权利和利益是管理平台的三根支柱，缺一不可。缺乏责任，公司就会产生腐败，进而衰退；缺乏权利，管理者的执行就变成废纸；缺乏利益，员工就会积极性下降，消极怠工。只有管理者把“责、权、利”的平台搭建好，员工才能“八仙过海，各显其能”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秋晋国有一名叫李离的狱官，他在审理一件案子时，由于听从了下属的一面之辞，致使一个人冤死。真相大白后，李离准备以死赎罪，晋文公说：官有贵贱，罚有轻重，况且这件案子主要错在下面的办事人员，又不是你的罪过。李离说：“我平常没有跟下面的人说我们一起来当这个官，拿的俸禄也没有与下面的人一起分享。现在犯了错误，如果将责任推到下面的办事人员身上，我又怎么做得出来”。他拒绝听从晋文公的劝说，伏剑而死。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牛见母牛在农民的皮鞭下汗流浃背的耕田，感到很难过，就问：“妈妈，世界这么大为什么我们一定要在这里受苦，受人折磨呢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母牛一边挥汗如雨，一边无可奈何的回答说：“孩子，没办法呀，自从咱们吃了人家的东西，就身不由已了，祖祖辈辈都这样啊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1341360"/>
            <a:ext cx="251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自己的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人先正己，做事先做人。管理者要想管好下属必须以身作则。示范的力量是惊人的。不但要象先人李离那样勇于替下属承担责任，而且要事事为先、严格要求自己，做到“己所不欲，勿施于人”。一旦通过表率树立起在员工中的威望，将会上下同心，大大提高团队的整体战斗力。得人心者得天下，做下属敬佩的领导将使管理事半功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外一家森林公园曾养殖几百只梅花鹿，尽管环境幽静，水草丰美，又没有天敌，而几年以后，鹿群非但没有发展，反而病的病，死的死，竟然出现了负增长。后来他们买回几只狼放置在公园里，在狼的追赶捕食下，鹿群只得紧张地奔跑以逃命。这样一来，除了那些老弱病残者被狼捕食外，其它鹿的体质日益增强，数量也迅速地增长着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竞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水不腐，户枢不蠹。人天生有种惰性，没有竞争就会固步自封，躺在功劳簿上睡大觉。竞争对手就是追赶梅花鹿的狼，时刻让梅花鹿清楚狼的位置和同伴的位置。跑在前面的梅花鹿可以得到更好的食物，跑在最后的梅花鹿就成了狼的食物。按照市场规则，给予“头鹿”奖励，让“末鹿”被市场淘汰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1916280"/>
            <a:ext cx="867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国知名主持人“林克莱特”一天访问一名小朋友，问他说：“你长大后想要当什么呀？”小朋友天真的回答：“我要当飞机的驾驶员！”林克莱特接着问：“如果有一天，你的飞机飞到太平洋上空所有引擎都熄火了，你会怎么办？”小朋友想了说：“我会先告诉坐在飞机上的人绑好安全带，然后我挂上我的降落伞跳出去。”当在现场的观众笑的东倒西歪时，林克莱特继续注视这孩子，想看他是不是自作聪明的家伙。没想到，接著孩子的两行热泪夺眶而出，这才使得林克莱特发觉这孩子的悲悯之情远非笔墨所能形容。于是林克莱特问他说：“为甚么要这么做？”小孩的答案透露出一个孩子真挚的想法：“我要去拿燃料，我还要回来！！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91628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真的听懂了手下的话了吗？你是不是也习惯性地用自己的权威打断手下的语言？我们经常犯这样的错误：在手下还没有来得及讲完自己的事情前，就按照我们的经验大加评论和指挥。反过头来想一下，如果你不是领导，你还会这么做吗？打断手下的语言，一方面容易做出片面的决策，另一方面使员工缺乏被尊重的感觉。时间久了，手下将再也没有兴趣向上级反馈真实的信息。反馈信息系统被切断，领导就成了“孤家寡人”，在决策上就成了“睁眼瞎”。与手下保持畅通的信息交流，将会使你的管理如鱼得水，以便及时纠正管理中的错误，制定更加切实可行的方案和制度。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回，日本歌舞伎大师勘弥扮演古代一位徒步旅行的百姓，他要上场之前故意解开自己的鞋带，试图表现这个百姓长途旅行的疲态。正巧那天有位记者到后台采访，看见了这一幕。等演完戏后，记者问勘弥：“你为什么不当时指教学生呢，他们并没有松散自己的鞋带呀。”勘弥回答说：“要教导学生演戏的技能，机会多的是，在今天的场合，最重要的是要让他们保持热情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员工素质和能力是提高管理水准的有效方式。学习有利于提高团队执行力，便于增强团队凝聚力。手把手的现场指导可以及时纠正员工的错误，是提高员工素质的重要形式之一。但是指导必须注重技巧，就象勘弥大师那样要保护员工的热情。管理者必须避免教训式指导，应当语重心长的激励员工提高自身业务素质。除了现场指导外，还可以综合运用培训、交流会、内部刊物、业务竞赛等多种形式，激发员工不断提高自身素质和业务水平，形成一个积极向上的学习型团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在高山之巅的鹰巢里，抓到了一只幼鹰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锻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人都希望用自己的能力来证明自身价值，手下也不例外。给他们更大的空间去施展自己的才华，是对他们最大的尊重和支持。不要害怕他们失败，给予适当的扶持和指点，放开你手中的“雄鹰”，让他们翱翔于更宽阔的天空。是个猴子就给他们座山折腾折腾，是条龙就给他们条大江大河扑腾扑腾。他们的成长，将为你的工作带来更大的贡献。他们的成长，将促使你更进一步。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位著名企业家在做报告。当听众咨询他最成功的做法时，他拿起粉笔在黑板上画了一个圈，只是并没有画圆满，留下一个缺口。 他反问道：“这是什么？”“零”、“圈” 、“未完成的事业”、“成功”，台下的听众七嘴八舌地答道。 他对这些回答未置可否：“其实，这只是一个未画完整的句号。你们问我为什么会取得辉煌的业绩，道理很简单：我不会把事情做得很圆满，就像画个句号，一定要留个缺口，让我的下属去填满它。”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习惯一开始就是你的主人，如果你被它奴役时间长了，你就会“身不由己”，你就成了它的奴隶。相反，如果习惯被你奴役惯了，你就成了习惯的主人。拥有好的习惯，就拥有幸福美好的一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06064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必躬亲，是对员工智慧的扼杀，往往事与愿违。长此以往，员工容易形成惰性，责任心大大降低，把责任全推给管理者。情况严重者，会导致员工产生腻烦心理，即便工作出现错误也不情愿向管理者提出。何况人无完人，个人的智慧毕竟是有限而且片面的。为员工画好蓝图，给员工留下空间，发挥他们的智慧，他们会画的更好。多让员工参与公司的决策事务，是对他们的肯定，也是满足员工自我价值实现的精神需要。赋予员工更多的责任和权利，他们会取得让你意想不到的成绩。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拿破仑一次打猎的时候，看到一个落水男孩，一边拼命挣扎，一边高呼救命。这河面并不宽，拿破仑不但没有跳水救人，反而端起猎枪，对准落水者，大声喊到：你若不自己爬上来，我就把你打死在水中。那男孩见求救无用，反而增添了一层危险，便更加拼命地奋力自救，终于游上岸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鞭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待自觉性比较差的员工，一味的为他创造良好的软环境、去帮助他，并不一定让他感受到“萝卜”的重要，有时还离不开“大棒”的威胁。偶尔利用你的权威对他们进行威胁，会及时制止他们消极散漫的心态，激发他们发挥出自身的潜力。自觉性强的员工也有满足、停滞、消沉的时候，也有依赖性，适当的批评和惩罚能够帮助他们认清自我，重新激发新的工作斗志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兔、乌龟、青蛙、蚂蚁等一群小动物，站在一起，准备出去玩玩。他们的目的地是前面那座美丽的花园。大嗓门青蛙，高喊一声：“走！”大伙立即行动起来。青蛙边跳边喊“加油！”白兔笑嘻嘻地冲在前头，乌龟使劲地爬动，蚂蚁拼命追赶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哟，你们全疯了吧，往哪里窜呀？”后面隐隐传来了叫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伙一惊，扭转身向后一瞧，只见海螺一边咋呼，一边横着往另一个方向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螺大哥，方向错了！”青蛙大声喊道“快向我们靠拢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341360"/>
            <a:ext cx="309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比努力更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你的”，海螺瞪着眼骂道，“你们都瞎了眼了，只有向我靠拢才对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论大伙怎么呼唤，海螺只当没听见，还是横着朝它的那个方向急急爬去，大伙叹了口气，只好各赶各的路。海螺喷着白泡沫，独自嘟嚷道“我两眼始终正面盯着那座花园，绝对没错儿。它们不听我的，疏远我，冷落我，准是出于嫉妒。呶，这不是明摆着的嘛，它们的手脚哪个有我多？……”可是，它的手脚越多，跑的越快，离开目的地也就越远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341360"/>
            <a:ext cx="309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比努力更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32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信息时代的今天，勤勉和努力是固不可少的。然而，你必须还要知道的就是：方向比努力更重要。固执己见。一意孤行，越有才干犯的错误也就越严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458200" y="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想知道天堂与地狱区别。他先来到地狱，地狱的人正在吃粥，但奇怪的是，一个面黄肌瘦，饿得嗷嗷叫。原来他们使用的勺子有一米长，虽然争先恐后盛粥往各自嘴里送，便因勺子比手长，就是吃不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狱真悲惨呀”这个人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后，这个人又来到天堂。天堂的人正好也在吃粥，一个个却红光满面。但奇怪的是，天堂的人使用的也是一米长的勺子，不同之处在于——他们在互相喂对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1341360"/>
            <a:ext cx="3278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堂与地狱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堂和地狱拥有相同的食物，相同的工具，相同的环境，但结果却大大不同。因为天堂和地狱的差别，仅在于做人的一念之差：心态不同，就造成了极不同的结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9000"/>
            <a:ext cx="259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故事大道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1341360"/>
            <a:ext cx="1909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13372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个太太多年来不断指责对面太太很懒惰。那个女人的衣服，永远洗不干净。她晾在院子里的衣服，总是有点斑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天，有个朋友到她家。细心的拿了一块抹布，把这个太太家的窗户上的灰渍抹掉，说“看，这不就干净了吗？”原来，是自己家的窗户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也有过一些看什么不顺眼，永远觉得命运对自己比较坏，但在他们的怨言之后，总会发现有句老话说得很妙：可爱之人，必有可恨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到外面的问题，总比看到自己内在的问题容易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1341360"/>
            <a:ext cx="3278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想自己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56:19Z</dcterms:created>
  <dc:creator>刘晓磊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0:44Z</dcterms:modified>
  <cp:revision>54</cp:revision>
  <dc:subject>主题班会课件(分28大类): http://shop62905894.taobao.com</dc:subject>
  <dc:title>主题班会课件(分28大类): http://shop62905894.taobao.com</dc:title>
</cp:coreProperties>
</file>