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32.gif" ContentType="image/gif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6.jpeg" ContentType="image/jpeg"/>
  <Override PartName="/ppt/media/image33.gif" ContentType="image/gif"/>
  <Override PartName="/ppt/media/image18.jpeg" ContentType="image/jpeg"/>
  <Override PartName="/ppt/media/image34.gif" ContentType="image/gif"/>
  <Override PartName="/ppt/media/image37.gif" ContentType="image/gif"/>
  <Override PartName="/ppt/media/image38.gif" ContentType="image/gi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35.gif" ContentType="image/gif"/>
  <Override PartName="/ppt/media/image7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55E-F0BF-4D6E-B759-C5514B42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B9D-DD15-40F8-9CD7-EBC7EA98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826-2D81-4412-9A7E-A9DEF9F3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E94-B0CB-4732-BB61-F1F96F12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D93-41AD-4C30-B8CF-768C119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076-A1B1-419C-8165-5AC43340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C11-2DD7-474A-A2E3-A5E2ED8D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3AE-3E15-4ED6-9243-9E046BF5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B45-8FC3-4E8A-A4A1-F93959CD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A09-778E-4346-91B5-BAE79E85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1AC-F8A1-47EE-9172-3835142E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27C-B808-4DBC-9888-8EE2729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812D-E1D5-4C16-A1C3-9971B91946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../../../&#22362;&#25345;&#21040;&#24213;.mp3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file:///../../../qpmtrpuvnzg$.swf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../../../&#22868;&#36305;.mp3" TargetMode="External"/><Relationship Id="rId3" Type="http://schemas.openxmlformats.org/officeDocument/2006/relationships/hyperlink" Target="file:///../../../wdwlbsm.mp3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image" Target="../media/image34.gif"/><Relationship Id="rId11" Type="http://schemas.openxmlformats.org/officeDocument/2006/relationships/image" Target="../media/image35.gif"/><Relationship Id="rId12" Type="http://schemas.openxmlformats.org/officeDocument/2006/relationships/image" Target="../media/image36.gif"/><Relationship Id="rId13" Type="http://schemas.openxmlformats.org/officeDocument/2006/relationships/image" Target="../media/image37.gif"/><Relationship Id="rId14" Type="http://schemas.openxmlformats.org/officeDocument/2006/relationships/image" Target="../media/image38.gif"/><Relationship Id="rId15" Type="http://schemas.openxmlformats.org/officeDocument/2006/relationships/image" Target="../media/image28.gif"/><Relationship Id="rId16" Type="http://schemas.openxmlformats.org/officeDocument/2006/relationships/image" Target="../media/image39.gi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../../../&#24448;&#20107;.mp3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弹出旋涡里的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奏响青春嘹亮的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直面挑战、把握命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563868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04-2</a:t>
            </a: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班主题班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1336680" cy="133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144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该怎样前行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5943600" cy="2209680"/>
          </a:xfrm>
          <a:prstGeom prst="cloudCallout">
            <a:avLst>
              <a:gd name="adj1" fmla="val -66504"/>
              <a:gd name="adj2" fmla="val 99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Wingdings"/>
                <a:ea typeface="Wingdings"/>
              </a:rPr>
              <a:t>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1143000"/>
            <a:ext cx="6934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有勇气去面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鼓舞自己： 相信自己，我能行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用头脑去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剖析自己： 冷静思索，把握成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奋斗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   </a:t>
            </a:r>
            <a:r>
              <a:rPr b="1" lang="zh-CN" sz="88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过程坚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1828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首先，面对困难，我们该如何鼓舞自己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468720" y="304920"/>
            <a:ext cx="2373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给自己以充足的勇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09680" y="1143000"/>
            <a:ext cx="6400800" cy="3657240"/>
            <a:chOff x="2209680" y="1143000"/>
            <a:chExt cx="6400800" cy="365724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2209680" y="1143000"/>
              <a:ext cx="640080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866040" y="1760400"/>
              <a:ext cx="4443120" cy="23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纵横天地间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他能我也能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90720" y="205740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办法总比困难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38280" y="28195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胆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27432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8195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心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50804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面对困难，分析困难，最忌讳的就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3623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</a:rPr>
              <a:t>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51055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要保持一颗清醒的头颅、前进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-1584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二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126360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有</a:t>
            </a: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勇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有</a:t>
            </a: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25560" y="3657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冷静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25560" y="461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剖析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97320"/>
            <a:ext cx="518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方可成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0400" y="41911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析问题，寻找突破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2057400"/>
            <a:ext cx="3809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靠自己的力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智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152244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挑战</a:t>
            </a: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一个很流行，很时髦的词语。本来说的是打仗的词语，到了现在，在我们的日常生活当中会经常的遇到。譬如说：我们遇到了一件棘手的事，就可以说成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我面临着挑战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2940120"/>
            <a:ext cx="563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虚心请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2193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自己无力之时，老师、父母、同学、好友都是你有力的支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7400" y="2819520"/>
            <a:ext cx="525780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/>
              </a:rPr>
              <a:t>坚持到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9718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莫问辛劳有多少，耕耘自有新收获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33720" y="-76320"/>
            <a:ext cx="5562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那年的夏天我们都是十七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想飞的日子总是有风有雨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为何会流泪谁也弄不清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也许只是太年轻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总是想知道世界还有什么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流浪的感觉也许才是人生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日历终究一本换过一本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不知不觉夜已深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今天过了不会再有一个今天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十七岁也不会再有另外一次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没人能为我唤回青春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没人能替我走完人生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我知道该拿出勇气面对未来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也许我不敢面对的只是自己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有你的祝福有你的爱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我会找回自己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90840" y="1295280"/>
            <a:ext cx="872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/>
              </a:rPr>
              <a:t>阳光总在风雨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490680"/>
            <a:ext cx="71629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希望是坚韧的拐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忍耐是旅行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携带它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人可以登上永恒之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571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罗素（数学家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0" y="4616280"/>
            <a:ext cx="541008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全力</a:t>
            </a:r>
            <a:r>
              <a:rPr b="0" lang="zh-CN" sz="96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/>
              </a:rPr>
              <a:t>奔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3526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向着目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19810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面对挑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66800" y="838080"/>
            <a:ext cx="872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3"/>
              </a:rPr>
              <a:t>我的未来不是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733920" y="4572000"/>
            <a:ext cx="4114440" cy="1143000"/>
            <a:chOff x="3733920" y="4572000"/>
            <a:chExt cx="4114440" cy="1143000"/>
          </a:xfrm>
        </p:grpSpPr>
        <p:grpSp>
          <p:nvGrpSpPr>
            <p:cNvPr id="98" name=""/>
            <p:cNvGrpSpPr/>
            <p:nvPr/>
          </p:nvGrpSpPr>
          <p:grpSpPr>
            <a:xfrm>
              <a:off x="3733920" y="4581360"/>
              <a:ext cx="2066760" cy="1133640"/>
              <a:chOff x="3733920" y="4581360"/>
              <a:chExt cx="2066760" cy="1133640"/>
            </a:xfrm>
          </p:grpSpPr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3920" y="4581360"/>
                <a:ext cx="542880" cy="11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24240" y="4581360"/>
                <a:ext cx="544680" cy="11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4280" y="4581360"/>
                <a:ext cx="544680" cy="11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57800" y="4581360"/>
                <a:ext cx="542880" cy="113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" name=""/>
            <p:cNvGrpSpPr/>
            <p:nvPr/>
          </p:nvGrpSpPr>
          <p:grpSpPr>
            <a:xfrm>
              <a:off x="6095880" y="4572000"/>
              <a:ext cx="1752480" cy="1142640"/>
              <a:chOff x="6095880" y="4572000"/>
              <a:chExt cx="1752480" cy="1142640"/>
            </a:xfrm>
          </p:grpSpPr>
          <p:pic>
            <p:nvPicPr>
              <p:cNvPr id="1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5880" y="4572000"/>
                <a:ext cx="590400" cy="11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691680" y="4572000"/>
                <a:ext cx="590040" cy="11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57960" y="4572000"/>
                <a:ext cx="590400" cy="114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7" name=""/>
          <p:cNvGrpSpPr/>
          <p:nvPr/>
        </p:nvGrpSpPr>
        <p:grpSpPr>
          <a:xfrm>
            <a:off x="1905120" y="1143000"/>
            <a:ext cx="6323400" cy="1294200"/>
            <a:chOff x="1905120" y="1143000"/>
            <a:chExt cx="6323400" cy="1294200"/>
          </a:xfrm>
        </p:grpSpPr>
        <p:grpSp>
          <p:nvGrpSpPr>
            <p:cNvPr id="108" name=""/>
            <p:cNvGrpSpPr/>
            <p:nvPr/>
          </p:nvGrpSpPr>
          <p:grpSpPr>
            <a:xfrm>
              <a:off x="1905120" y="1143000"/>
              <a:ext cx="3123360" cy="1294200"/>
              <a:chOff x="1905120" y="1143000"/>
              <a:chExt cx="3123360" cy="12942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5120" y="1143000"/>
                <a:ext cx="64620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26040" y="1143000"/>
                <a:ext cx="6465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78360" y="1143000"/>
                <a:ext cx="64620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30320" y="1143000"/>
                <a:ext cx="6465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381920" y="1143000"/>
                <a:ext cx="646560" cy="129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5410080" y="1143000"/>
              <a:ext cx="2818440" cy="1294200"/>
              <a:chOff x="5410080" y="1143000"/>
              <a:chExt cx="2818440" cy="129420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10080" y="1143000"/>
                <a:ext cx="968400" cy="128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84520" y="1153800"/>
                <a:ext cx="968400" cy="128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261200" y="1143000"/>
                <a:ext cx="967320" cy="1284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7920" y="2286000"/>
            <a:ext cx="60195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这种说法对于我们来说有意义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12193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可以说，我们一生下来，无论生活条件是如何优越，细细想一想，同样始终面临着种种挑战。就是说，始终有一种反面的力量在我们周围活动，在诱使你向它屈服和投降，然后使你在生活中和学习上败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2133720"/>
            <a:ext cx="603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那么，同学们回想一下，自己有没有过这种经历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44197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当时是怎么办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4479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当时的情景是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2819520"/>
            <a:ext cx="2286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往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143000"/>
            <a:ext cx="784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现在，我们已经到了青少年时期，成为一名高中生，在我们今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77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多天的高中学习以及今后工作的道路上还会有还多的困难，针对此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该怎么办，我们该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如何去面对这些挑战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3720" y="1965240"/>
            <a:ext cx="4038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面对挑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是退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还是前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25146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要前行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11:10Z</dcterms:created>
  <dc:creator>教师用机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5:55Z</dcterms:modified>
  <cp:revision>148</cp:revision>
  <dc:subject>主题班会课件(分28大类): http://shop62905894.taobao.com</dc:subject>
  <dc:title>主题班会课件(分28大类): http://shop62905894.taobao.com</dc:title>
</cp:coreProperties>
</file>