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84B-AF02-48E5-8531-70C97D61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E68-F5DA-44AD-9D91-F3238D8B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BD7-D6B9-4BF9-B9B3-49E19B38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2E2-DA41-49E8-B5E7-4F072D42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E1D-6557-46DA-9B08-2317D0C5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8AF-9FF6-4734-9F54-74688255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C56-2C66-4FE0-945B-5A609DDE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222-2307-4EDD-8533-487610CB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18C-0A45-41CF-812C-4EB8187D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BF4-7D9A-40C8-9D29-816EFED2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05C-73F0-42F5-AE0A-A4059746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92F-E31E-4B01-8F25-5B7B5AC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0684-196A-42ED-AB86-4C9013C050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823" t="1837" r="4374" b="8399"/>
          <a:stretch/>
        </p:blipFill>
        <p:spPr>
          <a:xfrm>
            <a:off x="-453960" y="-141120"/>
            <a:ext cx="9705960" cy="709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920" y="260280"/>
            <a:ext cx="8640720" cy="551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奋斗篇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903320" y="252360"/>
            <a:ext cx="360" cy="6110280"/>
            <a:chOff x="1903320" y="252360"/>
            <a:chExt cx="360" cy="6110280"/>
          </a:xfrm>
        </p:grpSpPr>
        <p:sp>
          <p:nvSpPr>
            <p:cNvPr id="75" name=""/>
            <p:cNvSpPr/>
            <p:nvPr/>
          </p:nvSpPr>
          <p:spPr>
            <a:xfrm>
              <a:off x="1903320" y="252360"/>
              <a:ext cx="360" cy="6110280"/>
            </a:xfrm>
            <a:prstGeom prst="rect">
              <a:avLst/>
            </a:prstGeom>
            <a:solidFill>
              <a:srgbClr val="f8f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1903320" y="252360"/>
              <a:ext cx="360" cy="6110280"/>
              <a:chOff x="1903320" y="252360"/>
              <a:chExt cx="360" cy="6110280"/>
            </a:xfrm>
          </p:grpSpPr>
          <p:sp>
            <p:nvSpPr>
              <p:cNvPr id="77" name=""/>
              <p:cNvSpPr/>
              <p:nvPr/>
            </p:nvSpPr>
            <p:spPr>
              <a:xfrm>
                <a:off x="1903320" y="252360"/>
                <a:ext cx="360" cy="6110280"/>
              </a:xfrm>
              <a:prstGeom prst="rect">
                <a:avLst/>
              </a:prstGeom>
              <a:solidFill>
                <a:srgbClr val="f8f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1903320" y="252360"/>
                <a:ext cx="360" cy="6110280"/>
                <a:chOff x="1903320" y="252360"/>
                <a:chExt cx="360" cy="6110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903320" y="252360"/>
                  <a:ext cx="360" cy="3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903320" y="252360"/>
                  <a:ext cx="360" cy="611028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zh-CN" sz="377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9144000" y="3429000"/>
            <a:ext cx="360" cy="1276200"/>
            <a:chOff x="9144000" y="3429000"/>
            <a:chExt cx="360" cy="1276200"/>
          </a:xfrm>
        </p:grpSpPr>
        <p:sp>
          <p:nvSpPr>
            <p:cNvPr id="83" name=""/>
            <p:cNvSpPr/>
            <p:nvPr/>
          </p:nvSpPr>
          <p:spPr>
            <a:xfrm>
              <a:off x="9144000" y="3429000"/>
              <a:ext cx="360" cy="1276200"/>
            </a:xfrm>
            <a:prstGeom prst="rect">
              <a:avLst/>
            </a:prstGeom>
            <a:solidFill>
              <a:srgbClr val="f8f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9144000" y="3429000"/>
              <a:ext cx="360" cy="1276200"/>
              <a:chOff x="9144000" y="3429000"/>
              <a:chExt cx="360" cy="1276200"/>
            </a:xfrm>
          </p:grpSpPr>
          <p:sp>
            <p:nvSpPr>
              <p:cNvPr id="85" name=""/>
              <p:cNvSpPr/>
              <p:nvPr/>
            </p:nvSpPr>
            <p:spPr>
              <a:xfrm>
                <a:off x="9144000" y="3429000"/>
                <a:ext cx="360" cy="1276200"/>
              </a:xfrm>
              <a:prstGeom prst="rect">
                <a:avLst/>
              </a:prstGeom>
              <a:solidFill>
                <a:srgbClr val="f8f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9144000" y="3429000"/>
                <a:ext cx="360" cy="1276200"/>
                <a:chOff x="9144000" y="3429000"/>
                <a:chExt cx="360" cy="12762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9144000" y="3429000"/>
                  <a:ext cx="360" cy="3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9144000" y="3429000"/>
                  <a:ext cx="360" cy="127620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关公夜读</a:t>
                  </a:r>
                  <a:br>
                    <a:rPr sz="900"/>
                  </a:b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9" name=""/>
          <p:cNvGrpSpPr/>
          <p:nvPr/>
        </p:nvGrpSpPr>
        <p:grpSpPr>
          <a:xfrm>
            <a:off x="9144000" y="3429000"/>
            <a:ext cx="360" cy="1276200"/>
            <a:chOff x="9144000" y="3429000"/>
            <a:chExt cx="360" cy="1276200"/>
          </a:xfrm>
        </p:grpSpPr>
        <p:sp>
          <p:nvSpPr>
            <p:cNvPr id="90" name=""/>
            <p:cNvSpPr/>
            <p:nvPr/>
          </p:nvSpPr>
          <p:spPr>
            <a:xfrm>
              <a:off x="9144000" y="3429000"/>
              <a:ext cx="360" cy="1276200"/>
            </a:xfrm>
            <a:prstGeom prst="rect">
              <a:avLst/>
            </a:prstGeom>
            <a:solidFill>
              <a:srgbClr val="f8f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9144000" y="3429000"/>
              <a:ext cx="360" cy="1276200"/>
              <a:chOff x="9144000" y="3429000"/>
              <a:chExt cx="360" cy="1276200"/>
            </a:xfrm>
          </p:grpSpPr>
          <p:sp>
            <p:nvSpPr>
              <p:cNvPr id="92" name=""/>
              <p:cNvSpPr/>
              <p:nvPr/>
            </p:nvSpPr>
            <p:spPr>
              <a:xfrm>
                <a:off x="9144000" y="3429000"/>
                <a:ext cx="360" cy="1276200"/>
              </a:xfrm>
              <a:prstGeom prst="rect">
                <a:avLst/>
              </a:prstGeom>
              <a:solidFill>
                <a:srgbClr val="f8f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9144000" y="3429000"/>
                <a:ext cx="360" cy="1276200"/>
                <a:chOff x="9144000" y="3429000"/>
                <a:chExt cx="360" cy="12762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9144000" y="3429000"/>
                  <a:ext cx="360" cy="3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9144000" y="3429000"/>
                  <a:ext cx="360" cy="127620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关公夜读</a:t>
                  </a:r>
                  <a:br>
                    <a:rPr sz="900"/>
                  </a:b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" name=""/>
          <p:cNvGrpSpPr/>
          <p:nvPr/>
        </p:nvGrpSpPr>
        <p:grpSpPr>
          <a:xfrm>
            <a:off x="9144000" y="3429000"/>
            <a:ext cx="360" cy="1276200"/>
            <a:chOff x="9144000" y="3429000"/>
            <a:chExt cx="360" cy="1276200"/>
          </a:xfrm>
        </p:grpSpPr>
        <p:sp>
          <p:nvSpPr>
            <p:cNvPr id="97" name=""/>
            <p:cNvSpPr/>
            <p:nvPr/>
          </p:nvSpPr>
          <p:spPr>
            <a:xfrm>
              <a:off x="9144000" y="3429000"/>
              <a:ext cx="360" cy="1276200"/>
            </a:xfrm>
            <a:prstGeom prst="rect">
              <a:avLst/>
            </a:prstGeom>
            <a:solidFill>
              <a:srgbClr val="f8f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9144000" y="3429000"/>
              <a:ext cx="360" cy="1276200"/>
              <a:chOff x="9144000" y="3429000"/>
              <a:chExt cx="360" cy="1276200"/>
            </a:xfrm>
          </p:grpSpPr>
          <p:sp>
            <p:nvSpPr>
              <p:cNvPr id="99" name=""/>
              <p:cNvSpPr/>
              <p:nvPr/>
            </p:nvSpPr>
            <p:spPr>
              <a:xfrm>
                <a:off x="9144000" y="3429000"/>
                <a:ext cx="360" cy="1276200"/>
              </a:xfrm>
              <a:prstGeom prst="rect">
                <a:avLst/>
              </a:prstGeom>
              <a:solidFill>
                <a:srgbClr val="f8f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9144000" y="3429000"/>
                <a:ext cx="360" cy="1276200"/>
                <a:chOff x="9144000" y="3429000"/>
                <a:chExt cx="360" cy="12762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9144000" y="3429000"/>
                  <a:ext cx="360" cy="3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9144000" y="3429000"/>
                  <a:ext cx="360" cy="127620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关公夜读</a:t>
                  </a:r>
                  <a:br>
                    <a:rPr sz="900"/>
                  </a:b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3" name=""/>
          <p:cNvGrpSpPr/>
          <p:nvPr/>
        </p:nvGrpSpPr>
        <p:grpSpPr>
          <a:xfrm>
            <a:off x="9144000" y="3429000"/>
            <a:ext cx="360" cy="1276200"/>
            <a:chOff x="9144000" y="3429000"/>
            <a:chExt cx="360" cy="1276200"/>
          </a:xfrm>
        </p:grpSpPr>
        <p:sp>
          <p:nvSpPr>
            <p:cNvPr id="104" name=""/>
            <p:cNvSpPr/>
            <p:nvPr/>
          </p:nvSpPr>
          <p:spPr>
            <a:xfrm>
              <a:off x="9144000" y="3429000"/>
              <a:ext cx="360" cy="1276200"/>
            </a:xfrm>
            <a:prstGeom prst="rect">
              <a:avLst/>
            </a:prstGeom>
            <a:solidFill>
              <a:srgbClr val="f8f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9144000" y="3429000"/>
              <a:ext cx="360" cy="1276200"/>
              <a:chOff x="9144000" y="3429000"/>
              <a:chExt cx="360" cy="1276200"/>
            </a:xfrm>
          </p:grpSpPr>
          <p:sp>
            <p:nvSpPr>
              <p:cNvPr id="106" name=""/>
              <p:cNvSpPr/>
              <p:nvPr/>
            </p:nvSpPr>
            <p:spPr>
              <a:xfrm>
                <a:off x="9144000" y="3429000"/>
                <a:ext cx="360" cy="1276200"/>
              </a:xfrm>
              <a:prstGeom prst="rect">
                <a:avLst/>
              </a:prstGeom>
              <a:solidFill>
                <a:srgbClr val="f8f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9144000" y="3429000"/>
                <a:ext cx="360" cy="1276200"/>
                <a:chOff x="9144000" y="3429000"/>
                <a:chExt cx="360" cy="12762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9144000" y="3429000"/>
                  <a:ext cx="360" cy="3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9144000" y="3429000"/>
                  <a:ext cx="360" cy="127620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关公夜读</a:t>
                  </a:r>
                  <a:br>
                    <a:rPr sz="900"/>
                  </a:b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" name=""/>
          <p:cNvGrpSpPr/>
          <p:nvPr/>
        </p:nvGrpSpPr>
        <p:grpSpPr>
          <a:xfrm>
            <a:off x="9144000" y="3429000"/>
            <a:ext cx="360" cy="1276200"/>
            <a:chOff x="9144000" y="3429000"/>
            <a:chExt cx="360" cy="1276200"/>
          </a:xfrm>
        </p:grpSpPr>
        <p:sp>
          <p:nvSpPr>
            <p:cNvPr id="111" name=""/>
            <p:cNvSpPr/>
            <p:nvPr/>
          </p:nvSpPr>
          <p:spPr>
            <a:xfrm>
              <a:off x="9144000" y="3429000"/>
              <a:ext cx="360" cy="1276200"/>
            </a:xfrm>
            <a:prstGeom prst="rect">
              <a:avLst/>
            </a:prstGeom>
            <a:solidFill>
              <a:srgbClr val="f8f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9144000" y="3429000"/>
              <a:ext cx="360" cy="1276200"/>
              <a:chOff x="9144000" y="3429000"/>
              <a:chExt cx="360" cy="1276200"/>
            </a:xfrm>
          </p:grpSpPr>
          <p:sp>
            <p:nvSpPr>
              <p:cNvPr id="113" name=""/>
              <p:cNvSpPr/>
              <p:nvPr/>
            </p:nvSpPr>
            <p:spPr>
              <a:xfrm>
                <a:off x="9144000" y="3429000"/>
                <a:ext cx="360" cy="1276200"/>
              </a:xfrm>
              <a:prstGeom prst="rect">
                <a:avLst/>
              </a:prstGeom>
              <a:solidFill>
                <a:srgbClr val="f8f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9144000" y="3429000"/>
                <a:ext cx="360" cy="1276200"/>
                <a:chOff x="9144000" y="3429000"/>
                <a:chExt cx="360" cy="12762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9144000" y="3429000"/>
                  <a:ext cx="360" cy="3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9144000" y="3429000"/>
                  <a:ext cx="360" cy="127620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关公夜读</a:t>
                  </a:r>
                  <a:br>
                    <a:rPr sz="900"/>
                  </a:b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7" name=""/>
          <p:cNvGrpSpPr/>
          <p:nvPr/>
        </p:nvGrpSpPr>
        <p:grpSpPr>
          <a:xfrm>
            <a:off x="9144000" y="3429000"/>
            <a:ext cx="360" cy="4826160"/>
            <a:chOff x="9144000" y="3429000"/>
            <a:chExt cx="360" cy="4826160"/>
          </a:xfrm>
        </p:grpSpPr>
        <p:sp>
          <p:nvSpPr>
            <p:cNvPr id="118" name=""/>
            <p:cNvSpPr/>
            <p:nvPr/>
          </p:nvSpPr>
          <p:spPr>
            <a:xfrm>
              <a:off x="9144000" y="3429000"/>
              <a:ext cx="360" cy="4826160"/>
            </a:xfrm>
            <a:prstGeom prst="rect">
              <a:avLst/>
            </a:prstGeom>
            <a:solidFill>
              <a:srgbClr val="f8f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9144000" y="3429000"/>
              <a:ext cx="360" cy="4826160"/>
              <a:chOff x="9144000" y="3429000"/>
              <a:chExt cx="360" cy="4826160"/>
            </a:xfrm>
          </p:grpSpPr>
          <p:sp>
            <p:nvSpPr>
              <p:cNvPr id="120" name=""/>
              <p:cNvSpPr/>
              <p:nvPr/>
            </p:nvSpPr>
            <p:spPr>
              <a:xfrm>
                <a:off x="9144000" y="3429000"/>
                <a:ext cx="360" cy="4826160"/>
              </a:xfrm>
              <a:prstGeom prst="rect">
                <a:avLst/>
              </a:prstGeom>
              <a:solidFill>
                <a:srgbClr val="f8f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9144000" y="3429000"/>
                <a:ext cx="360" cy="4826160"/>
                <a:chOff x="9144000" y="3429000"/>
                <a:chExt cx="360" cy="4826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9144000" y="3429000"/>
                  <a:ext cx="360" cy="3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9144000" y="3429000"/>
                  <a:ext cx="360" cy="48261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万卷古今消永日　一窗昏晓送流年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——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国画中的读书场景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关公夜读</a:t>
                  </a:r>
                  <a:br>
                    <a:rPr sz="900"/>
                  </a:b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"/>
          <p:cNvSpPr/>
          <p:nvPr/>
        </p:nvSpPr>
        <p:spPr>
          <a:xfrm>
            <a:off x="1194480" y="260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9144000" y="3429000"/>
            <a:ext cx="360" cy="1549440"/>
            <a:chOff x="9144000" y="3429000"/>
            <a:chExt cx="360" cy="1549440"/>
          </a:xfrm>
        </p:grpSpPr>
        <p:sp>
          <p:nvSpPr>
            <p:cNvPr id="126" name=""/>
            <p:cNvSpPr/>
            <p:nvPr/>
          </p:nvSpPr>
          <p:spPr>
            <a:xfrm>
              <a:off x="9144000" y="3429000"/>
              <a:ext cx="360" cy="1549440"/>
            </a:xfrm>
            <a:prstGeom prst="rect">
              <a:avLst/>
            </a:prstGeom>
            <a:solidFill>
              <a:srgbClr val="f8f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9144000" y="3429000"/>
              <a:ext cx="360" cy="1549440"/>
              <a:chOff x="9144000" y="3429000"/>
              <a:chExt cx="360" cy="1549440"/>
            </a:xfrm>
          </p:grpSpPr>
          <p:sp>
            <p:nvSpPr>
              <p:cNvPr id="128" name=""/>
              <p:cNvSpPr/>
              <p:nvPr/>
            </p:nvSpPr>
            <p:spPr>
              <a:xfrm>
                <a:off x="9144000" y="3429000"/>
                <a:ext cx="360" cy="1549440"/>
              </a:xfrm>
              <a:prstGeom prst="rect">
                <a:avLst/>
              </a:prstGeom>
              <a:solidFill>
                <a:srgbClr val="f8f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9144000" y="3429000"/>
                <a:ext cx="360" cy="1549440"/>
                <a:chOff x="9144000" y="3429000"/>
                <a:chExt cx="360" cy="1549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9144000" y="3429000"/>
                  <a:ext cx="360" cy="3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0" y="3429000"/>
                  <a:ext cx="360" cy="154944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李汝珍读书图</a:t>
                  </a:r>
                  <a:br>
                    <a:rPr sz="900"/>
                  </a:b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2" name=""/>
          <p:cNvGrpSpPr/>
          <p:nvPr/>
        </p:nvGrpSpPr>
        <p:grpSpPr>
          <a:xfrm>
            <a:off x="9144000" y="3429000"/>
            <a:ext cx="360" cy="1549440"/>
            <a:chOff x="9144000" y="3429000"/>
            <a:chExt cx="360" cy="1549440"/>
          </a:xfrm>
        </p:grpSpPr>
        <p:sp>
          <p:nvSpPr>
            <p:cNvPr id="133" name=""/>
            <p:cNvSpPr/>
            <p:nvPr/>
          </p:nvSpPr>
          <p:spPr>
            <a:xfrm>
              <a:off x="9144000" y="3429000"/>
              <a:ext cx="360" cy="1549440"/>
            </a:xfrm>
            <a:prstGeom prst="rect">
              <a:avLst/>
            </a:prstGeom>
            <a:solidFill>
              <a:srgbClr val="f8f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9144000" y="3429000"/>
              <a:ext cx="360" cy="1549440"/>
              <a:chOff x="9144000" y="3429000"/>
              <a:chExt cx="360" cy="1549440"/>
            </a:xfrm>
          </p:grpSpPr>
          <p:sp>
            <p:nvSpPr>
              <p:cNvPr id="135" name=""/>
              <p:cNvSpPr/>
              <p:nvPr/>
            </p:nvSpPr>
            <p:spPr>
              <a:xfrm>
                <a:off x="9144000" y="3429000"/>
                <a:ext cx="360" cy="1549440"/>
              </a:xfrm>
              <a:prstGeom prst="rect">
                <a:avLst/>
              </a:prstGeom>
              <a:solidFill>
                <a:srgbClr val="f8f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9144000" y="3429000"/>
                <a:ext cx="360" cy="1549440"/>
                <a:chOff x="9144000" y="3429000"/>
                <a:chExt cx="360" cy="1549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9144000" y="3429000"/>
                  <a:ext cx="360" cy="3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144000" y="3429000"/>
                  <a:ext cx="360" cy="154944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李汝珍读书图</a:t>
                  </a:r>
                  <a:br>
                    <a:rPr sz="900"/>
                  </a:b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9" name=""/>
          <p:cNvGrpSpPr/>
          <p:nvPr/>
        </p:nvGrpSpPr>
        <p:grpSpPr>
          <a:xfrm>
            <a:off x="9144000" y="3429000"/>
            <a:ext cx="360" cy="1549440"/>
            <a:chOff x="9144000" y="3429000"/>
            <a:chExt cx="360" cy="1549440"/>
          </a:xfrm>
        </p:grpSpPr>
        <p:sp>
          <p:nvSpPr>
            <p:cNvPr id="140" name=""/>
            <p:cNvSpPr/>
            <p:nvPr/>
          </p:nvSpPr>
          <p:spPr>
            <a:xfrm>
              <a:off x="9144000" y="3429000"/>
              <a:ext cx="360" cy="1549440"/>
            </a:xfrm>
            <a:prstGeom prst="rect">
              <a:avLst/>
            </a:prstGeom>
            <a:solidFill>
              <a:srgbClr val="f8f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9144000" y="3429000"/>
              <a:ext cx="360" cy="1549440"/>
              <a:chOff x="9144000" y="3429000"/>
              <a:chExt cx="360" cy="1549440"/>
            </a:xfrm>
          </p:grpSpPr>
          <p:sp>
            <p:nvSpPr>
              <p:cNvPr id="142" name=""/>
              <p:cNvSpPr/>
              <p:nvPr/>
            </p:nvSpPr>
            <p:spPr>
              <a:xfrm>
                <a:off x="9144000" y="3429000"/>
                <a:ext cx="360" cy="1549440"/>
              </a:xfrm>
              <a:prstGeom prst="rect">
                <a:avLst/>
              </a:prstGeom>
              <a:solidFill>
                <a:srgbClr val="f8f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9144000" y="3429000"/>
                <a:ext cx="360" cy="1549440"/>
                <a:chOff x="9144000" y="3429000"/>
                <a:chExt cx="360" cy="15494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9144000" y="3429000"/>
                  <a:ext cx="360" cy="3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144000" y="3429000"/>
                  <a:ext cx="360" cy="154944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李汝珍读书图</a:t>
                  </a:r>
                  <a:br>
                    <a:rPr sz="900"/>
                  </a:b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93760" y="0"/>
            <a:ext cx="67564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46840" y="189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9144000" y="3429000"/>
            <a:ext cx="360" cy="1549440"/>
            <a:chOff x="9144000" y="3429000"/>
            <a:chExt cx="360" cy="1549440"/>
          </a:xfrm>
        </p:grpSpPr>
        <p:sp>
          <p:nvSpPr>
            <p:cNvPr id="149" name=""/>
            <p:cNvSpPr/>
            <p:nvPr/>
          </p:nvSpPr>
          <p:spPr>
            <a:xfrm>
              <a:off x="9144000" y="3429000"/>
              <a:ext cx="360" cy="1549440"/>
            </a:xfrm>
            <a:prstGeom prst="rect">
              <a:avLst/>
            </a:prstGeom>
            <a:solidFill>
              <a:srgbClr val="f8f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9144000" y="3429000"/>
              <a:ext cx="360" cy="1549440"/>
              <a:chOff x="9144000" y="3429000"/>
              <a:chExt cx="360" cy="154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9144000" y="3429000"/>
                <a:ext cx="360" cy="1549440"/>
              </a:xfrm>
              <a:prstGeom prst="rect">
                <a:avLst/>
              </a:prstGeom>
              <a:solidFill>
                <a:srgbClr val="f8f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9144000" y="3429000"/>
                <a:ext cx="360" cy="1549440"/>
                <a:chOff x="9144000" y="3429000"/>
                <a:chExt cx="360" cy="15494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9144000" y="3429000"/>
                  <a:ext cx="360" cy="36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44000" y="3429000"/>
                  <a:ext cx="360" cy="1549440"/>
                </a:xfrm>
                <a:prstGeom prst="rect">
                  <a:avLst/>
                </a:prstGeom>
                <a:solidFill>
                  <a:srgbClr val="f8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李汝珍读书图</a:t>
                  </a:r>
                  <a:br>
                    <a:rPr sz="900"/>
                  </a:b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3000" y="46080"/>
            <a:ext cx="6858000" cy="6765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30240"/>
            <a:ext cx="7543800" cy="6864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2840" y="260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28720" y="0"/>
            <a:ext cx="68230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8120" y="333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4440" y="19810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_x000b__x000c_"/>
              </a:rPr>
              <a:t>     </a:t>
            </a:r>
            <a:r>
              <a:rPr b="1" lang="zh-CN" sz="6000" spc="-1" strike="noStrike">
                <a:solidFill>
                  <a:srgbClr val="ff6600"/>
                </a:solidFill>
                <a:latin typeface="_x000b__x000c_"/>
              </a:rPr>
              <a:t>高中学生学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_x000b__x000c_"/>
              </a:rPr>
              <a:t>         </a:t>
            </a:r>
            <a:r>
              <a:rPr b="1" lang="zh-CN" sz="6000" spc="-1" strike="noStrike">
                <a:solidFill>
                  <a:srgbClr val="ff6600"/>
                </a:solidFill>
                <a:latin typeface="_x000b__x000c_"/>
              </a:rPr>
              <a:t>方法常规</a:t>
            </a:r>
            <a:r>
              <a:rPr b="0" lang="zh-CN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235080"/>
            <a:ext cx="8229600" cy="5846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30492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学习过程中，掌握科学的学习方法，是提高学习成绩的重要条件。以下我分别从预习、上课、作业、复习、考试、课外学习、实验课等七个方面，谈一下学习方法的常规问题。应当说明的是，我这里所谈的是各科学习的一般规律，不涉及具体学科。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</a:rPr>
              <a:t>   </a:t>
            </a:r>
            <a:r>
              <a:rPr b="1" lang="zh-CN" sz="3600" spc="-1" strike="noStrike">
                <a:solidFill>
                  <a:srgbClr val="ff6600"/>
                </a:solidFill>
                <a:latin typeface="_x000b__x000c_"/>
                <a:ea typeface="黑体"/>
              </a:rPr>
              <a:t>一、预习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预习一般是指在老师讲课以前，自己先独立地阅读新课内容，做到初步理解，做好上课的准备。所以，预习就是自学。预习要做到下列四点：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通览教材，初步理解教材的基本内容和思路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预习时如发现与新课相联系的旧知识掌握得不好，则查阅和补习旧知识，给学习新知识打好牢固的基础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在阅读新教材过程中，要注意发现自己难以掌握和理解的地方，以便在听课时特别注意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黑体"/>
              </a:rPr>
              <a:t>做好预习笔记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预习的结果要认真记在预习笔记上，预习笔记一般应记载教材的主要内容、自己没有弄懂需要在听课着重解决的问题、所查阅的旧知识等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</a:rPr>
              <a:t> </a:t>
            </a:r>
            <a:r>
              <a:rPr b="1" lang="zh-CN" sz="3600" spc="-1" strike="noStrike">
                <a:solidFill>
                  <a:srgbClr val="ff6600"/>
                </a:solidFill>
                <a:latin typeface="_x000b__x000c_"/>
                <a:ea typeface="黑体"/>
              </a:rPr>
              <a:t>二、上课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课堂教学是教学过程中最基本的环节，不言而喻，上课也应是同学们学好功课、掌握知识、发展能力的决定性一环。上课要做到：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课前准备好上课所需的课本、笔记本和其他文具，并抓紧时间简要回忆和复习上节课所学的内容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要带着强烈的求知欲上课，希望在课上能向老师学到新知识，解决新问题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上课时要集中精力听讲，上课铃一响，就应立即进入积极的学习状态，有意识地排除分散注意力的各种因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听课要抬头，眼睛盯着老师的一举一动，专心致志聆听老师的每一句话。要紧紧抓住老师的思路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6000" y="382680"/>
            <a:ext cx="87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注意老师叙述问题的逻辑性，问题是怎样提出来的，以及分析问题和解决问题的方法步骤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如果遇到某一个问题或某个问题的一个环节没有听懂，不要在课堂上“钻牛角尖”，而要先记下来，接着往下听。不懂的问题课后再去钻研或向老师请教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黑体"/>
              </a:rPr>
              <a:t>要努力当课堂的主人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要认真思考老师提出的每一个问题，认真观察老师的每一个演示实验，大胆举手发表自己的看法，积极参加课堂讨论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黑体"/>
              </a:rPr>
              <a:t>要特别注意老师讲课的开头和结尾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老师的“开场白”往往是概括上节内容，引出本节的新课题，并提出本节课的目的要求和要讲述的中心问题，起着承上起下的作用。老师的课后总结，往往是一节课的精要提炼和复习提示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是本节课的高度概括和总结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0360" y="115920"/>
            <a:ext cx="860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华文新魏"/>
              </a:rPr>
              <a:t>要养成记笔记的好习惯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最好是一边听一边记，当听与记发生矛盾时，要以听为主，下课后再补上笔记。记笔记要有重点，要把老师板书的知识提纲、补充的课外知识、典型题目的解题步骤和课堂上没有听懂的问题记下来，供课后复习时参考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黑体"/>
              </a:rPr>
              <a:t> 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  <a:ea typeface="黑体"/>
              </a:rPr>
              <a:t>三、作业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华文行楷"/>
              </a:rPr>
              <a:t>作业是学习过程中一个重要环节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通过作业不仅可以及时巩固当天所学知识，加深对知识的理解，更重要的是把学过的知识加以运用，以形成技能技巧，从而发展自己的智力，培养自己的能力。作业必须做到：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华文行楷"/>
              </a:rPr>
              <a:t>先看书后作业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，看书和作业相结合。只有先弄懂课本的基本原理和法则，才能顺利地完成作业，减少作业中的错误，也可以达到巩固知识的目的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华文行楷"/>
              </a:rPr>
              <a:t>注意审题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要搞清题目中所给予的条件，明确题目的要求，应用所学的知识，找到解决问题的途径和方法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  <a:ea typeface="华文行楷"/>
              </a:rPr>
              <a:t>态度要认真，推理要严谨，养成“言必有据”的习惯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。准确运用所学过的定律、定理、公式、概念等。作业之后，认真检查验算，避免不应有的错误发生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  <a:ea typeface="华文行楷"/>
              </a:rPr>
              <a:t>作业要独立完成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。只有经过自己动脑思考动手操作，才能促进自己对知识的消化和理解，才能培养锻炼自己的思维能力；同时也能检验自己掌握的知识是否准确，从而克服学习上的薄弱环节，逐步形成扎实的基础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  <a:ea typeface="华文行楷"/>
              </a:rPr>
              <a:t>认真更正错误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。作业经老师批改后，要仔细看一遍，对于作业中出现的错误，要认真改正。要懂得，出错的地方，正是暴露自己的知识和能力弱点的地方。经过更正，就可以及时弥补自己知识上的缺陷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  <a:ea typeface="华文行楷"/>
              </a:rPr>
              <a:t>作业要规范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。解题时不要轻易落笔，要在深思熟虑后一次写成，切忌写了又改，改了又擦，使作业涂改过多。书写要工整，解题步骤既要简明、有条理，又要完整无缺。作业时，各科都有各自的格式，要按照各学科的作业规范去做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1592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、作业要保存好，定期将作业分门别类进行整理，复习时，可随时拿来参考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   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  <a:ea typeface="黑体"/>
              </a:rPr>
              <a:t> </a:t>
            </a:r>
            <a:r>
              <a:rPr b="0" lang="zh-CN" sz="3600" spc="-1" strike="noStrike">
                <a:solidFill>
                  <a:srgbClr val="ff6600"/>
                </a:solidFill>
                <a:latin typeface="_x000b__x000c_"/>
                <a:ea typeface="黑体"/>
              </a:rPr>
              <a:t>四、复习。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复习的主要任务是达到对知识的深入理解和掌握，在理解和掌握的过程中提高运用知识的技能技巧，使知识融汇贯通。同时还要通过归纳、整理，使知识系统化，真正成为自己知识链条的一个有机组成部分。复习要做到：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当天的功课当天复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并且要同时复习头一天学习和复习过的内容，使新旧知识联系起来。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对老师讲授的主要内容，在全面复习的基础上，抓住重点和关键，特别是听课中存在的疑难问题更应彻底解决。重点内容要熟读牢记，对基本要领和定律等能准确阐述，并能真正理解它的意义；对基本公式应会自行推导，晓得它的来龙去脉；同时要搞清楚知识前后之间的联系，注意总结知识的规律性。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单元复习。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在课程进行完一个单元以后，要把全单元的知识要点进行一次全面复习，重点领会各知识要点之间的联系，使知识系统化和结构化。有些需要记忆的知识，要在理解的基础上熟练地记忆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期中复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期中考试前，要把上半学期学过的内容进行系统复习。复习时，在全面复习的前提下，特别应着重弄清各单元知识之间的联系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期末复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期末考试前，要对本学期学过的内容进行系统复习。复习时力求达到“透彻理解、牢固掌握、灵活运用”的目的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假期复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每年的寒假和暑假，除完成各科作业外，要把以前所学过的内容进行全面复习，重点复习自己掌握得不太好的部分。这样可以避免边学边忘，造成高三总复习时负担过重的现象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在达到上面要求的基础上，学有余力的同学，可在老师的指导下，适当阅读一些课外参考书或做一些习题，加深对有关知识的理解和记忆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447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_x000b__x000c_"/>
                <a:ea typeface="华文行楷"/>
              </a:rPr>
              <a:t>五、考试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考试是学习过程的重要环节。通过考试可以了解自己的学习状况，以便总结经验教训，改进学习方法，为以后的学习明确努力方向。考试时应做到：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要正确对待考试。考试是检查学生学习效果的一种方法，考得好，可以促进自己进一步努力学习，考得不好，也可以促使自己认真分析原因，找出存在的问题，以便今后更有针对性地学习。所以，考试并不可怕，绝不应当产生畏考心理，造成情绪紧张，影响水平的正常发挥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01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做好考试前的准备工作。首先是对各科功课进行系统认真的复习，这是考出好成绩的基础。另外，考试前和考试期间要注意劳逸结合，保证充足的睡眠和休息，保持充沛的精力，这是取得优异成绩的必要条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-27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答卷时应注意的主要问题是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: 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认真审题。拿到试卷后，对每一个题目要认真阅读，看清题目的要求，找出已知条件和要求的结论，然后再动手答题。②一时不会做的题目可以先放一放，等把会做的题目做完了，再去解决遗留问题。③仔细检查，更正错误。试卷答完以后，如果还有时间，就要抓紧时间进行检查和验证。先检查容易的、省时间的、错误率高的题目，后检查难的、费时间的、错误率低的题目。④卷面要整洁，书写要工整，答题步骤要完整。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重视考后分析。拿到老师批阅的试卷后，不仅要看成绩，而且要对试题进行逐一分析。首先要把错题改正过来，把错处鲜明地标示出来，引起自己的注意，以便复习时查对。然后分析丢分的原因，并进行分类统计。看看因审题、运算、表达、原理、思路、马虎等因素各扣了多少分；经过分析统计，找出自己学习上存在的问题。对做对了的题目也要进行分析，检查自己对题目的表达是否严密，解题方法是否简便等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各科试卷要分类保存，以便复习时参考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杜绝各种作弊现象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  <a:ea typeface="黑体"/>
              </a:rPr>
              <a:t> </a:t>
            </a:r>
            <a:r>
              <a:rPr b="1" lang="zh-CN" sz="3600" spc="-1" strike="noStrike">
                <a:solidFill>
                  <a:srgbClr val="ff6600"/>
                </a:solidFill>
                <a:latin typeface="_x000b__x000c_"/>
                <a:ea typeface="黑体"/>
              </a:rPr>
              <a:t>六、课外学习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课外学习是课内学习的补充和扩展，二者是相互联系、相互渗透的整体。在搞好课内学习的基础上，适当进行课外学习，可以开阔自己的知识领域，发展个人的兴趣、爱好和特长，同时对课内学习也会起到有效的促进作用。课外学习应注意：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可根据自己的学习情况，有目的地选择学习内容，原则是有利于巩固基础知识，弥补自己的学习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297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可以根据自己的特长和爱好，选择一些有关学科的课外读物学习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、课外阅读一定要从自己的实际出发，量力而行，宁可少而精，也不多而滥，切忌好高鹜远、贪多求全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482760"/>
            <a:ext cx="7467480" cy="5438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63600"/>
            <a:ext cx="8381880" cy="5954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153280" cy="652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720480" y="42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奋斗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00:07:01Z</dcterms:created>
  <dc:creator>Billgates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39:58Z</dcterms:modified>
  <cp:revision>26</cp:revision>
  <dc:subject>主题班会课件(分28大类): http://shop62905894.taobao.com</dc:subject>
  <dc:title>主题班会课件(分28大类): http://shop62905894.taobao.com</dc:title>
</cp:coreProperties>
</file>