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883-0C96-42B3-89D5-E521D1B8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D9D-726E-44D3-BE1A-F5FA9433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242-DDB0-4D88-8EC6-6A6DEE43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C3D-F602-4955-94D7-38CEA4FE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016-963C-40BA-A11F-2F0E5640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5F5-1264-49B2-8E33-4C7499D1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516-1CB9-4411-A683-E3898759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F6C-56DA-42CE-83D6-3DAC9CC3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EE4-7F66-4CD1-9F44-83683757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355-27E9-4261-8D2D-92FAC67D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846-A413-4B95-97DE-0305869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EB5-29D1-4A0A-AC6D-04C9A435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7DEF-A20E-44B9-8474-3818EF84A8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14680" y="11970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99"/>
                </a:solidFill>
                <a:latin typeface="Arial"/>
                <a:ea typeface="华文行楷"/>
              </a:rPr>
              <a:t>天行健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71120" y="3500280"/>
            <a:ext cx="6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99"/>
                </a:solidFill>
                <a:latin typeface="Arial"/>
                <a:ea typeface="华文行楷"/>
              </a:rPr>
              <a:t>君子以自强不息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77120" y="5784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a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81360" y="1197000"/>
            <a:ext cx="456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当蜘蛛网无情地查封了我的炉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当灰烬的余烟叹息着贫困的悲哀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依然固执地铺平失望的灰烬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用美丽的雪花写下：相信未来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85160" y="29242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当我的紫葡萄化为深秋的露水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当我的鲜花依偎在别人的情怀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依然固执地用凝霜的枯藤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凄凉的大地上写下：相信未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4581360"/>
            <a:ext cx="413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要用手指那涌向天边的排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要用手撑那托住太阳的大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摇曳着曙光那枝温暖漂亮的笔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用孩子的笔体写下：相信未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59120" y="692280"/>
            <a:ext cx="2434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之所以坚定地相信未来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是我相信未来人们的眼睛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她有拨开历史风尘的睫毛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她有看透岁月篇章的瞳孔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不管人们对于我们腐烂的皮肉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那些迷途的惆怅、失败的苦痛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是寄予感动的热泪、深切的同情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还是给以轻蔑的微笑、辛辣的嘲讽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坚信人们对于我们的脊骨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那无数次的探索、迷途、失败和成功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定会给予热情、客观、公正的评定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是的，我焦急地等待着他们的评定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80000" y="692280"/>
            <a:ext cx="27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朋友，坚定地相信未来吧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相信不屈不挠的努力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相信战胜死亡的年轻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相信未来、热爱生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黄道婆橡皮筋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32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演者：张玉梅 吴唤 陆盛玲 徐佳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吴凯敏  洪成豪 袁斌 刘栩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881080" cy="38163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3170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  <a:path fill="darken" w="21600" h="30158">
                <a:moveTo>
                  <a:pt x="3794" y="8073"/>
                </a:moveTo>
                <a:lnTo>
                  <a:pt x="17806" y="15079"/>
                </a:lnTo>
                <a:lnTo>
                  <a:pt x="3794" y="220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他山之石，可以攻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每天把不懂的单词、句子、公式等划起来，利用课余时间去找老师或问同学，直到弄清楚为止。晚上作完作业又把这些地方再看一遍，看看自己是否学扎实了，是否掌握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经常提醒自己做事要快点，不要比别人慢。做什么事都做在别人前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面向生活的困难时，我总是以一种乐观的态度去对待。总结输的原因，再找出解决的办法，吸取教训，在下一场比赛中不要再犯同样的错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为了自身的前途、父母的期望，乃至民族的富强，男儿女儿当自强不息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55640" y="1341360"/>
            <a:ext cx="7056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年轻的战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8415"/>
                </a:moveTo>
                <a:lnTo>
                  <a:pt x="8224" y="8415"/>
                </a:lnTo>
                <a:lnTo>
                  <a:pt x="12645" y="3803"/>
                </a:lnTo>
                <a:lnTo>
                  <a:pt x="12645" y="17815"/>
                </a:lnTo>
                <a:lnTo>
                  <a:pt x="8224" y="13203"/>
                </a:lnTo>
                <a:lnTo>
                  <a:pt x="3794" y="13203"/>
                </a:lnTo>
                <a:close/>
              </a:path>
              <a:path fill="darken" w="21600" h="21618">
                <a:moveTo>
                  <a:pt x="14299" y="10809"/>
                </a:moveTo>
                <a:lnTo>
                  <a:pt x="17806" y="10809"/>
                </a:lnTo>
              </a:path>
              <a:path fill="darken" w="21600" h="21618">
                <a:moveTo>
                  <a:pt x="14299" y="8415"/>
                </a:moveTo>
                <a:lnTo>
                  <a:pt x="17806" y="5648"/>
                </a:lnTo>
              </a:path>
              <a:path fill="darken" w="21600" h="21618">
                <a:moveTo>
                  <a:pt x="14299" y="13203"/>
                </a:moveTo>
                <a:lnTo>
                  <a:pt x="17806" y="15970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班主任寄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任何时候不要放弃追求下去的信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成功属于挑战失败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637000"/>
            <a:ext cx="8064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都能实现自己的理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831708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游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分为两个小组，每组一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规定的时间内，取得数量多者为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人绑双腿，一人绑双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32720" y="616572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1096"/>
                </a:moveTo>
                <a:lnTo>
                  <a:pt x="8224" y="11096"/>
                </a:lnTo>
                <a:lnTo>
                  <a:pt x="12645" y="6483"/>
                </a:lnTo>
                <a:lnTo>
                  <a:pt x="12645" y="20496"/>
                </a:lnTo>
                <a:lnTo>
                  <a:pt x="8224" y="15883"/>
                </a:lnTo>
                <a:lnTo>
                  <a:pt x="3794" y="15883"/>
                </a:lnTo>
                <a:close/>
              </a:path>
              <a:path fill="darken" w="21600" h="26980">
                <a:moveTo>
                  <a:pt x="14299" y="13490"/>
                </a:moveTo>
                <a:lnTo>
                  <a:pt x="17806" y="13490"/>
                </a:lnTo>
              </a:path>
              <a:path fill="darken" w="21600" h="26980">
                <a:moveTo>
                  <a:pt x="14299" y="11096"/>
                </a:moveTo>
                <a:lnTo>
                  <a:pt x="17806" y="8329"/>
                </a:lnTo>
              </a:path>
              <a:path fill="darken" w="21600" h="26980">
                <a:moveTo>
                  <a:pt x="14299" y="15883"/>
                </a:moveTo>
                <a:lnTo>
                  <a:pt x="17806" y="1865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强不息的唐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5327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156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859280" y="3284640"/>
            <a:ext cx="42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08000" y="692280"/>
            <a:ext cx="51562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隐形的翅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87980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85080" y="6093000"/>
            <a:ext cx="287280" cy="3585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560"/>
              <a:gd name="textAreaBottom" fmla="*/ 340200 h 3585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6470"/>
                </a:moveTo>
                <a:lnTo>
                  <a:pt x="17806" y="13476"/>
                </a:lnTo>
                <a:lnTo>
                  <a:pt x="3794" y="2048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816360" cy="5832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8360" y="6093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11280" y="1628640"/>
            <a:ext cx="7632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“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热爱生命，自强不息”格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自己的翅膀飞越天际，才能看到最美丽的风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——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算折断翅膀，也要追逐梦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——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吴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路要不断地走，才能越来越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要不断地攀登，才能越来越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要不断地磨练，才能越来越刚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——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袁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珍惜更多的生命，创造未来的奇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——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晨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功的路就在你的脚下，只要你能勇敢的跨出第一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——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刘泽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组诗朗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当我们年轻的时候》 朗诵者：朱海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顾豪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相信未来》               朗诵者：陆盛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8000" y="4508640"/>
            <a:ext cx="792000" cy="35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56720" y="2997360"/>
            <a:ext cx="792000" cy="35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907920"/>
            <a:ext cx="456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相  信  未  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食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34:19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7:48Z</dcterms:modified>
  <cp:revision>1</cp:revision>
  <dc:subject>主题班会课件(分28大类): http://shop62905894.taobao.com</dc:subject>
  <dc:title>主题班会课件(分28大类): http://shop62905894.taobao.com</dc:title>
</cp:coreProperties>
</file>