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type.wav" ContentType="audio/x-wav"/>
  <Override PartName="/ppt/media/image2.jpeg" ContentType="image/jpeg"/>
  <Override PartName="/ppt/media/image3.gif" ContentType="image/gif"/>
  <Override PartName="/ppt/media/gla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BA1-7F29-40D9-B6F0-4F7EBA27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898-9F16-4C50-B2BF-EE973C8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43E-69AA-40B8-8049-0EE5E742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EF3-85E7-435F-9988-B96A4D8A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C3F-3F5E-46BF-9341-A45AB91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C60-F14D-4F4F-9491-29D22DCE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D56-EB51-49C5-91D3-AB26723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B94-6B7C-4FBC-A0F3-23657DC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1DB-125E-4F94-9391-E898859F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8F6-C092-4475-8F06-16DC8472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373-E461-4666-913B-E9E2899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B1A-AF79-4D5A-84CD-A15C001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4DA-EAE9-4B17-8EFE-E962DE6D46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75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75480" y="990720"/>
            <a:ext cx="1870200" cy="4876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培养积极情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克服消极情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80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表演：猜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4479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眉飞色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727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信心百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喜形于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75248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727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积极情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048120"/>
            <a:ext cx="380880" cy="75960"/>
          </a:xfrm>
          <a:prstGeom prst="righ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72736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促进、增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752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痛不欲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895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怒发冲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0384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苦不堪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198108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895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消极情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276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8954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削弱、减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28880" y="685800"/>
            <a:ext cx="7086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积极情绪与消极情绪可以相互转化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9:35:08Z</dcterms:created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6:47Z</dcterms:modified>
  <cp:revision>1</cp:revision>
  <dc:subject>主题班会课件(分28大类): http://shop62905894.taobao.com</dc:subject>
  <dc:title>主题班会课件(分28大类): http://shop62905894.taobao.com</dc:title>
</cp:coreProperties>
</file>