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9899-7695-49E0-974A-DBB20C835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887B-AF7E-4102-AB6C-EA663143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F041-02E7-4E02-8DEB-574D342B8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EF2C-B7C6-4DEC-ADEC-31994A82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1DE9-EC9A-41B3-9C60-C402B6C4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3CED-8303-4CE1-ABC3-4503C7CC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B8DA-5C99-4EAC-AADD-7921D473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0838-12D9-4551-8B69-8E11E20E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0AF1-EFD0-4531-B9B8-42EA19BF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3B93-D29E-49BE-BD4F-965038DA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A3E9-2CF6-4E64-982B-146F3706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190D-FF81-4808-8828-37BC8FBF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DAF2-1ECB-4E9E-A40C-D2F66F66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C881-F71F-462D-9357-32BE716C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09C1-E205-4487-9127-4AD33DDD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C864-0289-470C-BD03-B8FEC79D9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C98E-D494-4CB7-B284-1B5D6F3D2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AA52-5432-4775-9334-19611B3C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8388-D471-457B-AD61-AF2FF33C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FCCE-BC67-4148-93D6-1D300B4F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CA76-6FE7-4605-A0CB-FF6E64CD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2181-6813-4B20-9625-76BE1B74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2E1C-7234-4AA9-9A20-847423C8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32D7-C0DC-453B-AE92-7304405A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B8B6-D03C-43C5-B552-7E5B8DD36D48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A47A-5D78-40AD-AB83-BDB1A732A84B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困难永远只有一个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Arial"/>
              </a:rPr>
              <a:t>适者生存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 rot="10800000">
            <a:off x="782280" y="20520"/>
            <a:ext cx="7882920" cy="29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404280"/>
            <a:ext cx="7693200" cy="568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一下子就到了射击游艺场的门口，看到两名水兵好几次都打不中目标。然后我们继续前进。 “现在，”夏里宾说，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“只有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11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个街口了。” 我摇了摇头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    </a:t>
            </a: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不多一会，走到卡纳奇大戏院。夏里宾说，他要看看那些购买月戏票子的观众究竟是什么样子，几分钟之后，我们重又前进。 “现在”夏里宾愉快地说，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“咱们离中央公园的动物园只有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个街口了，</a:t>
            </a: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动物园里有一只猩猩，它的脸很像我所认识的唱次中音的朋友。我们去看看那只猩猩。”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700200" y="15840"/>
            <a:ext cx="7892280" cy="2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60280"/>
            <a:ext cx="7693200" cy="582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又走了</a:t>
            </a: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12</a:t>
            </a: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个街口，已经来到百老汇，我们在一家小吃店面前停了下来。橱窗里放着一坛咸萝卜。夏里宾奉医生的医嘱不能吃咸菜，因此他只好隔窗望了望。 “这东西不坏呢。”他说，“它使我想起了我的青年时期。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    </a:t>
            </a: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我走了许多路，原该筋疲力尽的了。可是奇怪得很，今天反而比往常好些。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</a:rPr>
              <a:t>这样忽断忽续地走着</a:t>
            </a: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，走到夏里宾住的旅馆的时候，他满意地笑着：“并不太远吧？现在让我们来吃中饭。”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 rot="10800000">
            <a:off x="773280" y="10800"/>
            <a:ext cx="7900920" cy="1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333000"/>
            <a:ext cx="7693200" cy="575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在那满意的午餐之前，夏里宾向我解释为什么要我走这许多路的理由。 “今天的走路，你可以常常记在心里。”这位大音乐家庄严地说，“这是生活艺术的一个教训：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你与你的目标之间无论有怎样遥远的距离，都不要担心。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</a:rPr>
              <a:t>把你的精神常常集中在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</a:rPr>
              <a:t>5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</a:rPr>
              <a:t>个街口的短短距离，别让那遥远的未来使你烦闷异常。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常常注意于未来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24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小时内使你觉得有趣的小玩意儿。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            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困难永远只有一个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屈指到今，已经</a:t>
            </a: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19</a:t>
            </a: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年了，夏里宾也已长辞人世。我们共同走过马路的那一天永远值得我纪念。因为尽管那些马路如今大都已经变了样子，可是</a:t>
            </a:r>
            <a:r>
              <a:rPr b="0" lang="zh-CN" sz="32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夏里宾的实用哲学，</a:t>
            </a: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有好多次都解决了我的难题。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670400" y="404640"/>
            <a:ext cx="5825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人们的所谓烦恼，多数是因为将能力与困难相比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能力显得太弱而形成的沮丧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然而，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每个人都不缺少能力</a:t>
            </a: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。能力如同使麦子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生长的阳光一样，以不为人知的方式支持着生长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它是缓慢的，而任何明显的力量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譬如海浪和飓风，都不会形成一种生命的成长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成长必然是缓慢的，但缓慢不同于停滞</a:t>
            </a: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，虽然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有时两者会很像。即使如此，它也不应该成为怀疑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自己能力的理由。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所以说，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忍耐或者说等待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，是驱逐烦恼的风，是和能力对衬的另一只船桨。在这一点上，日夜生长着的庄稼，由开花到结果的树木，都是我们的启蒙者。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-360" y="2361960"/>
            <a:ext cx="889308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那么，困难是什么呢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是使理想变得锋利的磨石，是促使沉睡者大叫而醒的恶梦，是过河时不得不从身后搬到前面的石头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困难还有一种特性，它像麻雀一样密集地落在前方所有的枝头上。使人灰心的原因之一，就在于我们目睹的麻雀或者说困难太多。换句话说，</a:t>
            </a:r>
            <a:r>
              <a:rPr b="1" lang="zh-CN" sz="2800" spc="-1" strike="noStrike" u="sng">
                <a:solidFill>
                  <a:srgbClr val="003366"/>
                </a:solidFill>
                <a:uFillTx/>
                <a:latin typeface="Arial"/>
              </a:rPr>
              <a:t>我们的知道</a:t>
            </a:r>
            <a:r>
              <a:rPr b="1" i="1" lang="zh-CN" sz="2800" spc="-1" strike="noStrike">
                <a:solidFill>
                  <a:srgbClr val="003366"/>
                </a:solidFill>
                <a:latin typeface="Arial"/>
              </a:rPr>
              <a:t>误导了自己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，一下子了解了太多的困难。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 rot="10800000">
            <a:off x="788400" y="359280"/>
            <a:ext cx="78706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836280"/>
            <a:ext cx="769320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买车的困难是没有钱，生病的困难是缺少体育锻炼，上班的困难是上司的脸色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难看，结婚的困难是缺少住房，这样的困难可以永远罗列下去。即使在成功者那里，困难也是一堆：贷款、利息、时间、睡眠等等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当一个人把所有的困难依次想一遍的时候，生活里的阳光也就黯淡了。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291320" y="332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事实上，困难永远只有一个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1341360"/>
            <a:ext cx="7981920" cy="518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我们要克服的困难只是一件需要马上去做的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事，它可能仅仅是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修一下自行车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把要做的作业写好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去做一份试题、回一封信、慢跑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分钟、向你冒犯过的人道个歉，和同学聊聊天等等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它只是一件事，甚至说不上困难。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而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Arial"/>
              </a:rPr>
              <a:t>成功像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被乌鸦啄石子丢入瓶里的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Arial"/>
              </a:rPr>
              <a:t>水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一样慢慢升起来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Arial"/>
              </a:rPr>
              <a:t>这件事，或这个困难，仅仅是乌鸦嘴里那粒石头。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Arial"/>
              </a:rPr>
              <a:t>因此，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直视困难</a:t>
            </a:r>
            <a:r>
              <a:rPr b="0" lang="zh-CN" sz="3600" spc="-1" strike="noStrike">
                <a:solidFill>
                  <a:srgbClr val="003366"/>
                </a:solidFill>
                <a:latin typeface="Arial"/>
              </a:rPr>
              <a:t>使它在特定时间内</a:t>
            </a:r>
            <a:r>
              <a:rPr b="0" lang="zh-CN" sz="3600" spc="-1" strike="noStrike" u="sng">
                <a:solidFill>
                  <a:srgbClr val="003366"/>
                </a:solidFill>
                <a:uFillTx/>
                <a:latin typeface="Arial"/>
              </a:rPr>
              <a:t>变小</a:t>
            </a:r>
            <a:r>
              <a:rPr b="0" lang="zh-CN" sz="3600" spc="-1" strike="noStrike">
                <a:solidFill>
                  <a:srgbClr val="003366"/>
                </a:solidFill>
                <a:latin typeface="Arial"/>
              </a:rPr>
              <a:t>，把心放开让忍耐使生长的</a:t>
            </a:r>
            <a:r>
              <a:rPr b="0" lang="zh-CN" sz="3600" spc="-1" strike="noStrike" u="sng">
                <a:solidFill>
                  <a:srgbClr val="003366"/>
                </a:solidFill>
                <a:uFillTx/>
                <a:latin typeface="Arial"/>
              </a:rPr>
              <a:t>力量变大</a:t>
            </a:r>
            <a:r>
              <a:rPr b="0" lang="zh-CN" sz="3600" spc="-1" strike="noStrike">
                <a:solidFill>
                  <a:srgbClr val="003366"/>
                </a:solidFill>
                <a:latin typeface="Arial"/>
              </a:rPr>
              <a:t>，自然就松开了捆绑心灵的绳索。 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Arial"/>
              </a:rPr>
              <a:t>              </a:t>
            </a:r>
            <a:r>
              <a:rPr b="0" lang="zh-CN" sz="3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003366"/>
                </a:solidFill>
                <a:latin typeface="Arial"/>
              </a:rPr>
              <a:t>王家台摘自《八小时以外</a:t>
            </a:r>
            <a:r>
              <a:rPr b="0" lang="zh-CN" sz="3600" spc="-1" strike="noStrike">
                <a:solidFill>
                  <a:srgbClr val="003366"/>
                </a:solidFill>
                <a:latin typeface="Arial"/>
              </a:rPr>
              <a:t>)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25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岁的时候，我因失业而挨饿，以前在君士坦丁堡，在巴黎，在罗马，都尝过贫穷和挨饿的滋味。然而，在这个纽约城，处处充溢着豪华气息，尤其使我觉得失业的可悲。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   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我不知道有什么办法能改变这种局面，因为我胜任的工作非常有限。我能写文章，但不会用英文写作。白天就在马路上东奔西走，目的倒不是为了锻炼身体，因为这是躲避房东讨债的最好办法。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meiwenjuli" descr=""/>
          <p:cNvPicPr/>
          <p:nvPr/>
        </p:nvPicPr>
        <p:blipFill>
          <a:blip r:embed="rId1"/>
          <a:stretch/>
        </p:blipFill>
        <p:spPr>
          <a:xfrm>
            <a:off x="4044960" y="996840"/>
            <a:ext cx="1359000" cy="6732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 rot="10800000">
            <a:off x="773280" y="10800"/>
            <a:ext cx="7900920" cy="1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60280"/>
            <a:ext cx="7693200" cy="582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一天，我在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42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号街碰见一位金发碧眼的大高个儿，立刻认出他是俄国的名歌唱家夏里宾先生。记得我小时候，常常在莫斯科帝国剧院的门口，排在观众的行列中间，等待好久之后，方能购得一张票子，去欣赏这位先生的艺术。后来我在巴黎当新闻记者，曾经去访问过他。我以为他当时是不会认识我的，然而他却还记得我的名字。 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很忙吗？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他问我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    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我含糊回答了他，我想他已一眼看出了我的境遇。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 rot="10800000">
            <a:off x="768600" y="6840"/>
            <a:ext cx="7910280" cy="1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569080" cy="575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我住的旅馆在第</a:t>
            </a: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103</a:t>
            </a: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号街，百老汇那边，跟我一同走过去，好不好？”他问我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    </a:t>
            </a: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走过去？其时是中午，我已走了</a:t>
            </a: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个小时的马路了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    “</a:t>
            </a: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但是，夏里宾先生，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还要走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个街口，</a:t>
            </a: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路不近呢。”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“胡说，”他笑着说，“只有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个街口。</a:t>
            </a: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”“</a:t>
            </a: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个街口？”我觉得很诧异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    “</a:t>
            </a: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是的，”“他说，”“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</a:rPr>
              <a:t>但我不是说到我的旅馆，而是到第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</a:rPr>
              <a:t>6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</a:rPr>
              <a:t>号街的一家射击游艺场。</a:t>
            </a: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” 这有些答非所问，但我却顺从地跟着他走。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9T01:40:25Z</dcterms:created>
  <dc:creator/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23:19Z</dcterms:modified>
  <cp:revision>25</cp:revision>
  <dc:subject>主题班会课件(分28大类): http://shop62905894.taobao.com</dc:subject>
  <dc:title>主题班会课件(分28大类): http://shop62905894.taobao.com</dc:title>
</cp:coreProperties>
</file>