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BAF-B5B6-41F2-9E69-15579EE4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762-ADFB-427B-940F-1E70F01D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AEC-4CE5-49E5-B67F-0C8FD46F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F2D-9A2C-4A9E-8048-99812421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CE0C-C845-4D1C-9543-A2C23A93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03A9-69E8-4A9C-A453-9A351CAD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0057-99AE-4B28-B979-0F0EDB8D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F202-8817-4396-96A9-A3B32287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1A02-1D0E-487A-99BE-0D34E4B2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8AD7-07E7-4016-A92E-3FEE8C4F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A4AB-F140-450C-8C8E-E80826EB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A64-01D9-449E-831A-31CA13EE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EA5E-523D-41C6-BD30-88379F29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9232-C313-450D-A193-DEF6A46A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8BC0-FB13-41AE-9949-2F8F4300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7AD1-0413-4E62-AF90-F25081DC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F909-8CC2-48DB-B3E0-D48D87FE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4EE-D75D-407E-9B99-B2DA1A72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796-76E3-4D41-B297-5241C891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405-4240-4DA3-BAA9-5CA5EAD6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659-8881-4075-B3C6-AB9358EB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422-1743-48F6-8E43-D90B9BA8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90B-3153-4266-B25C-C2CB320F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CFD-C324-46E8-B5D8-D7070783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E9F4-123E-48D9-808D-D5CCA6D94B7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B7D0-6CA3-406E-9AE9-D19DD0677D3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Arial"/>
              </a:rPr>
              <a:t>文五班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ff"/>
                </a:solidFill>
                <a:latin typeface="Arial"/>
              </a:rPr>
              <a:t>前世不忘，后事之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ff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66ffff"/>
                </a:solidFill>
                <a:latin typeface="Arial"/>
              </a:rPr>
              <a:t>0</a:t>
            </a:r>
            <a:r>
              <a:rPr b="0" lang="zh-CN" sz="3600" spc="-1" strike="noStrike">
                <a:solidFill>
                  <a:srgbClr val="66ffff"/>
                </a:solidFill>
                <a:latin typeface="Arial"/>
              </a:rPr>
              <a:t>７年高考</a:t>
            </a:r>
            <a:r>
              <a:rPr b="0" lang="zh-CN" sz="3600" spc="-1" strike="noStrike">
                <a:solidFill>
                  <a:srgbClr val="66ffff"/>
                </a:solidFill>
                <a:latin typeface="Arial"/>
              </a:rPr>
              <a:t>120</a:t>
            </a:r>
            <a:r>
              <a:rPr b="0" lang="zh-CN" sz="3600" spc="-1" strike="noStrike">
                <a:solidFill>
                  <a:srgbClr val="66ffff"/>
                </a:solidFill>
                <a:latin typeface="Arial"/>
              </a:rPr>
              <a:t>天祭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班主任：贾国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880" y="1600200"/>
            <a:ext cx="838224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同心无畏</a:t>
            </a: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,</a:t>
            </a: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拼搏无悔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最后，由大家一起朗诵汪国真的《走向远方》。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456840"/>
            <a:ext cx="854064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66"/>
                </a:solidFill>
                <a:latin typeface="Arial"/>
              </a:rPr>
              <a:t>是男儿总要走向远方，走向远方是为了让生命更辉煌。走在崎岖不平的路上，年轻的眼眸里装着梦更装着思想。不论是孤独地走着还是结伴同行，让每一个脚印都坚实而有力量。 </a:t>
            </a:r>
            <a:br>
              <a:rPr sz="2600"/>
            </a:br>
            <a:r>
              <a:rPr b="0" lang="zh-CN" sz="2600" spc="-1" strike="noStrike">
                <a:solidFill>
                  <a:srgbClr val="ffff66"/>
                </a:solidFill>
                <a:latin typeface="Arial"/>
              </a:rPr>
              <a:t>　　我们学着承受痛苦。学着把眼泪像珍珠一样收藏，把眼泪都贮存在成功的那一天流，那一天，哪怕流它个大海汪洋。</a:t>
            </a:r>
            <a:br>
              <a:rPr sz="2600"/>
            </a:br>
            <a:r>
              <a:rPr b="0" lang="zh-CN" sz="2600" spc="-1" strike="noStrike">
                <a:solidFill>
                  <a:srgbClr val="ffff66"/>
                </a:solidFill>
                <a:latin typeface="Arial"/>
              </a:rPr>
              <a:t>　　我们学着对待误解。学着把生活的苦酒当成饮料一样慢慢品尝，不论生命经过多少委屈和艰辛，我们总是以一个朝气蓬勃的面孔，醒来在每一个早上。</a:t>
            </a:r>
            <a:br>
              <a:rPr sz="2600"/>
            </a:br>
            <a:r>
              <a:rPr b="0" lang="zh-CN" sz="2600" spc="-1" strike="noStrike">
                <a:solidFill>
                  <a:srgbClr val="ffff66"/>
                </a:solidFill>
                <a:latin typeface="Arial"/>
              </a:rPr>
              <a:t>　　我们学着对待流言。学着从容而冷静地面对世事沧桑，</a:t>
            </a:r>
            <a:r>
              <a:rPr b="0" lang="zh-CN" sz="2600" spc="-1" strike="noStrike">
                <a:solidFill>
                  <a:srgbClr val="ffff66"/>
                </a:solidFill>
                <a:latin typeface="Arial"/>
              </a:rPr>
              <a:t>"</a:t>
            </a:r>
            <a:r>
              <a:rPr b="0" lang="zh-CN" sz="2600" spc="-1" strike="noStrike">
                <a:solidFill>
                  <a:srgbClr val="ffff66"/>
                </a:solidFill>
                <a:latin typeface="Arial"/>
              </a:rPr>
              <a:t>猝然临之而不惊，无故加之而不怒</a:t>
            </a:r>
            <a:r>
              <a:rPr b="0" lang="zh-CN" sz="2600" spc="-1" strike="noStrike">
                <a:solidFill>
                  <a:srgbClr val="ffff66"/>
                </a:solidFill>
                <a:latin typeface="Arial"/>
              </a:rPr>
              <a:t>"</a:t>
            </a:r>
            <a:r>
              <a:rPr b="0" lang="zh-CN" sz="2600" spc="-1" strike="noStrike">
                <a:solidFill>
                  <a:srgbClr val="ffff66"/>
                </a:solidFill>
                <a:latin typeface="Arial"/>
              </a:rPr>
              <a:t>，这便是我们的大勇，我们的修养。</a:t>
            </a:r>
            <a:br>
              <a:rPr sz="2600"/>
            </a:br>
            <a:r>
              <a:rPr b="0" lang="zh-CN" sz="2600" spc="-1" strike="noStrike">
                <a:solidFill>
                  <a:srgbClr val="ffff66"/>
                </a:solidFill>
                <a:latin typeface="Arial"/>
              </a:rPr>
              <a:t>　　我们学着只争朝夕。人生苦短，道路漫长，我们走向并珍爱每一处风光，我们不停地走着，不停地走着的我们也成了一处风光。</a:t>
            </a:r>
            <a:br>
              <a:rPr sz="2600"/>
            </a:br>
            <a:r>
              <a:rPr b="0" lang="zh-CN" sz="2600" spc="-1" strike="noStrike">
                <a:solidFill>
                  <a:srgbClr val="ffff66"/>
                </a:solidFill>
                <a:latin typeface="Arial"/>
              </a:rPr>
              <a:t>　　走向远方，从少年到青年，从青年到老年，我们从星星走成了夕阳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　　　</a:t>
            </a:r>
            <a:r>
              <a:rPr b="1" lang="zh-CN" sz="9600" spc="-1" strike="noStrike">
                <a:solidFill>
                  <a:srgbClr val="ff5050"/>
                </a:solidFill>
                <a:latin typeface="Arial"/>
              </a:rPr>
              <a:t>随笔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5050"/>
                </a:solidFill>
                <a:latin typeface="Arial"/>
              </a:rPr>
              <a:t>《谁动了我的高考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228240"/>
            <a:ext cx="85406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8500" spc="-1" strike="noStrike">
                <a:solidFill>
                  <a:srgbClr val="ff5050"/>
                </a:solidFill>
                <a:latin typeface="华文行楷"/>
                <a:ea typeface="华文行楷"/>
              </a:rPr>
              <a:t>07</a:t>
            </a:r>
            <a:r>
              <a:rPr b="1" lang="zh-CN" sz="8500" spc="-1" strike="noStrike">
                <a:solidFill>
                  <a:srgbClr val="ff5050"/>
                </a:solidFill>
                <a:latin typeface="华文行楷"/>
                <a:ea typeface="华文行楷"/>
              </a:rPr>
              <a:t>高考大幕已经落下</a:t>
            </a:r>
            <a:r>
              <a:rPr b="1" lang="zh-CN" sz="8500" spc="-1" strike="noStrike">
                <a:solidFill>
                  <a:srgbClr val="ff5050"/>
                </a:solidFill>
                <a:latin typeface="华文行楷"/>
                <a:ea typeface="华文行楷"/>
              </a:rPr>
              <a:t>,</a:t>
            </a:r>
            <a:r>
              <a:rPr b="1" lang="zh-CN" sz="8500" spc="-1" strike="noStrike">
                <a:solidFill>
                  <a:srgbClr val="ff5050"/>
                </a:solidFill>
                <a:latin typeface="华文行楷"/>
                <a:ea typeface="华文行楷"/>
              </a:rPr>
              <a:t>让我们共同期待</a:t>
            </a:r>
            <a:r>
              <a:rPr b="1" lang="zh-CN" sz="8500" spc="-1" strike="noStrike">
                <a:solidFill>
                  <a:srgbClr val="ff5050"/>
                </a:solidFill>
                <a:latin typeface="华文行楷"/>
                <a:ea typeface="华文行楷"/>
              </a:rPr>
              <a:t>08</a:t>
            </a:r>
            <a:r>
              <a:rPr b="1" lang="zh-CN" sz="8500" spc="-1" strike="noStrike">
                <a:solidFill>
                  <a:srgbClr val="ff5050"/>
                </a:solidFill>
                <a:latin typeface="华文行楷"/>
                <a:ea typeface="华文行楷"/>
              </a:rPr>
              <a:t>高考的辉煌</a:t>
            </a:r>
            <a:r>
              <a:rPr b="1" lang="zh-CN" sz="8500" spc="-1" strike="noStrike">
                <a:solidFill>
                  <a:srgbClr val="ff5050"/>
                </a:solidFill>
                <a:latin typeface="华文行楷"/>
                <a:ea typeface="华文行楷"/>
              </a:rPr>
              <a:t>!!</a:t>
            </a:r>
            <a:r>
              <a:rPr b="1" lang="zh-CN" sz="8500" spc="-1" strike="noStrike">
                <a:solidFill>
                  <a:srgbClr val="ff5050"/>
                </a:solidFill>
                <a:latin typeface="华文行楷"/>
                <a:ea typeface="华文行楷"/>
              </a:rPr>
              <a:t>风雨路上你我同行</a:t>
            </a:r>
            <a:r>
              <a:rPr b="1" lang="zh-CN" sz="8500" spc="-1" strike="noStrike">
                <a:solidFill>
                  <a:srgbClr val="ff5050"/>
                </a:solidFill>
                <a:latin typeface="华文行楷"/>
                <a:ea typeface="华文行楷"/>
              </a:rPr>
              <a:t>.</a:t>
            </a:r>
            <a:endParaRPr b="0" lang="en-US" sz="8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华文行楷"/>
                <a:ea typeface="华文行楷"/>
              </a:rPr>
              <a:t>                                                                                                    </a:t>
            </a:r>
            <a:r>
              <a:rPr b="1" lang="zh-CN" sz="2000" spc="-1" strike="noStrike">
                <a:solidFill>
                  <a:srgbClr val="ff5050"/>
                </a:solidFill>
                <a:latin typeface="华文行楷"/>
                <a:ea typeface="华文行楷"/>
              </a:rPr>
              <a:t>班主任：贾国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Arial"/>
              </a:rPr>
              <a:t>笙，这种有着两千多年的历史的中国乐器正被韩国申遗，这让我想起去年激起轩然大波的“韩国成功申遗端午祭”一事。连续的两件事再加上二调考试的失败让我认识到，如果我们自己再不重视起来的话，那么，“我们的遗产只能成为别人的荣誉”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Arial"/>
              </a:rPr>
              <a:t>同样如果我们不重视已经过去了四个多月的高考留给我们的“遗产”，那它也只能用来作为反面的材料，鞭策别人奋发图强，从而成就他们的“荣誉”。因此，我们今天的班会主题是“前世不忘，后事之师——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</a:rPr>
              <a:t>0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</a:rPr>
              <a:t>７年高考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</a:rPr>
              <a:t>120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</a:rPr>
              <a:t>天祭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　请你认真思索以下三个问题！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29492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问题一：四个多月（６月６日）前的这一天你在干什么，你对“明天”有何感受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日，你的心情是否也像这两个数字一样和顺，你是忐忑不安心怀恐慌，还是摩拳擦掌志在必得？你的心境是平静如水从容淡定，还是汹涌如涛，坐卧不宁？你是希望自己正常发挥考出水平，还是超常发挥侥幸得中？请你谈谈自己的感受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456840"/>
            <a:ext cx="8540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问题二：一年前的这一天你在干什么，你对“高三”有何期许？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６年１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日，你作为高三的学子，已经开始上课，坐在教室里，你是否已对自己立下雄心壮志，是否已向父母许下庄严承诺，是否已毅然决然地向某种习惯某种生活挥手作别，是否已坚定无疑地向某所大学某个专业全力冲刺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228600"/>
            <a:ext cx="8540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问题三：是什么原因导致你今年高考的失败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学习习惯，个人性格，健康状况，感情纠葛？…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228240"/>
            <a:ext cx="85406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个月已经过去，你有没有仔细思考过三个问题？如果还没来得及细想，那么我告诉你已经到了该深入思考的时候了，一个人只有理智清醒地认识过去，才能积极振奋地面向未来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那么如何正确地对待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07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年的高考，或者准确地说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07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年高考的失败？我想应该做到以下三点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447920"/>
            <a:ext cx="854064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</a:rPr>
              <a:t>首先，坦然接受，承认失败。一个人如果能够诚恳坦然地承认并接受曾经的失败，就能避免两种错误，一是逃避现实，浑浑噩噩，二是寻找借口，自欺欺人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228240"/>
            <a:ext cx="85406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5050"/>
                </a:solidFill>
                <a:latin typeface="Arial"/>
              </a:rPr>
              <a:t>然后，总结经验，反思教训。高中三年，尤其是高三复习备考的一年，你多多少少总会有一些收获，或是某一部分知识的理解，或某种技巧的掌握，或是明白了某种学习方法最适合自己等等。这些都要及时总结，作为一种财富，带着上路。当然对大家而言可能最深切的还是某些教训，是态度不端正，是方法不适应，是意志不坚定，还是基础不牢固，这些也都要作为一种镜鉴，同样带着上路。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228240"/>
            <a:ext cx="85406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</a:rPr>
              <a:t>最后，打点行装，走向远方。带着曾经的经验与教训，带着崭新的理想与目标，也带着不变的期待与祝福，这些都是重踏征程时不应抛弃的行装，让我们共同走向远方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44:20Z</dcterms:modified>
  <cp:revision>8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