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517-81FC-4CD4-ABB8-35138FBA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49A-7452-49F5-831C-AA3B946C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796-F551-4513-BC31-CF38DF48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C79-4EB4-4DD6-A5F4-8F6C0F9C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9D2-4C44-4B0C-9044-9602320E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9EA-698A-4507-AF66-81D050D4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5B9-C76C-4ADE-AD83-3BC5AFA4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C68-1009-4679-8975-4037355C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E66-C8A9-448A-B17A-23FF294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813-7319-4227-A86B-68E1F86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477-853F-4219-A00B-A25A8393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25C-1CBD-49D3-A922-B2C2AB18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2E12-16D5-46D3-A06B-70C2E80630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83059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钟友华与村干部交流羔羊饲养技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3638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钟友华在房前的地坡上嫁接桂花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43400" y="1143000"/>
            <a:ext cx="440388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0" y="15228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钟友华维修家中的电视接收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钟友华致富后，新修的川北民居住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7724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看看别人的故事，体会自己的人生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探讨一下对我们的启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个其貌不扬的人是谁？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出现在我们的班会中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他有什么值得我们关注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独腿羊倌钟友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533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先后获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“感动巴中十大新闻人物”和市、县 “十大孝星”，“十佳创业之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曾经这样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啥时能站着走到学校，妈妈就送你上学堂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爬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之久的孩子，为了读书，开始在地上摸爬滚打，他用残手撑住门框慢慢站了起来，站上几分钟，又趴在地上休息一会儿。就这样反反复复，从几分钟到几十分钟，小友华以惊人的毅力顽强地坚持着。经过一年多的磨炼，他一只脚可站上两个多小时丝毫不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站立不等于能走路！独腿如何走路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只得学袋鼠那样跳，刚开始跳上几步又栽倒在地，一连几天，身上摔得到处都是乌疙瘩，晚上睡觉连身都无法翻，还时常被恶梦惊醒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功夫不负苦心人。经过日复一日、年复一年的磨炼，小友华脚底磨出了一层厚厚的老茧，终于可以在乱石林立的山路上不间断地跳上好几里，练成了“独腿金钢”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位曾教过他的老教师这样描述他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没见过这么坚强的孩子。没有什么困难能阻止他渴求知识的欲望。就这样，凭着顽强的毅力，小友华顺利完成小学学业。而且，在小学升初中考试中居然考了全乡第二名，让周围人啧啧称奇！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位过路老人对他说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孩子，你已经成了这个样子，在社会上免不了要受到别人的歧视。坚强些，回到父母身边去吧。”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在回家的路上，钟友华越想越觉得痛心，便买了几包鼠药，准备在大山林中结束自己的生命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十年羊倌路，艰辛中致富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086600" cy="4873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5943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钟友华在门前的村道公路上给黄羊喂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086600" cy="4832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钟友华一边放羊，一边研读养羊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2:07Z</dcterms:modified>
  <cp:revision>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