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80F-3DE4-4902-A5C7-460F1E4B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C60-C93A-4734-AB18-13D2301F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683-6483-42D9-AD60-E0735586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2EE-CF5F-4C3C-8CB9-2041DD1F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991-6859-41D4-B632-ED44994C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E3F-9734-48CC-9855-B43064B2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DE1-EBBD-4365-83EA-4AE64FFA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293-5D7B-4F3C-82C6-D5968BE6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731-40F1-43C7-BEFC-F8F787E4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6B3-639A-4CB4-A2E9-FF58221E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077-AE9A-44BF-AC30-6AB7AF64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A88-DB9C-4422-B1E3-B4FCCB0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919A-44AD-4E56-A770-610869E0B3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51640" y="174456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隶书"/>
              </a:rPr>
              <a:t>励志佳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-76320"/>
            <a:ext cx="91440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1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的痛苦会停止，但求我的心能征服它。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泰戈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2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只用微笑说话的人，才能担当重任。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西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3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享的朋友，在精不在多，分享的幸福就在下一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司恩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3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智者不惑，仁者不忧，勇者不惧。  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孔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70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5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美丽的事物是永恒的快乐，它的可爱日有增加，不会消逝而去。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莎士比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6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过去的事早已消失，未来的事更渺不可知，只有现在是真实的。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培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7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成功之人去找寻环境，若环境不合他，便去改造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萧伯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8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有价值的东西，都要付出代价。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罗拔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9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不费劳力而得者，唯贫困而已。 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英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0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想象力比知识更重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爱因斯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1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最敏捷的，未必赢得竞赛：最强大的，未必赢得战争：时间与机会才是主人。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所罗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2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有志者事竟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汉光武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3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伟人的力量大于物质力量；这精神能战胜物质的思想，可统治世界。  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爱默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4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盛年不再来，一日难再晨；及时当勉励，岁月不待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陶渊明「杂诗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45.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经验是良师，可惜学费贵。         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西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46.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我们唯一需要恐惧的事，是恐惧本身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罗斯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47.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只要付出代价，你便可以随意选择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里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48.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感谢是爱心的第一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西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49.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青年人要有老年人的沉着，老年人应有青年人的精神      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海明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50.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快乐与人生，是最好的伴侣。           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英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51.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能克服自己的愤怒，便能克服最强的敌人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-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德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286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2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快乐的微笑是保持生命康健的唯一药石，它的价值千万，却不要花费一文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奈斯比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3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唯有你自己始能给本身宁静。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爱默生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4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真正的友谊，有如健康失去时，始知其价值。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英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915400" cy="668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5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友情像一棵树木，要慢慢的栽培，才能成长真的友谊，要经过困难考验，才可友谊永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华盛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6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最丰满最好之稻穗，便最贴近地面。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梭诺尔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7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行动养成习惯，习惯培养人格，人格影响命运。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詹姆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8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每一粒厄运的种子，却包孕着未来丰盛的果实。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莎士比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9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如果你不思考未来，你便不会有未来。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亨利福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0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当你面对太阳时，阴影总是落在你的背后。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海伦凯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1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想象是什么并不重要，想象能做什么才重要。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弗利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2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真实便是美。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济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63. </a:t>
            </a: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人类最大的悲剧不是死亡，而是没有掌握有意义的人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64. </a:t>
            </a: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自信是生命的动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   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托尔斯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65. </a:t>
            </a: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人生最大的荣耀，不是永远不败，而是屡败屡战。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拿破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66. </a:t>
            </a: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朝着既定的目标走，就不会迷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7928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每个人都是自己的命运建筑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沙拉斯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生活是锻炼灵魂的妙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勃朗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怎样思想，就有怎样的生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爱默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面对光明，阴影就在我们身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华文中宋"/>
                <a:ea typeface="华文中宋"/>
              </a:rPr>
              <a:t>海伦凯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67.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记住，最具深远意义的是：你唯一能完全控制的是你自己的心态。           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希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68.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我们不是因为快乐而歌唱，而是唱歌使我们快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                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詹姆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69.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如果他们愿意把工作分割成一个个小部分，便没有无法处理的工作。        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亨利福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286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0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每一个人都有能力成为天才。你所要做的只是致力于运用你的想象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1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快乐是你与生俱来的权力，它不应该取决于你完成什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2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沙一世界，一花一天堂，掌中握无限，剎那即永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诗人布莱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73.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练习是最好的老师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西纳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74.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人只要一松懈，就会心生迷惑。         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歌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75.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伟人们，并非始终聪明。               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约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76.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灰心是动摇的开端，动摇是失败的近邻。 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易普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-68580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幸运是机会的影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苏格拉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信心是命运的主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海伦凯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7.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书是唯一不死的东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邱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友谊能增进快乐，减少痛苦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爱默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9.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功可招引朋友，挫败可考验朋友        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西拿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.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朋友是一面镜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&lt;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西谚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.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让你的恶习先你而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富兰克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.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弱者等待时机，强者制造时机          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居里夫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.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承认自己的结论有九十九次是错误的。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爱因斯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.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若对自己诚实，日积月累，就无法对别人不忠了。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莎士比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.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视闲暇为所有财富中最美好的财富。  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苏格拉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.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钱，可以给你带来食物，但不可以给你带来食欲。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易普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7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钱，可以给你带来药，但不可以给你带来健康。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易普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8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钱，可以给你结识人，但不可以给你带来真正的朋友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易普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9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钱，可以给你带来仆人，但不可以给你带来信赖。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易普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0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钱，可以给你带来欢愉的日子，但不可以给你带来和平与幸福。         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易普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21. </a:t>
            </a: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如果我明天就死掉，是否还有想做却没有完成的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吉田荣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22. </a:t>
            </a: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我要把双手身出来让世人看，我虽然夺得了这么多土地，死后却连一点尘埃也没有带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亚历山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23. </a:t>
            </a: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勿道人之短，莫说己之长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朱子家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4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生活尽可低，志气当高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深田欠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5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整个生命都在书房里，坐在这里，感到内心的宁静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..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这才是真正属于我自己的位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柏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6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生的价值以及他的快乐，都在于他有能力看重自己的生存。          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歌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歌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7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如果你认为输赢是最重要的事，那你输了。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欧康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8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爱那些使自己的德行成为自己的目标或命定的人。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尼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9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对自己的信心已超越别人对我的评价。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茱利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0.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只知道，假如我去爱人生，那人生一定也会回爱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阿鲁道夫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·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鲁宾斯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2:58Z</dcterms:modified>
  <cp:revision>31</cp:revision>
  <dc:subject>主题班会课件(分28大类): http://shop62905894.taobao.com</dc:subject>
  <dc:title>主题班会课件(分28大类): http://shop62905894.taobao.com</dc:title>
</cp:coreProperties>
</file>