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A5C-4EBB-412D-9EA1-2164BF8F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FDE-FEFE-42B7-A96D-53736C5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3A3-C71D-4C0C-8E20-F65B8C04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77B-C77B-4509-B00A-ACA3D02B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620-3ACE-467A-A0F4-5FABC70A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B88-79BF-402F-AACC-3DF7511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C9C-FB89-4A75-BFEB-28CC7BC9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BC1-8984-428F-A2BC-C702A6F0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CC3-4AB4-44DE-8269-0C5A6C0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3DF-5D44-47B4-A4F2-C5ABE031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CC8-19D3-4BB2-8D0E-7A297E4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90F-CE6D-4FCF-8DCF-E3F0B64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457-A830-47C7-A660-6316428DA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817560" y="2336760"/>
            <a:ext cx="4203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态度改变奇迹出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5806800" y="2552400"/>
            <a:ext cx="4203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考上重点不在话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700280"/>
            <a:ext cx="4104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总结经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　　　　　扬长弊短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努力今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　　　　　收获明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03280" y="692280"/>
            <a:ext cx="6913800" cy="503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人都有理想的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人也都在位此奋斗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说出你理想的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一起做你成功的见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理想的大学是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此我会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482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　　　　　　高二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(10)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班誓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在这人生的关键时刻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许下这庄重的铮铮宣誓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是高二十班的学生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永远热爱我的班级和同学我愿与他们携手奋战共创辉煌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不是纨绔子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珍惜父母的劳动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珍惜父母的血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的职责是学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的任务是学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学习上我不会浪费一分一秒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会坚持不懈做到最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是一个普通人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没有聪颖的天资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但我会做到敲骨吸髓见缝插针不耻下问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会努力百倍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辛苦万分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坚信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我努力 我拼搏 我成功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3640" y="836640"/>
            <a:ext cx="6769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总策划：郭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副策划：李光　周薛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主办队：旭日东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质量保障：张旭旭（队长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主持人：李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投诉地址：旭日东升办公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人挡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郑大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属团队：青春无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郑兰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训：年轻没有失败　挑战无处不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特长：唱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想大学：泽江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座右铭：海到无边天作岸　天登绝顶我为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谨记：机会不给那些没有准备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680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人挡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徐卫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属团队：骑士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歌：精忠报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训：没有最好只有更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周薛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想大学：北京科技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言：假如我不能　我就一定要　假如我一定要　我就一定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格：温柔善良的小姑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540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人挡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陆阿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属团队：ＣＢ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６１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队歌：最初的梦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武传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身高：１６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55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特长：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好：学习　打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理想的大学：吉林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格言：虽然我不是最优秀的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但我是不断进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40672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人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朱佳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属团队：感恩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t’s m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朱佳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想的大学：天津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好：读书　画画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音乐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日：１９９１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４月１３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名言：勤能补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1640" y="3789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津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5450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人挡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史心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出团队：旭日东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队歌：青春无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张旭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理想大学：同济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身高：１６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好：打篮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格言：用脑袋做的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才是最好的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没有最好只有更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4000" y="33577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同济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3080" y="0"/>
            <a:ext cx="1460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人挡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泽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属团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宏远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轻的战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队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胡永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想的大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旦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一定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1:10:33Z</dcterms:created>
  <dc:creator>US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8:01Z</dcterms:modified>
  <cp:revision>3</cp:revision>
  <dc:subject>主题班会课件(分28大类): http://shop62905894.taobao.com</dc:subject>
  <dc:title>主题班会课件(分28大类): http://shop62905894.taobao.com</dc:title>
</cp:coreProperties>
</file>