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7.jpeg" ContentType="image/jpeg"/>
  <Override PartName="/ppt/media/image5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16.jpeg" ContentType="image/jpeg"/>
  <Override PartName="/ppt/media/image15.png" ContentType="image/png"/>
  <Override PartName="/ppt/media/image6.gif" ContentType="image/gif"/>
  <Override PartName="/ppt/media/image13.wmf" ContentType="image/x-wmf"/>
  <Override PartName="/ppt/media/image10.jpeg" ContentType="image/jpeg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B69-92BD-46F0-81E3-D62D4FC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264-3FD7-4B31-839A-89F11241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9D3-BF4B-4B0F-88E2-2B78910C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D17-4453-4514-BC0B-9EE9FA24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9E3-B702-4981-A0D4-E461124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1F1-849F-4DAC-B9AA-614AC5C1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586-AB4F-4295-8653-E825B727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B33-FD79-4276-8EC6-609325AF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350-AC2F-4566-9FEF-7D9820E4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3A2-A7A8-46B3-ADA2-C822511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BA1-E0B1-4368-B5B5-F49E04E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4A5-FF4E-4FA8-B3BA-43384BB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00A-BA2F-4D2E-9E8F-B721304BE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5.gif"/><Relationship Id="rId1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252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今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我们站在同一起跑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从朋友那儿借来钱后就不想还了            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果早上起得早的话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会把家里人也叫起来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4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果做某件事不断出差错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你就不想再做下去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而是想另外一件事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 (5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你是独生子女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6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总是喜欢和别人一起吃饭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7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不喜欢一个人去旅行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8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每天最少要给别人打一次电话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9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果心理有什么难受的事便立刻哭起来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0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看电影和电视剧会感动得哭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1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在床边经常放有布娃娃等小玩意儿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2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家里养着猫或狗等宠物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3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觉得自己什么时候都不能离开父母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4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果碰到什么困难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立刻会有人来帮助你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5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到现在为止还没有为缺钱而烦恼过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6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看上去要比实际年龄小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7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常常触摸别人的身体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爱拍别人的肩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摸别人的头等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8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从不愿意把自己的东西借给别人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9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十分留恋过去的日子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20)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一旦失败会给你带来很大的打击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评分标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"R"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"W"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"0"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把各项得分相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0-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属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10-1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属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20-2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属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30-4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属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[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结果分析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型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:.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的自信度为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76%-100%.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也许你有些过于自信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但是你那超人的挑战精神使你保持着很好的精神状态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型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的自信度为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50%-75%.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无论何时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总是对自己充满信心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对于任何事都持乐观的态度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明天永远是充满希望的一天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因此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总能够保持积极向上的精神状态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型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的自信度为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26%-50%.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尽管你总是想干这个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又想干那个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但常因没有太大的把握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自信心不强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所以一到关键时刻就打退堂鼓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也许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应该静下心来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稍稍调整一下自己的情绪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型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你的自信不足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5%.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你对自己完全没有信心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由于你做什么都缺乏自信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因此许多本来可以顺利进展的学习工作在你手中却不能很好地完成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许多机会也因此而白白溜掉了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你实在是应该打好精神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好好把握每一天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998720" cy="6067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53352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二、欣赏我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324480" cy="28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学会欣赏自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肯定自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是保持自信的前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mingb161.gif (6652 bytes)"/>
          <p:cNvPicPr/>
          <p:nvPr/>
        </p:nvPicPr>
        <p:blipFill>
          <a:blip r:embed="rId1"/>
          <a:stretch/>
        </p:blipFill>
        <p:spPr>
          <a:xfrm>
            <a:off x="0" y="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们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411600">
            <a:off x="831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421000"/>
            <a:ext cx="1176480" cy="1176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692360" y="4365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 rot="1111800">
            <a:off x="5292720" y="530028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 rot="1181400">
            <a:off x="586692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 rot="1466400">
            <a:off x="7667280" y="364500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 rot="1519800">
            <a:off x="3276360" y="378900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84360" y="765000"/>
            <a:ext cx="539640" cy="360360"/>
            <a:chOff x="684360" y="765000"/>
            <a:chExt cx="539640" cy="360360"/>
          </a:xfrm>
        </p:grpSpPr>
        <p:sp>
          <p:nvSpPr>
            <p:cNvPr id="90" name=""/>
            <p:cNvSpPr/>
            <p:nvPr/>
          </p:nvSpPr>
          <p:spPr>
            <a:xfrm>
              <a:off x="719280" y="76500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4360" y="7650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5681520"/>
            <a:ext cx="117648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9999"/>
              </a:solidFill>
              <a:latin typeface="Arial"/>
              <a:ea typeface="方正姚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1989000"/>
            <a:ext cx="6553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树立目标，做最好自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685800" y="228600"/>
            <a:ext cx="304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放飞梦想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844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：在自己的人生经历中，有哪些事情因为有了明确的目标而取得成功，在哪些事情上因为没有明确的目标而导致了失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371600" y="213372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337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63640" y="1341360"/>
            <a:ext cx="5113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倾听名人故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做最好自我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33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恩来在沈阳读书的时候，只是个十二三岁的少年。他学习非常勤奋、刻苦，常常和老师同学一起讨论自己在阅读书报时思考的问题。当时他们讨论得最多的是怎样救国和宣传救亡的问题。有一天，东关模范高等学堂的魏校长把同学们召集起来，问大家：“读书为了什么？” 有的同学说：“为了给自己将来找条出路。” 有的同学说：“为了能发财致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40464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魏校长问周恩来：“你呢，为什么读书？” 周恩来站起来，大声地说：“为中华之崛起而读书。”就是说为了中华民族的强大兴盛，像巨人一样挺立在世界而读书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恩来中学毕业以后，赴日本留学前，曾经回到沈阳母校，看望诸位师友。他给一个要好的同学写了临别赠言：“志在四方”，“愿相会中华腾飞世界时”。相约当中华民族独立、繁荣的时刻再相见言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48000" y="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谈到牛顿，人们可能认为他小时候一定是个“神童”、“天才”、有着非凡的智力。其实不然，牛顿童年身体瘦弱，头脑并不聪明。曾经有人问牛顿：“你获得成功的秘诀是什么？”牛顿回答说：“假如我有一点微小成就的话，没有其它秘诀，唯有勤奋而已。”他又说：“假如我看得远些，那是因为我站在巨人们的肩上。”这些话多么意味深长啊！它生动地道出牛顿获得巨大成就的奥妙所在，这就是在前人研究成果的基础上，以献身的精神，勤奋地创造，开辟出科学的新天地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059280" cy="633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32000" y="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嘉诚出生于潮州城面线巷内的书香之家，自幼聪颖超脱，学习勤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日寇侵占潮汕便随父母流落香港，饱尝了战乱、贫穷、饥馑之苦，也培养了吃苦耐劳、奋发图强的精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李嘉诚先生就以中华民族的母亲河命名，初创了“长江塑胶厂”表达了他的赤子之心。经过数十年的努力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本人成为全球五大富豪之一。更令人钦佩的是，李嘉诚先生虽已功成名就，但仍不忘祖国、故乡。他曾充满感情地说：“本人旅居香港数十年，无日不怀念国家，思念故里”，“作为炎黄子孙，必须奋斗自强，发达不忘家国，来日以报效桑梓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7320"/>
            <a:ext cx="9144000" cy="7172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87280" y="1989000"/>
            <a:ext cx="6409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为自己量身打造一份目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580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我会不断要求自己努力，努力，再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8360" y="5335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一步一步地向前走近我的理想，实现我的理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990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我不相信奇迹，但我相信自信与汗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9088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我拼搏，我收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19051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时光点点流走，从涓涓细流汇成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6400" y="2362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半年后再回蓦今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4160" y="2819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我希望自己不再后悔走过的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4520" y="3276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把握今天，创造明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8520" y="3733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不言放弃的青春，最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2880" y="4191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我拼搏，我精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6880" y="4648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610"/>
                </a:solidFill>
                <a:latin typeface="Times New Roman"/>
                <a:ea typeface="隶书"/>
              </a:rPr>
              <a:t>因为我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7160" y="5191200"/>
            <a:ext cx="709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606e6"/>
                </a:solidFill>
                <a:latin typeface="Times New Roman"/>
                <a:ea typeface="幼圆"/>
              </a:rPr>
              <a:t>我的未来不是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981080" y="3124080"/>
            <a:ext cx="6553440" cy="26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努力，再努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做到最好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但，成功，离我们还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在还没有到达成功的终点之前，我们一直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flipH="1">
            <a:off x="826560" y="2133720"/>
            <a:ext cx="111636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flipH="1">
            <a:off x="5940360" y="155736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flipH="1">
            <a:off x="1116000" y="323388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 flipH="1">
            <a:off x="3203640" y="184464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 flipH="1">
            <a:off x="4932360" y="4869000"/>
            <a:ext cx="1944720" cy="109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76720" y="342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7700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 flipH="1">
            <a:off x="2843280" y="4508640"/>
            <a:ext cx="180000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43120" y="63972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620640"/>
            <a:ext cx="5975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追求更高目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力做最好自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292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自信，创造美好的未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人生在世，最大的敌人不一定是外来的，而可能是我们自己！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我们难以把握机会，因为犹疑、拖延的毛病；我们容易满足现状，因为没有更高的理想；我们不敢面对未来，因为缺乏信心；我们未能突破，因为不想去突破；我们无法发挥潜能，因此不能超越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-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刘墉《挑战自我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成功学创始人拿破仑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希尔说：“自信，是人类运用和驾驭宇宙无穷大智的唯一管道，是所有‘奇迹’的根基，是所有科学法则无法分析的玄妙神迹的发源地。”奥里森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马登也说过这样一段耐人寻味的话：“如果我们分析一下那些卓越人物的人格物质，就会看到他们有一个共同的特点：他们在开始做事前，总是充分相信自己的能力，排除一切艰难险阻，直到胜利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信，创造美好的未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533520"/>
            <a:ext cx="83059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2362320"/>
            <a:ext cx="658008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知己知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百战不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88000" y="5229360"/>
            <a:ext cx="33336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一、了解自己：你自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760" y="159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[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测试题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果认为正确的写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"R"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不真确的写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"W",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两者都差不多或无法辨别的则写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"0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72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(1).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如果遇到不认识的字就立刻向别人请教</a:t>
            </a:r>
            <a:r>
              <a:rPr b="1" lang="zh-CN" sz="3600" spc="-1" strike="noStrike">
                <a:solidFill>
                  <a:srgbClr val="c07200"/>
                </a:solidFill>
                <a:latin typeface="黑体"/>
                <a:ea typeface="黑体"/>
              </a:rPr>
              <a:t>.   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6:22:51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7:50Z</dcterms:modified>
  <cp:revision>14</cp:revision>
  <dc:subject>主题班会课件(分28大类): http://shop62905894.taobao.com</dc:subject>
  <dc:title>主题班会课件(分28大类): http://shop62905894.taobao.com</dc:title>
</cp:coreProperties>
</file>