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EEE-F9A1-4C67-ABC1-87C195D5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01A-0E7D-4B5D-94EA-F10DE6A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BA3-700F-4F6A-B7F7-8F0F0502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4DB-EB7C-47C8-9DFB-07599EEF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87C0-2EA2-4CA4-AD84-75339404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2E14-30F0-465F-989B-13F3020D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0D75-A997-4966-8DD5-5B801C0B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1B34-A444-4820-9069-809A47CB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ACEF-F83C-423A-B935-9EDE27BB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CB64-303D-4E86-8BB0-B0B9F504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79E1-9C33-4B36-8315-544CF7EA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987-5A74-40B2-A322-EB3D2AC8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5E35-27DA-4930-A55F-E8BB9EA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6552-90F2-4719-AE50-449C06D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252E-6BA7-4238-B03A-75DF0AE3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05AE-9A9A-4BF0-A5AB-03B17846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A392-6DD4-4780-BF90-77F2306A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7C7-B139-4D59-B979-A0BE80F7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91F-70E4-45E8-BF24-4A4B89B9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4EC-C710-4413-B5A9-A847F7E0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C4C-D17A-4DAF-AFFF-6E5C6A40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1C4-BC63-4EA5-BCA7-6B4FDBF8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9E2-0373-4D3B-A1C4-43994B05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34A-64DF-4D7C-994C-31007F6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106B-CE2F-4319-B69F-80F5FA223F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ED81-1955-4F1B-AFD9-3CE7819EEC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别对自己说不可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约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康缇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267080" cy="3178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1752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面对命运的安排，承认生命的缺憾，因此果断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放弃那些没有可能的虚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比如跑步。但是，他并不因此降低生命的追求和质量。他一次次地突破着自己，他一次次把不可能变成可能，尽管那些困难看起来似乎难以逾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超越自己、超越梦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0000" y="1676520"/>
            <a:ext cx="4874760" cy="4576680"/>
          </a:xfrm>
          <a:prstGeom prst="rect">
            <a:avLst/>
          </a:prstGeom>
          <a:solidFill>
            <a:srgbClr val="e9e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当圣火第一次点燃是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希望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在跟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当终点已不再永久是心灵在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体会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不在乎等待几多轮回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不在乎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欢笑伴着泪水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超越梦想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一起飞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你我需要真心面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让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生命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回味这一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让岁月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铭记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这一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15328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155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2286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字永远没有现实令人震撼，虽然早有心理准备，可是当这么一个生物出现在你面前，你还是情不自禁惊慌失措——他像是被拦腰斩断，一件Ｔ恤遮住他的全部身体，甚至看不见裤管。他在地上，他的晚餐在地上，他的妻子和儿子坐在他的身边。他抬起眼睛向我们致意，没有放下手中的刀叉，看起来胃口很好。他的上肢异常发达，眼睛炯炯有神，散发着野性和睿智。他的妻子温柔性感，儿子有点像哈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波特。但是，这个可爱的孩子竟然也是重病缠身——大脑发育问题引起的肌肉萎缩，大脑中有个洞，他说自己的目标就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拥有健康，拥有爱，不浪费生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他们三个亲吻在一起，空气中充满了幸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629080" cy="2895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848720" cy="6423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0720" y="3962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每一个“正常人”都可以从约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库缇斯那里获得信心，跟他相比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我们所有的困难算得了什么呢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他以自己为最低点，提醒人们，“只要我能做到的，你一定能做到”。他不是一个神话，只是告诉大家，你可以活得更精彩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果你愿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15680" y="76320"/>
            <a:ext cx="632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你可以活得更精彩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    ——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如果你愿意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600200"/>
            <a:ext cx="777240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生而残疾，我非常幸运，因为我知道我的残疾在哪儿，你们也能看到我的残疾。可是你们呢？每个人都是残疾的，生理的或是心理的，可是人们往往不知道自己的残疾在哪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                                          ——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约翰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康缇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2440" y="1676520"/>
            <a:ext cx="5789160" cy="5334120"/>
          </a:xfrm>
          <a:prstGeom prst="rect">
            <a:avLst/>
          </a:prstGeom>
          <a:solidFill>
            <a:srgbClr val="d4d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谁没有一些刻骨铭心事      谁能预计后果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谁没有一些旧恨心魔        一点点无心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谁没有一些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得不到的梦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谁人负你负我多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谁愿意解释为了什么      一笑已经风云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活得开心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心不记恨 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为今天欢笑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唱首歌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任心胸吸 收新的快乐   在晚风中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敞开心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谁愿记沧桑匆匆往事        谁人是对是错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从没有解释为了什么</a:t>
            </a:r>
            <a:r>
              <a:rPr b="0" lang="zh-CN" sz="3200" spc="-1" strike="noStrike">
                <a:solidFill>
                  <a:srgbClr val="112d4f"/>
                </a:solidFill>
                <a:latin typeface="隶书"/>
                <a:ea typeface="隶书"/>
              </a:rPr>
              <a:t>     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一笑看风云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240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380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Never say: </a:t>
            </a:r>
            <a:r>
              <a:rPr b="1" lang="en-US" sz="7200" spc="-1" strike="noStrike">
                <a:solidFill>
                  <a:srgbClr val="ff3300"/>
                </a:solidFill>
                <a:latin typeface="Monotype Corsiva"/>
              </a:rPr>
              <a:t>you can’t</a:t>
            </a: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Never say die, </a:t>
            </a:r>
            <a:r>
              <a:rPr b="1" lang="en-US" sz="7200" spc="-1" strike="noStrike">
                <a:solidFill>
                  <a:srgbClr val="ff3300"/>
                </a:solidFill>
                <a:latin typeface="Monotype Corsiva"/>
              </a:rPr>
              <a:t>you’re the bes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4876920"/>
            <a:ext cx="632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Monotype Corsiva"/>
              </a:rPr>
              <a:t>You are </a:t>
            </a:r>
            <a:r>
              <a:rPr b="1" lang="en-US" sz="9600" spc="-1" strike="noStrike">
                <a:solidFill>
                  <a:srgbClr val="ff3300"/>
                </a:solidFill>
                <a:latin typeface="Monotype Corsiva"/>
              </a:rPr>
              <a:t>No.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4495680"/>
            <a:ext cx="6172200" cy="0"/>
          </a:xfrm>
          <a:prstGeom prst="line">
            <a:avLst/>
          </a:prstGeom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17524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一个人必须给自己设立目标，并朝着目标不断向前，不要自暴自弃，不要被眼前的困难所吓倒，在还没有采取行动前，不要对自己说“不可能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609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艰难困苦、玉汝于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6095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8120" y="139680"/>
            <a:ext cx="292392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昨天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所有的荣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已变成遥远的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回忆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辛辛苦苦已度过半生 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今夜重又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走进风雨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我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不能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随波浮沉 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为了我挚爱的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亲人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再苦再难也要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坚强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只为那些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期待眼神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心若在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梦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就在 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天地之间还有真爱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看成败人生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豪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只不过是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从头再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26120" y="228600"/>
            <a:ext cx="3625920" cy="525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52880" y="3048120"/>
            <a:ext cx="4038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1600200"/>
            <a:ext cx="7543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因为，我们可以……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的人含着金匙出世，一辈子顺风顺水，轻而易举的拥有一切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的人才疏学浅，却平步青云，飞黄腾达，权倾一时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而有的人穷尽一生，却郁郁不得志，终究是蹉跎岁月，一事无成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一片天空下，命运如此相差万里，有若天壤之别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面对工作、生活中的种种无奈与不公，你是否也会因此而困惑、彷徨？面对这些情形，你是怨天尤人、得过且过？还是忽视艰辛、起而奋进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</a:rPr>
              <a:t>行成于思、毁于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38088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心存善念 感谢苍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676520"/>
            <a:ext cx="54864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990033"/>
                </a:solidFill>
                <a:latin typeface="Times New Roman"/>
              </a:rPr>
              <a:t>如果你觉得不幸，永远有人比你更不幸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990033"/>
                </a:solidFill>
                <a:latin typeface="Times New Roman"/>
              </a:rPr>
              <a:t>如果你觉得自己很成功，永远有人比你更成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97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373392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300480" cy="4953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14400" y="304920"/>
            <a:ext cx="3581280" cy="3502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14400" y="3581280"/>
            <a:ext cx="3657600" cy="300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362320" y="1447920"/>
            <a:ext cx="3655800" cy="516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724280" y="4038480"/>
            <a:ext cx="3810240" cy="2476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248520" y="3048120"/>
            <a:ext cx="2598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2286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约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康缇斯说，他刚生下来时，医生说他活不了一周；过了一周后，医生又说他活不过一个月；过了一个月，医生又说他活不过一年。他上小学时，曾经被调皮的小伙伴扔到垃圾桶点火差点烧死，幸亏被老师救出来。他没有双腿，靠手支撑走路。但同学恶作剧，在他的课桌周围撒满图钉。他一度想自杀，后被父母劝阻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父母爱的力量鼓舞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他以超人的毅力生活、学习，虽然他被确诊患了癌症，但他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始终以积极的心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对人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10080" y="1671480"/>
            <a:ext cx="3238560" cy="2859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90720" y="380880"/>
            <a:ext cx="4952880" cy="6139080"/>
          </a:xfrm>
          <a:prstGeom prst="rect">
            <a:avLst/>
          </a:prstGeom>
          <a:solidFill>
            <a:srgbClr val="d4d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我来自偶然，象一颗尘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有谁看出我的脆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我来自何方，我情归何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谁在下一刻呼唤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天地虽宽，这条路却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难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我看遍这人间坎坷辛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我还有多少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我还有多少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让苍天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我不认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感恩的心，感谢有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伴我一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让我有勇气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做我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感恩的心，感谢命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花开花落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我一样会珍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328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6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228600"/>
            <a:ext cx="5105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他认为，生活中的冠军远比体育中的冠军重要。真正的富有不是银行里存折上数字多少，而是身体的健康、家庭的幸福。一个人必须给自己设立目标，并朝着目标不断向前，不要自暴自弃，不要被眼前的困难所吓倒，在还没有采取行动前，不要对自己说“不可能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有轮椅却从来不坐，而用双手行走。他有残障，却非常热爱体育运动。他曾是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澳大利亚残疾网球赛的冠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全国健康举重比赛的第二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残疾人奥运会冠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尽自己所能去做自己想做的事情，开车出游、健身、游泳、到世界各地演讲，过着和健全人差不多的生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89280" cy="3006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2628720" cy="1760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04920"/>
            <a:ext cx="5105520" cy="6190920"/>
          </a:xfrm>
          <a:prstGeom prst="rect">
            <a:avLst/>
          </a:prstGeom>
          <a:solidFill>
            <a:srgbClr val="e9e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拍拍身上的灰尘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振作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疲惫的精神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远方也许尽是坎坷路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也许是要孤孤单单走一程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早就习惯一个人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少人关心少人问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就算无人为我付青春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至少我还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保留一份真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拍拍身上的灰尘 振作疲惫的精神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远方也许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尽是坎坷路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也许是要孤孤单单走一程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莫笑我是多情种 莫以成败论英雄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人的遭遇本不同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但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豪情壮志在我胸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嘿哟嘿嘿 嘿哟嘿 管那山高水又深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嘿哟嘿嘿 嘿哟嘿 也不能阻挡我奔前程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嘿哟嘿嘿 嘿哟嘿 茫茫未知的旅程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我要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认真面对我的人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180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31428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“约翰．库缇斯正在迅速成为世界上最著名的残疾演讲大师。他的故事能立即驱散你内心的同情的那一面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他没有腿也不依靠轮椅的生活、移动和存在，却形成了世界级的自尊、自信和自立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使我们所有人想到祝福（我们想当然的这样认为）和在我们前面的无限的可能性。我向你推荐，邀请他为你们做演讲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—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畅销书《心灵鸡汤》作者马克．维克托．汉森博士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“约翰拥有惊人的能力，来渗入听众的心达到激励和激发听众。约翰的忠告帮助我们的球员与他们自己和他们内心的魔鬼对抗，这些使他们能够进一步向他们自己挑战和提升他们的事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澳大利亚橄榄球联盟教练韦恩．珀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0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5:31Z</dcterms:modified>
  <cp:revision>1</cp:revision>
  <dc:subject>主题班会课件(分28大类): http://shop62905894.taobao.com</dc:subject>
  <dc:title>主题班会课件(分28大类): http://shop62905894.taobao.com</dc:title>
</cp:coreProperties>
</file>