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118-9141-43B4-9D46-BA96F9B9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137-72DB-427D-8CC1-B9B879C0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1B6-C465-4232-A0FC-BBD339C9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07E-96FE-4B17-8141-3DB27FA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451-8BDB-4981-BF82-1D2F964E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693-1CD8-47DD-B500-3E6F0C5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1E1-EF99-4C36-A18B-55AADE2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749-2F44-47CC-B8C9-5EE35DA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C86-A48A-4EC8-B7F9-4A693EF2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8CC-7C25-4A7B-8546-F0EC2D7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483-008B-4E88-A30B-5696828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6F6-FD33-4966-BC55-FC5F96C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471-7A23-468C-8A9A-2C93E18F6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476280"/>
            <a:ext cx="4608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信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4365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4005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4076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班生活价值教育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35640" y="5300640"/>
            <a:ext cx="2803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8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30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3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 rot="20943600">
            <a:off x="539640" y="907920"/>
            <a:ext cx="6481800" cy="23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作文选读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newsflash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634000">
            <a:off x="-1035720" y="2007360"/>
            <a:ext cx="6553080" cy="253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8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故事集锦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-1242720" y="2114280"/>
            <a:ext cx="615636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班长日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lus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5400000">
            <a:off x="-577440" y="1521360"/>
            <a:ext cx="504036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诗朗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wheel spokes="1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240600"/>
            <a:ext cx="684360" cy="617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8360" y="6291360"/>
            <a:ext cx="755640" cy="56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400800">
            <a:off x="5076720" y="5013360"/>
            <a:ext cx="36673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信念调查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4797360"/>
            <a:ext cx="34128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卷分析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476280"/>
            <a:ext cx="39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作文选读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1280" y="2997360"/>
            <a:ext cx="403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故事集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19640" y="692280"/>
            <a:ext cx="345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朗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 rot="297000">
            <a:off x="4708080" y="2707920"/>
            <a:ext cx="44355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新魏"/>
              </a:rPr>
              <a:t>班长日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新魏"/>
              <a:ea typeface="华文新魏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6093000"/>
            <a:ext cx="12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一、把个人信念与国家、社会建设相结合，立志崇高的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（“天下大同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例：“五星红旗飞扬全球”、“爱”、“为社会多做贡献”、“为国家和社会多做贡献”、“为身边的人”（都是强调奉献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486900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6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66"/>
                </a:solidFill>
                <a:latin typeface="华文新魏"/>
                <a:ea typeface="华文新魏"/>
              </a:rPr>
              <a:t>二、对自身品德修养的目标、期许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目标较远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：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a better man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做好人”、“贵在坚持”、“知识、力量、希望”、“坚持自己原则”、“问心无愧”、“坚信自己，自由而不放纵”、“我有我可以”、“勤能补拙”、“相信自我”、“做一个有用的人”、“做事有度不过分”、“自己争创未来”、“诚信最重要”、“在社会上找到适合自己的位置”、“出人头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rcRect l="0" t="5982" r="0" b="10744"/>
          <a:stretch/>
        </p:blipFill>
        <p:spPr>
          <a:xfrm>
            <a:off x="6372360" y="4581360"/>
            <a:ext cx="192384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华文新魏"/>
                <a:ea typeface="华文新魏"/>
              </a:rPr>
              <a:t>三、确立自身生活态度对未来的生活方式的憧憬。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目标性没有前者明确、立意较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：“过自己想过的生活”、“快乐至高无上”、“人生得意须尽欢”、“快乐地过完一生”、“天天快乐”、“随遇而安”、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Nothing is impossible.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随心所欲”、“开心最重要”、“让自己快乐一点，少给别人制造麻烦”、“相信一切都很美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5373720"/>
            <a:ext cx="1296720" cy="96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7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四、立意较低、近期的目标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（比较狭隘、物质、名利方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例：“当上亿万富翁”、“找个理想的女友”、“考近名牌大学”、“考上理想大学”、“考上医大”、“考进复旦”、“环保局科长再升局长，将环卫局兼并”、“金钱万能”、“财神万岁”、“考大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4724280"/>
            <a:ext cx="1306440" cy="130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6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7138800"/>
            <a:chOff x="0" y="0"/>
            <a:chExt cx="9144000" cy="7138800"/>
          </a:xfrm>
        </p:grpSpPr>
        <p:sp>
          <p:nvSpPr>
            <p:cNvPr id="67" name=""/>
            <p:cNvSpPr/>
            <p:nvPr/>
          </p:nvSpPr>
          <p:spPr>
            <a:xfrm>
              <a:off x="0" y="981000"/>
              <a:ext cx="9144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活着，总得有个信念，不光是为了自己的衣食住行，还要对社会有所贡献。——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张志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5913360"/>
              <a:ext cx="9144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信念是我们一切思想的先行官。——</a:t>
              </a:r>
              <a:r>
                <a:rPr b="0" lang="zh-CN" sz="32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卓别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421000"/>
              <a:ext cx="9144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支配战士行动是信仰，他能够忍受一切艰难、痛苦，痛苦而所决定的是目标。——</a:t>
              </a:r>
              <a:r>
                <a:rPr b="0" lang="zh-CN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巴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3933720"/>
              <a:ext cx="8352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信念这种强烈的精神搜索了光，照亮了道路，虽然凶险的环境在阴影中潜行，我却毫不畏惧地走向“魔林”。——</a:t>
              </a:r>
              <a:r>
                <a:rPr b="0" lang="zh-CN" sz="32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海伦</a:t>
              </a:r>
              <a:r>
                <a:rPr b="0" lang="zh-CN" sz="32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·</a:t>
              </a:r>
              <a:r>
                <a:rPr b="0" lang="zh-CN" sz="32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凯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9144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类的心灵需要信念，甚至需要物质——</a:t>
              </a:r>
              <a:r>
                <a:rPr b="0" lang="zh-CN" sz="3200" spc="-1" strike="noStrike">
                  <a:solidFill>
                    <a:srgbClr val="006699"/>
                  </a:solidFill>
                  <a:latin typeface="Arial"/>
                  <a:ea typeface="楷体_GB2312"/>
                </a:rPr>
                <a:t>雨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4365720"/>
            <a:ext cx="97776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信念是鸟，它在黎明仍然黑暗之际，感受到了光明，唱出了歌。                           ——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华文行楷"/>
              </a:rPr>
              <a:t>泰戈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3657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富贵不能淫，贫贱不能移，威武不能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——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楷体_GB2312"/>
              </a:rPr>
              <a:t>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24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最可怕的敌人，就是没有坚强的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                          ——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罗曼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罗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8428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只有信念使快乐真实。               ——</a:t>
            </a:r>
            <a:r>
              <a:rPr b="0" lang="zh-CN" sz="3200" spc="-1" strike="noStrike">
                <a:solidFill>
                  <a:srgbClr val="66ff66"/>
                </a:solidFill>
                <a:latin typeface="Arial"/>
                <a:ea typeface="华文新魏"/>
              </a:rPr>
              <a:t>蒙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500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身傥未四，仁义尚力行。        ——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rcRect l="58850" t="42781" r="6654" b="0"/>
          <a:stretch/>
        </p:blipFill>
        <p:spPr>
          <a:xfrm>
            <a:off x="4140360" y="5589720"/>
            <a:ext cx="792000" cy="981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没有信念，则就没有名副其实的品行和生命。——</a:t>
            </a:r>
            <a:r>
              <a:rPr b="0" lang="zh-CN" sz="2400" spc="-1" strike="noStrike">
                <a:solidFill>
                  <a:srgbClr val="66ff66"/>
                </a:solidFill>
                <a:latin typeface="Arial"/>
                <a:ea typeface="华文新魏"/>
              </a:rPr>
              <a:t>惠特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勇敢和必胜的信念常使战斗得以结束。—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恩格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人只要有一种信念有所追求，什么都能忍受，什么环境也都能适应。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丁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念的由一种愿望产生的，因为愿意相信才会相信，希望相信才会相信。有一种利益所在才会相信。——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  <a:ea typeface="华文新魏"/>
              </a:rPr>
              <a:t>斯特林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绞死了我，绞不死伟大的共产主义。——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华文新魏"/>
              </a:rPr>
              <a:t>李大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仰是精神的劳动。——</a:t>
            </a:r>
            <a:r>
              <a:rPr b="0" lang="zh-CN" sz="2400" spc="-1" strike="noStrike">
                <a:solidFill>
                  <a:srgbClr val="cc9900"/>
                </a:solidFill>
                <a:latin typeface="Arial"/>
                <a:ea typeface="华文新魏"/>
              </a:rPr>
              <a:t>契柯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勇敢和必胜的信念常使战斗能胜利。——</a:t>
            </a: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新魏"/>
              </a:rPr>
              <a:t>席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念是生活的力量。——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华文新魏"/>
              </a:rPr>
              <a:t>艾尔默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华文新魏"/>
              </a:rPr>
              <a:t>·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华文新魏"/>
              </a:rPr>
              <a:t>英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念是灵魂的抗菌剂。——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华文新魏"/>
              </a:rPr>
              <a:t>惠特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有了坚定的信念，才是活下去。——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华文新魏"/>
              </a:rPr>
              <a:t>泰戈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如果把人民比之为杠杆，信念刚好象是它的“支点”，具备这个恰当的支点，才可能成为一个强有力的人。——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华文新魏"/>
              </a:rPr>
              <a:t>薄一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念最好能由经验和明确的思想来支持。——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信念是人们所必须的，什么也不信的人不会有幸福。——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华文新魏"/>
              </a:rPr>
              <a:t>雨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2852640"/>
            <a:ext cx="1332000" cy="183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9045 -0.597 C -0.89566 -0.54283 -0.89948 -0.51621 -0.89045 -0.4669 C -0.88489 -0.37871 -0.89288 -0.47686 -0.8809 -0.39376 C -0.86962 -0.31528 -0.88993 -0.41366 -0.87135 -0.32408 C -0.86753 -0.30602 -0.85937 -0.27014 -0.85937 -0.27014 C -0.85677 -0.24514 -0.85521 -0.2213 -0.85 -0.197 C -0.85 -0.19607 -0.8467 -0.14885 -0.84514 -0.14306 C -0.84132 -0.12871 -0.83455 -0.11621 -0.8309 -0.10186 C -0.82691 -0.08635 -0.82448 -0.07176 -0.81892 -0.05741 C -0.82465 -0.02709 -0.80694 0.00439 -0.79757 0.03148 C -0.79496 0.03888 -0.79253 0.04606 -0.79045 0.0537 C -0.78941 0.05786 -0.78941 0.06249 -0.78802 0.06643 C -0.775 0.10648 -0.76111 0.14583 -0.74514 0.18402 C -0.74149 0.20277 -0.73333 0.2155 -0.72604 0.23148 C -0.70278 0.2831 -0.73542 0.22013 -0.70937 0.26643 C -0.70746 0.26967 -0.70347 0.28009 -0.7 0.2824 C -0.69861 0.28333 -0.67864 0.29189 -0.67847 0.29189 C -0.67031 0.29745 -0.66354 0.30393 -0.65469 0.30763 C -0.63715 0.30671 -0.61944 0.30856 -0.60226 0.30462 C -0.59983 0.30416 -0.60191 0.29722 -0.6 0.29513 C -0.59739 0.29236 -0.59358 0.29305 -0.59045 0.29189 C -0.57743 0.27453 -0.59635 0.29837 -0.57604 0.27916 C -0.57326 0.27661 -0.57153 0.27245 -0.56892 0.26967 C -0.56354 0.26388 -0.55712 0.26018 -0.55226 0.2537 C -0.5467 0.24629 -0.54219 0.23726 -0.53559 0.23148 C -0.5309 0.22731 -0.52135 0.21874 -0.52135 0.21874 C -0.51406 0.20393 -0.51389 0.19097 -0.50226 0.18078 C -0.49201 0.16249 -0.4809 0.14606 -0.47135 0.12685 C -0.46719 0.11851 -0.45937 0.10138 -0.45937 0.10138 C -0.45608 0.08333 -0.45764 0.08819 -0.45 0.06643 C -0.44705 0.05786 -0.44219 0.05023 -0.44045 0.04097 C -0.43733 0.02523 -0.43906 0.03263 -0.43559 0.01874 C -0.43299 -0.04028 -0.42951 -0.08357 -0.42847 -0.1463 C -0.42743 -0.20649 -0.4276 -0.2669 -0.42604 -0.32709 C -0.42552 -0.34561 -0.40851 -0.37593 -0.40469 -0.39075 C -0.40121 -0.40464 -0.40087 -0.41829 -0.39271 -0.42871 C -0.38542 -0.45348 -0.37344 -0.47362 -0.35937 -0.49237 C -0.35677 -0.50301 -0.35243 -0.50834 -0.34757 -0.5176 C -0.33785 -0.53612 -0.33646 -0.54306 -0.32135 -0.54931 C -0.31892 -0.55139 -0.31632 -0.55325 -0.31424 -0.55579 C -0.28351 -0.59283 -0.31094 -0.57894 -0.25 -0.57477 C -0.23073 -0.57038 -0.2118 -0.56714 -0.19271 -0.56204 C -0.1816 -0.55024 -0.17014 -0.53936 -0.15937 -0.52709 C -0.15174 -0.51852 -0.14167 -0.51274 -0.13559 -0.50186 C -0.12934 -0.49051 -0.12187 -0.47223 -0.11424 -0.46042 C -0.11198 -0.45695 -0.10903 -0.45464 -0.10712 -0.45093 C -0.09167 -0.41991 -0.10677 -0.44237 -0.09514 -0.42246 C -0.09132 -0.41598 -0.0868 -0.41019 -0.08333 -0.40348 C -0.08125 -0.39954 -0.08055 -0.39468 -0.07847 -0.39075 C -0.06319 -0.36251 -0.08021 -0.40811 -0.0618 -0.36204 C -0.05816 -0.35278 -0.05503 -0.34329 -0.05226 -0.33357 C -0.05104 -0.3294 -0.05174 -0.32454 -0.05 -0.32084 C -0.04687 -0.31366 -0.04132 -0.3088 -0.03802 -0.30186 C -0.03646 -0.29862 -0.02517 -0.26783 -0.02135 -0.25741 C -0.01753 -0.24723 -0.01042 -0.23936 -0.00712 -0.22871 C 0.00226 -0.19815 0.01285 -0.16899 0.0191 -0.13681 C 0.01771 -0.11204 0.02413 -0.06482 0.00729 -0.04144 C 0.00469 -0.03102 0.00017 -0.02339 -0.00226 -0.01297 C -0.00156 -0.0088 2.77778E-006 -0.00024 2.77778E-006 -0.00024 E">
                                      <p:cBhvr>
                                        <p:cTn id="34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3:47:46Z</dcterms:created>
  <dc:creator>MC SYSTE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2:16Z</dcterms:modified>
  <cp:revision>45</cp:revision>
  <dc:subject>主题班会课件(分28大类): http://shop62905894.taobao.com</dc:subject>
  <dc:title>主题班会课件(分28大类): http://shop62905894.taobao.com</dc:title>
</cp:coreProperties>
</file>