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glass.wav" ContentType="audio/x-wav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119-B3E0-4DC7-9A57-E9330BA3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4C44-8B2B-4A92-B5F7-EB1C9714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D89-9023-4668-B070-AF48A983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294-C6EC-4E3D-A83B-27B0AA28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B144-33BD-4268-BC5A-5DCC2E53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998C-2652-4944-8714-D617E3E5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A00F-93F1-4175-8931-4C3004BB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C3AC-A381-40F4-A125-8CAAC1FD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AE1F-EB14-4DAA-861C-F6E782A2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79DF-5BAD-41A0-96BA-86B64A9D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6461-DA86-425C-ABC8-8EE22634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DD4-44EB-4350-97F1-AAB0C459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6B2E-5C53-4E47-A073-68172662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1040-1BF0-4C84-BD03-6E6FEA28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288C-9A54-448A-B842-096384F6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A30F-FE6A-4049-8255-2702E4F7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C9AD-3259-49CD-B4C4-0F2D0D7D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648-583B-414F-91AF-180A6CA9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C89-1FD8-4671-8270-19AA43A0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8C4-E1D6-4840-8B9B-12424D29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9BA-59D9-4C2F-A8EC-D0B39B38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B94-9E9A-4B8A-A075-50249D9F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A85-5158-4C09-8288-E976523D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1DB-FD23-427A-9B05-514F3888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8F7F-9E7D-48CD-B4E7-26B1B83661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BF45-880A-413A-92EE-481527E2412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file:///tmp/home/.config/libreoffice/4/user/gallery/glass.wav" TargetMode="External"/><Relationship Id="rId3" Type="http://schemas.microsoft.com/office/2007/relationships/media" Target="file:///tmp/home/.config/libreoffice/4/user/gallery/glass.wav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1066680"/>
            <a:ext cx="7010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ff"/>
                </a:solidFill>
                <a:latin typeface="华文行楷"/>
                <a:ea typeface="华文行楷"/>
              </a:rPr>
              <a:t>积极的自我暗示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ff"/>
                </a:solidFill>
                <a:latin typeface="华文行楷"/>
                <a:ea typeface="华文行楷"/>
              </a:rPr>
              <a:t>自信心的培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ff"/>
                </a:solidFill>
                <a:latin typeface="Times New Roman"/>
              </a:rPr>
              <a:t>讨论：在日常生活中，我们有哪些关于我自我暗示的例子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46400"/>
            <a:ext cx="868680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如：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法轮功痴迷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         “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望梅止渴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66ff"/>
                </a:solidFill>
                <a:latin typeface="华文行楷"/>
                <a:ea typeface="华文行楷"/>
              </a:rPr>
              <a:t>早上照镜子时，告诉自己说：我看上去气色挺好的，很精神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华文行楷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66ff"/>
                </a:solidFill>
                <a:latin typeface="华文行楷"/>
                <a:ea typeface="华文行楷"/>
              </a:rPr>
              <a:t>考试紧张的时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华文行楷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66ff"/>
                </a:solidFill>
                <a:latin typeface="华文行楷"/>
                <a:ea typeface="华文行楷"/>
              </a:rPr>
              <a:t>投篮的时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华文行楷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66ff"/>
                </a:solidFill>
                <a:latin typeface="华文行楷"/>
                <a:ea typeface="华文行楷"/>
              </a:rPr>
              <a:t>情绪低落的时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06440" y="83808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黑体"/>
              </a:rPr>
              <a:t>放松训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黑体"/>
              </a:rPr>
              <a:t>聆听班德瑞的《山涧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66"/>
                </a:solidFill>
                <a:latin typeface="隶书"/>
                <a:ea typeface="隶书"/>
              </a:rPr>
              <a:t>聆听贝多芬的《命运》：赋予我们向上的力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0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45720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通过以上的活动和体验，实际上我们已经初步了解了几种自我暗示的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言语暗示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音乐暗示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想象暗示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66688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ff"/>
                </a:solidFill>
                <a:latin typeface="隶书"/>
                <a:ea typeface="隶书"/>
              </a:rPr>
              <a:t>言语暗示法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0480"/>
            <a:ext cx="7848720" cy="73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ff"/>
                </a:solidFill>
                <a:latin typeface="Times New Roman"/>
              </a:rPr>
              <a:t>如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buClr>
                <a:srgbClr val="99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ff"/>
                </a:solidFill>
                <a:latin typeface="宋体"/>
              </a:rPr>
              <a:t>我一定</a:t>
            </a:r>
            <a:r>
              <a:rPr b="1" lang="zh-CN" sz="9600" spc="-1" strike="noStrike" u="sng">
                <a:solidFill>
                  <a:srgbClr val="ff5050"/>
                </a:solidFill>
                <a:uFillTx/>
                <a:latin typeface="宋体"/>
              </a:rPr>
              <a:t>要</a:t>
            </a:r>
            <a:r>
              <a:rPr b="1" lang="zh-CN" sz="8000" spc="-1" strike="noStrike">
                <a:solidFill>
                  <a:srgbClr val="9900ff"/>
                </a:solidFill>
                <a:latin typeface="宋体"/>
              </a:rPr>
              <a:t>做好！</a:t>
            </a:r>
            <a:r>
              <a:rPr b="1" lang="zh-CN" sz="80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buClr>
                <a:srgbClr val="99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ff"/>
                </a:solidFill>
                <a:latin typeface="宋体"/>
              </a:rPr>
              <a:t>我一定</a:t>
            </a:r>
            <a:r>
              <a:rPr b="1" lang="zh-CN" sz="9600" spc="-1" strike="noStrike" u="sng">
                <a:solidFill>
                  <a:srgbClr val="ff5050"/>
                </a:solidFill>
                <a:uFillTx/>
                <a:latin typeface="宋体"/>
              </a:rPr>
              <a:t>能</a:t>
            </a:r>
            <a:r>
              <a:rPr b="1" lang="zh-CN" sz="8000" spc="-1" strike="noStrike">
                <a:solidFill>
                  <a:srgbClr val="9900ff"/>
                </a:solidFill>
                <a:latin typeface="宋体"/>
              </a:rPr>
              <a:t>做好！</a:t>
            </a:r>
            <a:r>
              <a:rPr b="1" lang="zh-CN" sz="80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注意点：自我暗示的语言要积极、向上，不出现消极、负面的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生活中的例子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419720" cy="3200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666880"/>
            <a:ext cx="34290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4495680"/>
            <a:ext cx="4419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隶书"/>
                <a:ea typeface="隶书"/>
              </a:rPr>
              <a:t>自我暗示的语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隶书"/>
                <a:ea typeface="隶书"/>
              </a:rPr>
              <a:t>正面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4343400"/>
            <a:ext cx="426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隶书"/>
                <a:ea typeface="隶书"/>
              </a:rPr>
              <a:t>自我暗示的语言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隶书"/>
                <a:ea typeface="隶书"/>
              </a:rPr>
              <a:t>现了消极负面的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762120"/>
            <a:ext cx="754380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Times New Roman"/>
              </a:rPr>
              <a:t>积极自我暗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言语暗示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音乐暗示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宋体"/>
              </a:rPr>
              <a:t>漫画暗示法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宋体"/>
              </a:rPr>
              <a:t>想象暗示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宋体"/>
              </a:rPr>
              <a:t>动作暗示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58672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黑体"/>
              </a:rPr>
              <a:t>漫画暗示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心理游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用生动具体的语言对图片上的人物进行肖像描写，可以展开丰富的想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209680"/>
            <a:ext cx="86104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动作暗示法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如提醒自己将动作频率减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以平稳情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人本主义心理学家罗杰斯：人生而具有潜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美国心理学家奥托：即使是爱因斯坦，也只用了大脑总潜能的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10%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搜狐总裁李朝阳：每个人都是巨大的蓄水池，我们所要做的就是如何拧开水龙头，让水流出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《南方周末》上刊登雅典奥委会主度对刘翔的评价：他打破了亚洲人的生理潜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990720"/>
            <a:ext cx="3809880" cy="20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谢谢！</a:t>
            </a:r>
            <a:endParaRPr b="1" lang="en-US" sz="72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828800"/>
            <a:ext cx="8839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思考</a:t>
            </a: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:</a:t>
            </a: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为什么同样一幅肖像，同学们对于她的描写却存在着如此大的差异？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3048120"/>
            <a:ext cx="35053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隶书"/>
                <a:ea typeface="隶书"/>
              </a:rPr>
              <a:t>     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隶书"/>
                <a:ea typeface="隶书"/>
              </a:rPr>
              <a:t>这是一在逃的</a:t>
            </a:r>
            <a:r>
              <a:rPr b="1" lang="zh-CN" sz="2400" spc="-1" strike="noStrike">
                <a:solidFill>
                  <a:srgbClr val="ff5050"/>
                </a:solidFill>
                <a:latin typeface="黑体"/>
                <a:ea typeface="黑体"/>
              </a:rPr>
              <a:t>女杀人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3200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9900ff"/>
                </a:solidFill>
                <a:latin typeface="隶书"/>
                <a:ea typeface="隶书"/>
              </a:rPr>
              <a:t>这是一个</a:t>
            </a: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世界名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304920"/>
          <a:ext cx="320040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20040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943600" y="304920"/>
            <a:ext cx="2438280" cy="2874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44197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启示：不同的文字说明对同学们的心理产生了不同的暗示作用，以致于流露于笔端的文字也是不一样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471024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38680" y="2057400"/>
            <a:ext cx="4114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隶书"/>
                <a:ea typeface="隶书"/>
              </a:rPr>
              <a:t>原图—日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隶书"/>
                <a:ea typeface="隶书"/>
              </a:rPr>
              <a:t>女星藤野小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514600"/>
            <a:ext cx="8839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ff"/>
                </a:solidFill>
                <a:latin typeface="宋体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447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黑体"/>
                <a:ea typeface="黑体"/>
              </a:rPr>
              <a:t>自我暗示就是利用心理语言来暗示自己的方法，如利用自我谈话、音乐、图画等作为自我暗示的心理语言，来控制自我的情绪或行为，从而达到既定的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3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美籍物理学家钱致榕教授，在读初中时是一个调皮捣蛋的问题少年，他所在的学校的校长是一位教育改革家，校方宣布要成立一个荣誉班，荣誉班的学生要经过层层筛选，还要进行心理测试，方可进入。后来钱致榕教授有幸成为该班的一个成员，家长、学校、社会都对这个班级寄以厚望，该班的同学也倍感自豪，从此发奋图强，努力学习，后来大部分人都取得了很大的成就，在母校百年校庆之际，钱致榕教授特地从美国回来看望当年的校长，感谢他慧眼识英雄，伯乐识千里马。没想到校长是这样回答的：当年举办荣誉班只是我进行的一项教育实验，同学们都是随机挑选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66480" y="4730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黑体"/>
                <a:ea typeface="黑体"/>
              </a:rPr>
              <a:t>关于积极自我暗示的故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907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宋体"/>
              </a:rPr>
              <a:t>关于消极自我暗示的故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286000"/>
            <a:ext cx="909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黑体"/>
                <a:ea typeface="黑体"/>
              </a:rPr>
              <a:t>国外有个囚犯，被判了死刑，并告知他将以放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黑体"/>
                <a:ea typeface="黑体"/>
              </a:rPr>
              <a:t>血液的方式处死。行刑时，死囚被带到一间隔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黑体"/>
                <a:ea typeface="黑体"/>
              </a:rPr>
              <a:t>的房间里，捆绑在床上，蒙上眼睛，有人用针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黑体"/>
                <a:ea typeface="黑体"/>
              </a:rPr>
              <a:t>刺入他的手臂（未刺入血管），然后开动床下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黑体"/>
                <a:ea typeface="黑体"/>
              </a:rPr>
              <a:t>滴水器，让他听到“滴答”、“滴答”的滴水声，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黑体"/>
                <a:ea typeface="黑体"/>
              </a:rPr>
              <a:t>他自以为是自己的血液在一滴滴地流出。</a:t>
            </a:r>
            <a:r>
              <a:rPr b="0" lang="zh-CN" sz="2800" spc="-1" strike="noStrike">
                <a:solidFill>
                  <a:srgbClr val="9900ff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9900ff"/>
                </a:solidFill>
                <a:latin typeface="黑体"/>
                <a:ea typeface="黑体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黑体"/>
                <a:ea typeface="黑体"/>
              </a:rPr>
              <a:t>后，死囚的心脏停止了跳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ff"/>
                </a:solidFill>
                <a:latin typeface="Times New Roman"/>
              </a:rPr>
              <a:t>启示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  <a:ea typeface="隶书"/>
              </a:rPr>
              <a:t>积极的自我暗示可能会对我们的身心发展产生积极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隶书"/>
                <a:ea typeface="隶书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  <a:ea typeface="隶书"/>
              </a:rPr>
              <a:t>消极的自我暗示可能会对我们的身心发展产生消极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1:12:41Z</dcterms:created>
  <dc:creator>您的教学资源库【www.ShuLiHua.net】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37:17Z</dcterms:modified>
  <cp:revision>49</cp:revision>
  <dc:subject>主题班会课件(分28大类): http://shop62905894.taobao.com</dc:subject>
  <dc:title>主题班会课件(分28大类): http://shop62905894.taobao.com</dc:title>
</cp:coreProperties>
</file>