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78C-6A23-4CB0-8C49-E7B1AF90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63F-2E69-4761-A10C-8305EFEE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BBC-DDFD-4ECA-9AA2-A86B06DB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6D3-52BD-4F18-A43D-7EE5F2F0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329-D6A8-4719-8541-65C6D4EC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310-0721-4B37-8579-9F6786E0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141-78FD-4411-93C9-C3E77432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552-9741-4A16-8006-96922840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229-2A8A-4D6A-83C3-2B6807CC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005-8171-4769-9115-64277100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757-842A-405F-A3A7-3128DDE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CC2-85FB-464B-8714-65F5C5F0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72D0-66F8-4997-9623-58DD16CB87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960" y="260280"/>
            <a:ext cx="7429320" cy="6408720"/>
            <a:chOff x="1371960" y="260280"/>
            <a:chExt cx="7429320" cy="640872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3708360" y="260280"/>
              <a:ext cx="5092920" cy="64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371960" y="1311840"/>
              <a:ext cx="6883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梦在心中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路在脚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 rot="5400000">
            <a:off x="-1063440" y="2625480"/>
            <a:ext cx="4915080" cy="162576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>
                        <a:alpha val="71372"/>
                      </a:srgbClr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主题班会</a:t>
            </a:r>
            <a:endParaRPr b="1" lang="en-US" sz="96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>
                      <a:alpha val="71372"/>
                    </a:srgbClr>
                  </a:gs>
                </a:gsLst>
                <a:lin ang="81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我的未来不是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你是不是像我在太阳下低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流着汗水默默辛苦的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你是不是像我就算受了冷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也不放弃自己想要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你是不是像我整天忙着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请求一种意想不到的温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你是不是像我曾经茫然失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一次一次徘徊在十字街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因为我不在乎别人怎么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我从来没有忘记我对自己的承诺对爱的执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我知道我的未来不是梦 我认真的度过每一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我的未来不是梦  我的心跟着希望在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我知道）我的未来不是梦 我认真的度过每一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我的未来不是梦  我的心跟着希望在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跟着希望在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655600" y="350640"/>
            <a:ext cx="139932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66"/>
                </a:solidFill>
                <a:latin typeface="Arial"/>
                <a:ea typeface="楷体_GB2312"/>
              </a:rPr>
              <a:t>谢谢观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97720" y="30686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Arial"/>
                <a:ea typeface="楷体_GB2312"/>
              </a:rPr>
              <a:t>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404640"/>
            <a:ext cx="734364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有一个未来的目标，总能让我们欢欣鼓舞，就像飞向火光的灰蛾，甘愿做烈焰的俘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在默默奋斗的日子里，谁能说得清，什么是甜，什么是苦。只知道，确定了就义无返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              ——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楷体_GB2312"/>
              </a:rPr>
              <a:t>《目标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8655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-50041080"/>
            <a:ext cx="45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9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坚持的昨天叫立足，我们应该在昨天就把心坚定下来，为未来立足，确定人生的方向，更为明天的成功打好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坚持的今天叫进取，我们正值梦想缤纷的青春季节，就应该有积极进取之心，以进取赢得成功！进取了，就是对今天的坚持，对青春的坚持，对成功的坚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坚持的明天叫成功，拥有坚持，我们便不会让泪水挡住前面开阔的风景线。便不会在跌倒之后，又沿原路返回。用那坚持而不肯投降的双手打造出的，一定是一方令自己都无法不惊讶的新天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坚持的未来就是成功！      ——《坚持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4651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4500720" cy="70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相信未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                       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食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当蜘蛛网无情地查封了我的炉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当灰烬的余烟叹息着贫困的悲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我依然固执地铺平失望的灰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用美丽的雪花写下：相信未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当我的紫葡萄化为深秋的露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当我的鲜花依偎在别人的情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我依然固执地用凝霜的枯藤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在凄凉的大地上写下：相信未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我要用手指那涌向天边的排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我要用手掌那托住太阳的大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摇曳着曙光那枝温暖漂亮的笔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用孩子的笔体写下：相信未来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974880"/>
            <a:ext cx="4643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我之所以坚定地相信未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是我相信未来人们的眼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她有拨开历史风尘的睫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她有看透岁月篇章的瞳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不管人们对于我们腐烂的皮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那些迷途的惆怅、失败的苦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是寄予感动的热泪、深切的同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还是给以轻蔑的微笑、辛辣的嘲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我坚信人们对于我们的脊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那无数次的探索、迷途、失败和成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一定会给予热情、客观、公正的评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是的，我焦急地等待着他们的评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朋友，坚定地相信未来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相信不屈不挠的努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相信战胜死亡的年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黑体"/>
              </a:rPr>
              <a:t>相信未来、热爱生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23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2299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9200"/>
                            </p:stCondLst>
                            <p:childTnLst>
                              <p:par>
                                <p:cTn id="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80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240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5600"/>
                            </p:stCondLst>
                            <p:childTnLst>
                              <p:par>
                                <p:cTn id="1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1900"/>
                            </p:stCondLst>
                            <p:childTnLst>
                              <p:par>
                                <p:cTn id="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880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5400"/>
                            </p:stCondLst>
                            <p:childTnLst>
                              <p:par>
                                <p:cTn id="1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2000"/>
                            </p:stCondLst>
                            <p:childTnLst>
                              <p:par>
                                <p:cTn id="1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890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150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7500"/>
                            </p:stCondLst>
                            <p:childTnLst>
                              <p:par>
                                <p:cTn id="1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2350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950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3610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4270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496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3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680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63100"/>
                            </p:stCondLst>
                            <p:childTnLst>
                              <p:par>
                                <p:cTn id="2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0600"/>
                            </p:stCondLst>
                            <p:childTnLst>
                              <p:par>
                                <p:cTn id="2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78100"/>
                            </p:stCondLst>
                            <p:childTnLst>
                              <p:par>
                                <p:cTn id="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85300"/>
                            </p:stCondLst>
                            <p:childTnLst>
                              <p:par>
                                <p:cTn id="2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91300"/>
                            </p:stCondLst>
                            <p:childTnLst>
                              <p:par>
                                <p:cTn id="2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96700"/>
                            </p:stCondLst>
                            <p:childTnLst>
                              <p:par>
                                <p:cTn id="2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210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25866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88930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司小四和史小世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司小四和史小世，四月十四日十四时四十上集市，司小四买了四十四斤四两西红柿，史小世买了十四斤四两细蚕丝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司小四要拿四十四斤四两西红柿换史小世十四斤四两细蚕丝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史小世十四斤四两细蚕丝不换司小四四十四斤四两西红柿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司小四说我四十四斤四两西红柿可以增加营养防近视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史小世说我十四斤四两细蚕丝可以织绸织缎又抽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酸枣子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山上住着三老子，山下住着三小子，山腰住着三哥三嫂子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　　山下三小子，找山腰三哥三嫂子，借三斗三升酸枣子，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　　山腰三哥三嫂子，借给山下三小子三斗三升酸枣子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　　山下三小子，又找山上三老子，借三斗三升酸枣子，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　　山上三老子，还没有三斗三升酸枣子，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　　只好到山腰找三哥三嫂子，给山下三小子借了三斗三升酸枣子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　　过年山下三小子打下酸枣子，还了山腰三哥三嫂子，两个三斗三升酸枣子。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33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喇嘛与哑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打南边来了个哑巴，腰里别了个喇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打北边来了个喇嘛，手里提了个獭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提着獭犸的喇嘛要拿獭犸换别着喇叭的哑巴的喇叭；别着喇叭的哑巴不愿拿喇叭换提着獭犸的喇嘛的獭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不知是别着喇叭的哑巴打了提着獭犸的喇嘛一喇叭；还是提着獭犸的喇嘛打了别着喇叭的哑巴一獭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喇嘛回家炖獭犸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哑巴嘀嘀哒哒吹喇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4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山前住着个崔粗腿，山后边住着个崔腿粗，俩人山前来比腿，也不知崔粗腿比崔腿粗的腿粗，还是崔腿粗比崔粗腿的粗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山前住着个严圆眼，山后边住着个严眼圆，俩人山前来比眼，也不知严圆眼比严眼圆的眼圆，还是严眼圆比严圆眼的圆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60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南边来个瘸子，担了一挑子茄子，手里拿着个碟子，地下钉着木头橛子，没留神那橛子绊倒了瘸子，撒了瘸子茄子，砸了瘸子碟子，瘸子爬起来要捡茄子，北边来个醉老爷子，腰里掖着烟袋别子，过来要买瘸子茄子，瘸子不乐意卖给醉老爷子茄子，老爷子一生气抢了瘸子茄子，瘸子拔起橛子，追老爷子，快给瘸子茄子，不给瘸子茄子，招呼手里橛子，猫腰捡茄子拾碟子，老爷子一生气，不给瘸子茄子，拿起烟袋别子，就打瘸子，瘸子拿起橛子砍老爷子，也不知老爷子的烟袋别子打了瘸子茄子，也不知瘸子橛子打了老爷子烟袋别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5:52:05Z</dcterms:created>
  <dc:creator> 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1:27Z</dcterms:modified>
  <cp:revision>26</cp:revision>
  <dc:subject>主题班会课件(分28大类): http://shop62905894.taobao.com</dc:subject>
  <dc:title>主题班会课件(分28大类): http://shop62905894.taobao.com</dc:title>
</cp:coreProperties>
</file>