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gif" ContentType="image/gif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8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F88-C6AF-48F3-A7B5-F24B670B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FF9-1BEB-44F6-AD48-712ED147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DAE-5AD7-4E04-9923-5A5C772D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AA9-E0FA-488C-AE27-47F14F73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DB9-CE86-4E51-A044-2E4872B7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4CA-D915-48F0-A0A7-B26A652E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FB4-E243-4E3E-B4A2-4401128D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829-4DBB-4C18-9574-9DBBF23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A7F-AE31-4F5E-9EDC-F8F81E3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C03-6A78-47E8-92FC-C8B31E5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B8E-D0D2-4E61-8596-EAF1128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46F-B942-46B7-A65B-F203442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E6F-7E66-41AB-A734-7A16638D3A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i.baidu.com/ryuryuryu/album/item/f1a04f3305441eec1a4cffb2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836640"/>
            <a:ext cx="7775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自我、超越自我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292640"/>
            <a:ext cx="46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二（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市桥二中  李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4898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5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45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45440" cy="688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21376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116000" y="189000"/>
            <a:ext cx="6913440" cy="6453000"/>
            <a:chOff x="1116000" y="189000"/>
            <a:chExt cx="6913440" cy="6453000"/>
          </a:xfrm>
        </p:grpSpPr>
        <p:grpSp>
          <p:nvGrpSpPr>
            <p:cNvPr id="79" name=""/>
            <p:cNvGrpSpPr/>
            <p:nvPr/>
          </p:nvGrpSpPr>
          <p:grpSpPr>
            <a:xfrm>
              <a:off x="1116000" y="189000"/>
              <a:ext cx="6913440" cy="6453000"/>
              <a:chOff x="1116000" y="189000"/>
              <a:chExt cx="6913440" cy="6453000"/>
            </a:xfrm>
          </p:grpSpPr>
          <p:sp>
            <p:nvSpPr>
              <p:cNvPr id="80" name=""/>
              <p:cNvSpPr/>
              <p:nvPr/>
            </p:nvSpPr>
            <p:spPr>
              <a:xfrm>
                <a:off x="1818720" y="537840"/>
                <a:ext cx="5624280" cy="56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38280" y="1134720"/>
                <a:ext cx="4335480" cy="439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24000" y="1798560"/>
                <a:ext cx="3163680" cy="305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60120" y="2365560"/>
                <a:ext cx="1891440" cy="1918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16000" y="3348360"/>
                <a:ext cx="691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31040" y="189000"/>
                <a:ext cx="0" cy="64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237040" y="963720"/>
                <a:ext cx="4754160" cy="47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36600" y="886680"/>
                <a:ext cx="4921560" cy="49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952640" y="755640"/>
              <a:ext cx="585720" cy="5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74640" y="537480"/>
              <a:ext cx="585720" cy="5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92000" y="5595480"/>
              <a:ext cx="585720" cy="5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595480"/>
              <a:ext cx="585720" cy="5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900000" y="189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全脑偏好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589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1376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测试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在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，各选出自己感兴趣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选项，然后在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按照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个区域来统计得分，最后在“全脑偏好图”中划出数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12000" y="4581360"/>
            <a:ext cx="2895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28000" y="260280"/>
            <a:ext cx="79704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位学生的全脑偏好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333360"/>
            <a:ext cx="60181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52960" y="-1080"/>
            <a:ext cx="43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协助你认识自我，发展你原本比较不喜欢的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692280"/>
          <a:ext cx="8642160" cy="587844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脑优势的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脑优势的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左上部分大脑的活动（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逻辑能力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进行思考，逻辑思维，注重推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分析和解决一些数学难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仔细阅读一些现代应用题解析，力求理解并寻求不同解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分析一份低分的试卷，找出症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总结本周的情况，说明下周的努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对小组和班中的情况提出自己的看法和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D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右上部分大脑的活动 （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动手能力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视直觉，发掘自我，设计自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布置自己的书桌和宿舍，体现创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闭着双眼想象自己十年以后的生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想一个“疯狂”的点子，有益身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计自己未来的蓝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B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左下部分大脑的活动（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组织能力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检测理论，重视程序，实践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写反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整理学习笔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每天依时作息，不迟到早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看看学生守则，检查自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拟订一份期末考试分段的目标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C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右下部分大脑的活动 （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情感状况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倾听想法，追求和谐，团体互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动和同学亲切交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参加集体活动在小组积极发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课堂上主动回答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帮助同学解决学习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每天听十五分钟抒情音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请你在纸上分析自己的优势与劣势，制定出期末考的学习策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4824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认识自我是为了更好的超越自我。希望同学们能通过这次主题班会认识自己的优势与劣势，找出更好的学习策略迎接我们的期末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6720" y="2708280"/>
            <a:ext cx="381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5000"/>
                  </a:srgbClr>
                </a:solidFill>
                <a:latin typeface="宋体"/>
              </a:rPr>
              <a:t>结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5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505240"/>
            <a:ext cx="9144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332000" y="2924280"/>
            <a:ext cx="4535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思……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351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考后，我学习得很吃力，我无法静下心来学习，不是因为我想玩，而是听不懂，物理和生物跟不上老师的思路觉得很痛苦。题目怎么努力思考还是想不出答案，找不到方向，我甚至想转去读文科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91520" cy="211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做完了数学，又发物理作业，刚写物理，又在发化学，还有……，望着桌上摆满了的教科书、练习册、试卷，真不知道什么时候才能做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860640"/>
            <a:ext cx="8353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初满怀豪情来到新班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能有所进步。现在什么都不一样了。成绩不好都不敢跟父母说实话。伤心！伤心！伤心！每天一声叹息，越来越麻木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1280" y="2636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欣赏小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407664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《小津的困惑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920" y="2565360"/>
            <a:ext cx="853416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为什么每次我的付出与收获总不成正比呢？</a:t>
            </a:r>
            <a:endParaRPr b="0" lang="en-US" sz="4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529272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2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新宋体"/>
              </a:rPr>
              <a:t>    </a:t>
            </a:r>
            <a:r>
              <a:rPr b="1" lang="zh-CN" sz="5400" spc="-1" strike="noStrike">
                <a:solidFill>
                  <a:srgbClr val="ff6600"/>
                </a:solidFill>
                <a:latin typeface="幼圆"/>
                <a:ea typeface="幼圆"/>
              </a:rPr>
              <a:t>困  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00720" y="549360"/>
            <a:ext cx="215892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835280" y="2205000"/>
            <a:ext cx="5257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全脑偏好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727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41:19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6:23Z</dcterms:modified>
  <cp:revision>5</cp:revision>
  <dc:subject>主题班会课件(分28大类): http://shop62905894.taobao.com</dc:subject>
  <dc:title>主题班会课件(分28大类): http://shop62905894.taobao.com</dc:title>
</cp:coreProperties>
</file>