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gif" ContentType="image/gif"/>
  <Override PartName="/ppt/media/image10.jpeg" ContentType="image/jpeg"/>
  <Override PartName="/ppt/media/image6.gif" ContentType="image/gif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256-3F86-4441-A6A7-E0CB6AE1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D81-CCEB-4ED1-8910-9A00753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AFF-AB0F-4678-8750-9DAF1BA9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7CB-9507-4D90-B5F2-E14C2516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12-F581-4BE7-B53C-FA920C1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14B-D1A7-4EC1-B900-0DA5942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E4A-CC06-40D9-8F67-EAF59E68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255-1327-406D-8B9F-F622C3D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3C4-CB0F-4B7B-8B04-3966A74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745-2184-4F8E-BEAE-60AB8FC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F7B-6538-4C76-AFBB-660C203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4F8-BB67-4D98-BCA1-FC04F3F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1699-D5E0-4C19-833C-E39B8ACB0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.baidu.com/i?ct=503316480&amp;z=0&amp;tn=baiduimagedetail&amp;word=%D5%C6%C9%F9qq%B1%ED%C7%E9&amp;in=5305&amp;cl=2&amp;cm=1&amp;sc=0&amp;lm=-1&amp;pn=40&amp;rn=1&amp;di=2596695264&amp;ln=72&amp;fr=" TargetMode="Externa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baidu.com/i?ct=503316480&amp;z=0&amp;tn=baiduimagedetail&amp;word=%D5%C6%C9%F9qq%B1%ED%C7%E9&amp;in=5053&amp;cl=2&amp;cm=1&amp;sc=0&amp;lm=-1&amp;pn=8&amp;rn=1&amp;di=1588677012&amp;ln=72&amp;fr=" TargetMode="External"/><Relationship Id="rId3" Type="http://schemas.openxmlformats.org/officeDocument/2006/relationships/image" Target="../media/image3.gif"/><Relationship Id="rId4" Type="http://schemas.openxmlformats.org/officeDocument/2006/relationships/hyperlink" Target="http://image.baidu.com/i?ct=503316480&amp;z=0&amp;tn=baiduimagedetail&amp;word=%D5%C6%C9%F9qq%B1%ED%C7%E9&amp;in=5053&amp;cl=2&amp;cm=1&amp;sc=0&amp;lm=-1&amp;pn=8&amp;rn=1&amp;di=1588677012&amp;ln=72&amp;fr=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40560;&#30340;&#25104;&#38271;.flv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&#764;%BF%BC%B1%ED%C7%E9&#892;&#428;&amp;in=30084&amp;cl=2&amp;cm=1&amp;sc=0&amp;lm=-1&amp;pn=3&amp;rn=1&amp;di=226852112&amp;ln=290&amp;fr=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.baidu.com/i?ct=503316480&amp;z=0&amp;tn=baiduimagedetail&amp;word=&#764;%BF%BC%B1%ED%C7%E9&#892;&#428;&amp;in=11788&amp;cl=2&amp;cm=1&amp;sc=0&amp;lm=-1&amp;pn=69&amp;rn=1&amp;di=1280761208&amp;ln=290&amp;fr=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.baidu.com/i?ct=503316480&amp;z=0&amp;tn=baiduimagedetail&amp;word=&#764;%BF%BC%B1%ED%C7%E9&#892;&#428;&amp;in=15718&amp;cl=2&amp;cm=1&amp;sc=0&amp;lm=-1&amp;pn=0&amp;rn=1&amp;di=1089145736&amp;ln=290&amp;fr=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371600"/>
            <a:ext cx="64008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每天进步一点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蝴蝶效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洛伦兹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orenz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华盛顿的美国科学促进会的一次讲演中提出：一只蝴蝶在巴西扇动翅膀，有可能会在美国的德克萨斯引起一场龙卷风。其原因在于：蝴蝶翅膀的运动，导致其身边的空气系统发生变化，并引起微弱气流的产生，而微弱气流的产生又会引起它四周空气或其他系统产生相应的变化，由此引起连锁反应，最终导致其他系统的极大变化。他的演讲和结论给人们留下了极其深刻的印象。从此以后，所谓“蝴蝶效应”之说就不胫而走，名声远扬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西方童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失了一颗铁钉，丢了一只马蹄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丢了一只马蹄铁，折了一匹战马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折了一匹战马，损了一位将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损了一位将军，输了一场战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输了一场战争，亡了一个帝国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历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《礼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经解》中：‘君子慎始，差若毫厘，缪以千里’”的哲学思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子的名言——“合抱之木，生于毫末；九层之台，起于累土；千里之行，始于足下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一个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28800"/>
            <a:ext cx="8686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成功就是每天进步一点点”！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游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抢凳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具：凳子（若干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加人员安排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或多人参加（其中一人为喊话员不参加比赛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戏规则：游戏开始先把凳子摆成圆形（按参加人数减一计算，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），然后，参加人员在凳子外面围成一圈，主持人放音乐时参加人员就沿着圆形顺时针跑动（注意不能插队），当音乐停下时参加人员要讯速找到一张凳子座下，因为凳子少一张，所以会有一人没凳子坐，这个人就算是被淘汰了，这时要把凳子减少一张，其余的人继续玩，直到剩下最后一人为止，这人就算赢了。赢的人给予奖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超越自己，向自己挑战，向弱项挑战，向懒惰挑战，向陋习挑战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12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1981080"/>
            <a:ext cx="1000080" cy="105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3352680"/>
            <a:ext cx="1000080" cy="10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696080" y="4724280"/>
            <a:ext cx="100008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7467480" y="533520"/>
            <a:ext cx="1000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352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鹰的成长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1371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成功需要不断的尝试，是诸多因素几何的叠加。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小鹰给了我们什么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步登天做不到，但一步一个脚印能做到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鸣惊人做不到，但铆足一股劲做好一件事能做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下成为天才做不到，但每天进步一点点能做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65530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：在平时的学习生活中有哪些因素阻碍着成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192480"/>
            <a:ext cx="3695760" cy="3665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1600200"/>
            <a:ext cx="8839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72000"/>
                  </a:srgbClr>
                </a:solidFill>
                <a:latin typeface="宋体"/>
              </a:rPr>
              <a:t> 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72000"/>
                  </a:srgbClr>
                </a:solidFill>
                <a:latin typeface="宋体"/>
              </a:rPr>
              <a:t>如何克服这些不良因素，从而获得成功呢？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72000"/>
                </a:srgbClr>
              </a:solidFill>
              <a:latin typeface="宋体"/>
              <a:ea typeface="宋体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学智力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题目：荷塘里有一片荷叶，它每天会增长一倍。假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会长满整个荷塘，请问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，荷塘里有多少荷叶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114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47560" y="1066320"/>
            <a:ext cx="693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要从后往前推，即有四分之一荷塘的荷叶。这时，如果站在荷塘的对岸，也会发现荷叶是那样的少，似乎只有那么一点点，但是，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就会占满一半，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就会长满整个荷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91440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一点点”是一个什么概念？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2:30Z</dcterms:modified>
  <cp:revision>1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