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4FE8-1A65-46F6-9AB0-DBC9B6B3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4E19-3473-4E47-B492-B2ECB70C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E25E-2E78-49E5-86DA-97CA0040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D3A4-4CD5-4BED-B1E7-62637C8C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ADF-DBE7-405D-9B8D-B8F22B09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0EED-5C2C-4186-91AD-CA4DE7A6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378-1594-4593-A0C9-C6457393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88C2-1564-411E-BCDE-7A016BEE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752-20E0-478C-80B0-0E96BDE4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346-3CA9-4D71-A953-1F137C0D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F21F-F136-4A36-B0DD-B3667EC6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39F6-D126-4F6A-9460-AF154FFD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C432-240B-4ED7-B913-A9AC47A208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152388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隶书"/>
              </a:rPr>
              <a:t>贵在坚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74320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隶书"/>
              </a:rPr>
              <a:t>难在坚持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388620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隶书"/>
              </a:rPr>
              <a:t>成在坚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380880"/>
            <a:ext cx="5943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主题班会：坚持就是胜利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219320" y="1295280"/>
            <a:ext cx="685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只新组装好的小钟放在两只旧钟当中。两只旧钟“滴答”、“滴答”一分一秒地走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中一只旧钟对新组装好的小钟说：“来吧，你也该工作了。不过我有点担心，担心你走完三千二百　万次以后，恐怕就会吃不消了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“天呐！三千二百万次！” 新组装好的小钟吃惊不已。“让我做这么多的事？办不到，办不到！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19320" y="129528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另一只旧钟说：“别听他胡说八道。不用害怕，你只需每秒钟滴答一次、摆一下就行了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“天下哪有这样简单的事情！” 新组装好的小钟将信将疑。“如果是这样，那我就试试吧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于是，新组装好的小钟每秒钟滴答摆一下，感觉很轻松。不知不觉的，一年过去了，它摆了三千二百万次。它没有吃不消，依旧滴答滴答地摆着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43000" y="205740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每个人都希望梦想成真，可是成功却似乎远在天边遥不可及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倦怠和不自信让我们怀疑自己的能力，放弃努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。其实，我们用不着先去思考以后的事——一个月、甚至一年以后的事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我们只要想着今天我该做些什么、明天我该做些什么，然后努力去完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，就像那只钟一样，每秒“滴答”摆一下，成功的喜悦就会慢慢浸润我们的生命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90720" y="2057400"/>
            <a:ext cx="7696080" cy="39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什么叫做不简单？把简单的事情千百遍都做好，就是不简单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什么叫做不容易？把大家都认为非常容易的事情非常认真的去做好它，就是不容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方正舒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914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华文隶书"/>
                <a:ea typeface="华文隶书"/>
              </a:rPr>
              <a:t>海尔集团</a:t>
            </a:r>
            <a:r>
              <a:rPr b="0" lang="zh-CN" sz="3600" spc="-1" strike="noStrike">
                <a:solidFill>
                  <a:srgbClr val="333399"/>
                </a:solidFill>
                <a:latin typeface="华文隶书"/>
                <a:ea typeface="华文隶书"/>
              </a:rPr>
              <a:t>CEO</a:t>
            </a:r>
            <a:r>
              <a:rPr b="0" lang="zh-CN" sz="3600" spc="-1" strike="noStrike">
                <a:solidFill>
                  <a:srgbClr val="333399"/>
                </a:solidFill>
                <a:latin typeface="华文隶书"/>
                <a:ea typeface="华文隶书"/>
              </a:rPr>
              <a:t>张瑞敏如是说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484880" y="1905120"/>
            <a:ext cx="2649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天下大事必做于细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0080" y="1905120"/>
            <a:ext cx="1003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天下难事必成于易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32200" y="2971800"/>
            <a:ext cx="12776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华文隶书"/>
              </a:rPr>
              <a:t>——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华文隶书"/>
              </a:rPr>
              <a:t>老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107442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743200" y="0"/>
            <a:ext cx="373392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同学们请牢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137160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业精于勤荒于嬉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5146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行成于思毁于随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403848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be0e3"/>
                </a:solidFill>
                <a:latin typeface="Arial"/>
                <a:ea typeface="华文隶书"/>
              </a:rPr>
              <a:t>——</a:t>
            </a:r>
            <a:r>
              <a:rPr b="0" lang="zh-CN" sz="4800" spc="-1" strike="noStrike">
                <a:solidFill>
                  <a:srgbClr val="bbe0e3"/>
                </a:solidFill>
                <a:latin typeface="Arial"/>
                <a:ea typeface="华文隶书"/>
              </a:rPr>
              <a:t>韩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505320" y="152388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隶书"/>
              </a:rPr>
              <a:t>贵在坚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274320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隶书"/>
              </a:rPr>
              <a:t>难在坚持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388620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隶书"/>
              </a:rPr>
              <a:t>成在坚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2286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华文行楷"/>
              </a:rPr>
              <a:t>坚持就是胜利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76520" y="1600200"/>
            <a:ext cx="5715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琥珀"/>
              </a:rPr>
              <a:t>成功就在于“再坚持一下”的努力之中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5400000">
            <a:off x="1942560" y="2019240"/>
            <a:ext cx="6324480" cy="2895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谈谈我们的班级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9" name=""/>
          <p:cNvSpPr/>
          <p:nvPr/>
        </p:nvSpPr>
        <p:spPr>
          <a:xfrm>
            <a:off x="1726200" y="4114800"/>
            <a:ext cx="1155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班主任相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66680" y="259092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与高一相比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3886200"/>
            <a:ext cx="74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cc"/>
                </a:solidFill>
                <a:latin typeface="Arial"/>
                <a:ea typeface="华文行楷"/>
              </a:rPr>
              <a:t>我们进步很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114300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为什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42900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51460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9900"/>
                </a:solidFill>
                <a:latin typeface="Arial"/>
                <a:ea typeface="华文行楷"/>
              </a:rPr>
              <a:t>我们坚持不住了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95280" y="642960"/>
            <a:ext cx="678204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1984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，在东京国际马拉松邀请赛中，名不见经传的日本选手山田本一出人意料夺得了世界冠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当记者问他凭什么取得如此惊人的成绩时，他笑了笑：“凭智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战胜对手！”大家疑惑了，哪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马拉松靠智慧而不是靠体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和耐力取得胜利的。两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后，意大利国际马拉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邀请赛在米兰举行，山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本一又一次代表日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夺得了冠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71600" y="762120"/>
            <a:ext cx="6095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后，山田本一保持不败的这个谜终于在他的自传中解开。其实，每次比赛前，他都要乘车把比赛路线仔细看一遍，并将沿途比较醒目的标志画下来。比如，第一个是……一直画到赛程的终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比赛开始后，他就以百米赛跑的速度奋力向第一个目标冲去，到达后又重新修整自己，以同样的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度冲向另一个目标。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多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里的赛程就被他分解成多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小目标轻松地跑完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3880" cy="6853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47920" y="1676520"/>
            <a:ext cx="6476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舒体"/>
              </a:rPr>
              <a:t>其实，许多参赛者不是被自己的体力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方正舒体"/>
              </a:rPr>
              <a:t>累倒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舒体"/>
              </a:rPr>
              <a:t>的，而往往是被那段遥远的路程给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方正舒体"/>
              </a:rPr>
              <a:t>吓倒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舒体"/>
              </a:rPr>
              <a:t>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3880" cy="6853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66680" y="13716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993366"/>
                </a:solidFill>
                <a:latin typeface="Arial"/>
                <a:ea typeface="华文行楷"/>
              </a:rPr>
              <a:t>人生何尝不像的一场马拉松？同样有着远大的理想目标，为什么有的人一事无成，有的人能够走出一条漂亮成功的人生路呢？这关键在于目标的量化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00200" y="251460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华文行楷"/>
              </a:rPr>
              <a:t>每秒钟摆一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42:57Z</dcterms:modified>
  <cp:revision>12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