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209-77E1-4A6D-825C-B9CB482D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8B3-9C4B-431C-AB52-C541936A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541-E7D8-444B-B638-5C3033B1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E67-1735-40AF-9EC3-4F8C616C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210-AA41-497D-90DE-5CAC1E0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8B4-B7FE-4013-A75B-2E2EF007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7F1-83FA-40C5-BEAF-6700AF8D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53C-0A23-4D91-A867-E750F08A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716-5703-404C-92B4-00D0C03E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BBF-2593-45D3-8974-22F43B4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1E5-8A1C-44AF-832B-06EB8681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7CB-AF10-4FC4-8A11-703D7510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6195-7D1B-4570-BA0A-D4ECCC421C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iaodong.net/news/system/2009/09/11/010630084.s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书山有路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勤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斑马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800520"/>
            <a:ext cx="4608720" cy="3057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95280" y="1341360"/>
            <a:ext cx="4032360" cy="3027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429680" cy="5249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38400" y="120492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纹丝不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4819680" cy="48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64000" y="2743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站如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100240"/>
            <a:ext cx="4500720" cy="431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22660" b="0"/>
          <a:stretch/>
        </p:blipFill>
        <p:spPr>
          <a:xfrm>
            <a:off x="395280" y="189000"/>
            <a:ext cx="4680000" cy="4491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197400" cy="4647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557760" cy="466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610400" cy="583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01080" cy="540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871560"/>
            <a:ext cx="7559640" cy="5594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空中雄鹰、陆地猛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排山倒海、压倒一切的阵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让人民看了放心，敌人看后害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2436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33640" y="-376200"/>
            <a:ext cx="5076720" cy="761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吼如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764240" cy="488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48440" y="1011240"/>
            <a:ext cx="3895560" cy="5846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1528920"/>
            <a:ext cx="6529680" cy="4341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938160"/>
            <a:ext cx="7993080" cy="5316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47960" y="-380880"/>
            <a:ext cx="5248080" cy="761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841320"/>
            <a:ext cx="8064360" cy="536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89000" y="-12600"/>
            <a:ext cx="4488120" cy="675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01000" cy="5268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944880" y="2955960"/>
            <a:ext cx="5199120" cy="3902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4505400" cy="6191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43040" y="576360"/>
            <a:ext cx="4057920" cy="570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1280" y="1090440"/>
            <a:ext cx="7129440" cy="5261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1960" y="1519200"/>
            <a:ext cx="7105680" cy="4748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038480" cy="570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43280" y="907920"/>
            <a:ext cx="4038840" cy="570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14680" y="-380880"/>
            <a:ext cx="5715000" cy="7619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192720" cy="607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眼一睁，训到熄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“两眼一睁，训到熄灯”是受阅训练的真实写照。阅兵训练并非美差，从早到晚，除了吃饭、睡觉、上厕所，就是训 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的才能不是天生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靠坚持不懈的努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靠勤奋换来的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因斯坦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们把我的成功，归因于我的天才；其实我的天才只是刻苦罢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勤能补拙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-1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郑板桥读书百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郑板桥是清代“扬州八怪”之一。他天资并不聪明，记忆力也不好。但勤能补拙，他就在“勤”字上下功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：一本书，别人只需看一、二遍，就可以记住，但郑板桥不行。于是，他就多读几遍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些经典的书籍，他还会读上百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直到融会贯通，彻底弄懂才肯罢休。他不仅勤于读书，还勤于思考和勤于练习。他常常眼望天空，一动不动地发呆，别人跟他说话，他的回答也常常是答非所问，或前言不对后语，其实他是在专注地思考问题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正由于他勤奋努力，终于成为清代著名的画家、书法家和诗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勤能补拙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-2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口吃的演说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希腊有一个叫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德摩梯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演说家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时口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登台演讲时，声音浑浊，发音不准，常常被雄辩的对手所压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是，他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毫不气馁，为克服这个弱点，战胜雄辩的对手，他每天口含石子，面对大海朗诵，不管春夏秋冬，雨雪风霜，坚持五十年如一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终于成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全希腊最有名气的演说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勤能补拙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-3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梅兰芳眉目流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轻时代的梅兰芳学戏，师傅说他生就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双死鱼眼，灰暗，呆滞，不灵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拒不收留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天资的欠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没有使梅兰芳灰心，反而使他更加勤奋。他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喂鸽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每天仰望长空，双眼紧随着飞翔的鸽子，穷追不舍；他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养金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每天俯视水底，双眼紧随着遨游的金鱼，寻踪觅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来，梅兰芳那双眼睛变得如一汪清水，闪闪生辉，脉脉含情，终于成了著名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京剧大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勤能补拙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-4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常受嘲笑的爱迪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闻名的大发明家爱迪生，上小学的时候，他在课堂上沉浸在冥想中，有时甚至在课堂上搞起实验来，还尽提些大人看来都是荒唐可笑的问题。因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受到老师的、同学的嘲笑，受到父亲的呵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被称为“智力低下的人”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只上了三个月的学就被迫辍学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但他并不因此而丧失信心；而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顽强的意志勤奋学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最后，终于成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举世闻名的大发明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古代勤学典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囊萤映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凿壁偷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映月读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焚膏继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271080"/>
            <a:ext cx="82090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-1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曾国藩之大本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760" y="1628640"/>
            <a:ext cx="86979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曾国藩是中国历史上最有影响的人物之一，但是他却并不聪明。小时候，有一天夜里在家读书，对一篇文章重复不知道多少遍了，还在朗读，因为他还没有背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时候他家来了一个贼，潜伏在屋檐下，希望等他睡觉之后捞点好处。可是等啊等，就是不见他睡觉，还是翻来覆去地读那篇文章。贼人大怒，跳出来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种水平读什么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后将那文章背诵一遍，扬长而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1280" y="1484280"/>
            <a:ext cx="8893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贼人是很聪明，至少比曾国藩要聪，但是他只能成为贼，而曾国藩却成为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毛泽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主席都钦佩的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近代最有大本大源的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勤能补拙是良训，一分辛苦一分才。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贼的记忆力真好，听过几遍的文章就能背下来，而且很勇敢，见别人不睡觉居然可以跳出来“大怒”，教训曾国藩之后，还要背书，扬长而去。但是遗憾的是，他的天赋没有加上勤奋，变得不知所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曾国藩之大本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-2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鲁迅勤于笔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鲁迅在他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生涯中，写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杂文集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小说，新旧体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首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通讯集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卷日记，还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卷译著，一生著译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哪里有什么天才，我是把别人喝咖啡的功夫，都用在了工作上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—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鲁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4963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晋代著名书法家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王献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字，用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缸水，终于成为一代书法大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-3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王献之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缸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-4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李时珍上千万笔记与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李时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花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功夫，读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种书籍，写了上千万字笔记，游历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省，收集了成千上万个单方，为了了解一些草药的解毒效果，吞服了一些剧烈的毒药，最后写成了中国医药学的辉煌巨著——《本草纲目》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610400" cy="4829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-5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草圣”书法家怀素的狂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4467240" cy="4960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-5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笔冢”的由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41444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唐代书法家怀素以草书著称于世，人称“草圣”。他的草书，气势雄浑豪放有“骤雨狂风”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幼年为僧，寺院附近种值有一万多株芭蕉，每日摘采蕉叶练字。蕉叶用完了就用浅色漆盘和方木板练字，写满字迹后，擦掉再练。久而久之，竟把漆盘和木板磨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寺院的墙壁上，家具上，连僧人做袈裟的布上都写满了字。他每日勤奋刻苦练字，用秃了许多毛笔，堆集起来埋在山下，名曰“笔冢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1944720" cy="27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-6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书圣”王羲之《兰亭集序》书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753000" y="-762120"/>
            <a:ext cx="5391000" cy="7620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墨池”的由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川之城东，有地隐然而高，以临于溪，曰新城。新城之上，有池洼然而方以长，曰王羲之之墨池者，荀伯子《临川记》云也。羲之尝慕张芝，临池学书，池水尽黑。——曾巩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墨池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-7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哥德巴赫猜想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学家陈景润，为了攻克，坚持每天清晨三点起床学外语，每天去图书室，沉浸在数学符号的海洋中，有几次，因没听管理员的“闭馆”的叫喊而被反锁在图书馆中，但他毫不介意，仍不倦地回到书堆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51960" y="2708280"/>
            <a:ext cx="624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陈翠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2009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年高考总分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620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分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现就读于南方医科大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天道酬勤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-8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2009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届高三毕业生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陈翠芳学习计划笔记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5280" y="349200"/>
            <a:ext cx="8137440" cy="6104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95280" y="36828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610400" cy="4838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08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们要在哪些方面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勤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04120" y="1773360"/>
            <a:ext cx="46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首先要保持足够的学习时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11120" y="2637000"/>
            <a:ext cx="50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要有每天的学习计划和学习行事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36160" y="3363840"/>
            <a:ext cx="45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要持之以恒，并保持良好状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67160" y="4149720"/>
            <a:ext cx="34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要有积极乐观的心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勤奋也要讲究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朱熹的读书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读书要细心体会，切不可粗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未见道理时，正好像被几重东西包裹在里面，没办法看到，须今日去一重，又见得一重，明日又去一重，又见得一重。去尽皮，方见肉；去尽肉，方见骨；去尽骨，方见髓。他读书的方法是：初读时，把有体会的地方用红笔抹出；再读时，又把有体会的地方用青笔抹出；以后又用黄笔抹出，三四番后，又用黑笔抹出，目的是“渐渐向里寻到精深处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马克思的读书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克思一生博览群书，学识渊博而精深。他虽然记忆力惊人，对读过的书能记得异常深刻准确，但他读书时总要作笔记。为写作《资本论》，马克思研究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书籍，光笔记就写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本。马克思的笔记不少是自己制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常的做法是将一叠白纸一折为二，然后居中间缝上一道线。在原封面上写明做笔记的时间和地点，编上笔记的序号，有的还加上标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笔记记得密密麻麻，旁边留出的空白处有用铅笔、钢笔作的粗细实线、虚线，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X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“＋”等各种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了查阅方便，马克思还对许多笔记编制了目录和内容提要，然后放到特定的地方，需要时不用翻找，随手就能抽出来。同时马克思还在书上直接作笔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名人智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逆水行舟用力撑，一篙松劲退千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董必武《题赠〈中学生〉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业精于勤，荒于嬉；行成于思毁于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唐•韩愈《进学解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惰性当仇敌。——恽代英《致宗白华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才能一旦让赖惰支配，它就一无可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[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]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克雷洛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才就是无止境刻苦勤奋的能力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卡莱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勤奋是幸福之母。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[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美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]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富兰克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书山有路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勤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620120" cy="475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英姿留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610400" cy="458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阅兵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24000" y="1844640"/>
            <a:ext cx="3905280" cy="390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4:43:01Z</dcterms:created>
  <dc:creator>雨林木风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9:56Z</dcterms:modified>
  <cp:revision>14</cp:revision>
  <dc:subject>主题班会课件(分28大类): http://shop62905894.taobao.com</dc:subject>
  <dc:title>主题班会课件(分28大类): http://shop62905894.taobao.com</dc:title>
</cp:coreProperties>
</file>