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146-9211-4035-A013-058C8B6C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01B-6B11-4C67-A8DF-50D41A6A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E48-D0E6-43B0-BD32-DFB71B1C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144-8692-4D37-8DEE-0E410FA1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BBA-19F0-49F6-AB9E-B837B46E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B91-9E55-44AE-A5E0-470937D5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4E4-49E5-4784-8650-25E20260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20B-4D77-4824-BFA4-339A119B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BE5-2CE1-4EB2-9A31-309DD4F1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D97-BD11-4786-9C79-00D85B6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93E-F819-494F-9AD6-ABBDD215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A1E-44AD-4948-AAB9-9B6D38A0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A7DF-2B5A-45E7-9095-687B21DB9E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1484280"/>
            <a:ext cx="756108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班会主题——谈毅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89000"/>
            <a:ext cx="6481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顾安平今年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月被推选为湖南路街道盲协主席。提起他现在的社会身份，小顾立刻来了精神，他告诉我们，残疾人的自尊心很强，特别是盲人，他们比其他肢残者更加不善于与人沟通，感谢区残联和湖南街道对盲协工作的全力支持，为他们提供了活动的场地和设施，在每次活动时派专人负责接送，帮助社区里的盲人残疾者走出家门，融入社区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1720" y="765000"/>
            <a:ext cx="2313000" cy="36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5051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今年他率领盲协会员顺利通过了上海市残疾人运动 会黑白棋项目选赛初赛，目前正在备战市总决赛。他还协助残联做好湖南街道盲人定向行走的推广工作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3095640" cy="424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549360"/>
            <a:ext cx="619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面对如此繁忙的社会事务，小顾认为，政府和社会方方面面对残疾人很关心，不仅要在就业培训上帮助他们提高自身素质，更要培育他们自立的精神，使他们的努力获得社会的肯定，实现他们的自身价值，这也是今后残疾人工作应该考虑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2543040" cy="388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3970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看着他热情洋溢的脸，感受到他的感染力，这是一个乐观向上的人，一个充满生命活力的人，一个愿意奉献社会的人，一个生命的强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498840" cy="478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2111400"/>
            <a:ext cx="5184720" cy="398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195640" y="981000"/>
            <a:ext cx="65736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文鼎中特广告体"/>
              </a:rPr>
              <a:t>走进哈佛大学的盲人学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文鼎中特广告体"/>
              <a:ea typeface="文鼎中特广告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84720" y="3133800"/>
            <a:ext cx="2735280" cy="2247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6624720" cy="6624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897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人与人之间，弱者与强者之间，大人物与小人物之间，最大的差异就在于意志的力量，即所向无敌的决心，具备了这种品质，你就能做成在这个世界上能做的任何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549360"/>
            <a:ext cx="2808360" cy="331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6227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杨佳从一个人人敬慕的大学教授，变成一个堕入无边黑暗的盲人，从一个拥有幸福家庭的知识女性，变成一个被丈夫弃离的孤独女子，上天对她可谓仁慈而残酷。但是，杨佳没有在这灾难和挫折面前倒下，没有灰心，而是用自己的行动发出了不屈的呐喊，与命运进行了顽强的抗争。疾病可以夺走她的双眼，不让她看书，但是她还有耳朵，还有双手，于是她用耳朵听书，用双手写书，还坚持站在大学讲台上教书。杨佳不愧是生命的强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flipH="1">
            <a:off x="6764400" y="189000"/>
            <a:ext cx="2363760" cy="287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6012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其实，每个人踏上人生的旅途之后，都会遇到风风雨雨。人的一生不可能永远都是阳光。尽管我们一般人不会遇到像杨佳那样大的灾难和打击，但是失败和坎坷总是随时和人同行的。关键在于面对失败，面对坎坷，我们是否能挺起胸膛迎上去，不仅要战胜它，而且把它当作自己的一种感受磨难的经历，一种精神财富，把命运牢牢掌握在自己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33960" y="476280"/>
            <a:ext cx="2997360" cy="3889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549000"/>
            <a:ext cx="53276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面对挫折和失败，如果我们能够像杨佳那样，自信自强，不自卑自弃，相信这世上就没有闯不过去的火焰山。愿杨佳的精神能给拼搏中的同学们以力量和鞭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289560" y="3500280"/>
            <a:ext cx="2454480" cy="2592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引言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0908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生活的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花朵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只有付出了劳力才会绽开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幼圆"/>
              </a:rPr>
              <a:t>（法国）——巴尔扎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7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7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早慧的天之骄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43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那是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前的初秋。地处中原枢纽地区的郑州大学，迎来了恢复高考后的第二批大学生。那时候，中文系和英语系的同学住在一栋楼上，相处一段时间后，我们中文系的学生都知道，英语系有一个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岁才上高一就考上大学的小妹妹，她就是来自湖南长沙的小姑娘杨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4400" y="1413000"/>
            <a:ext cx="2739960" cy="3354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608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这个聪明又勤奋的小姑娘，上大四的时候，她因成绩拔尖提前半年毕业留校，两年后她考上了社会科学院的研究生，来到了北京，在这里又以优异成绩留校。教硕士，教博士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岁的时候，当上了学院最年轻的大学讲师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岁的时候，被评为学院当时最年轻的副教授。事业成功了，爱情也翩翩而至，同样一位成功的男士走到了杨佳身边。少年得意，青年得志，爱情事业双丰收的杨佳，谁也不会怀疑，她是上天格外垂青的宠儿，她人生的道路是阳光和鲜花铺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609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黑暗降临的时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52563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说不清是从哪一天开始，杨佳觉得自己的视力有点不行了，先是上课时读课文读错行，继而又掉行，本以为是近视加重，没有当回事儿。后来在课堂上讲课时，听到下面叽叽喳喳的声音，猛然发现自己只读了半页纸便掀了下一页，就这还是没当回事，以为换副眼镜便可以解决问题了。最后还是她有次去图书馆翻目录的时候，翻了半天也找不到要找的东西，这才感到事情有点严重了。到医院进行检查，医生的诊断书出来了，黄斑变性，失明将不可逆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84720" y="685800"/>
            <a:ext cx="2843280" cy="2511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594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杨佳从医院回来没有声张，她仍面带笑容去上课、开会，到图书馆借书。但是，当新办的借阅证递到手上，看着自己模模糊糊的照片，她的心像一下掉进了无底深渊里，禁不住泪如雨下。而就在这个时候，另一个残酷的打击也接踵而至，她的婚姻随着阳光和色彩在她的眼前一起溃散，丈夫提出离婚，并带着她惟一的孩子不知所踪，孤独的灵魂掉进了无边的黑暗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88000" y="3817800"/>
            <a:ext cx="2098800" cy="2059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5400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失明后的杨佳仍继续在本院教书，也应邀到外校讲课。用原声带听各种有声读物，用空白带收录电台的英语广播，除了听书之外，学盲文，想要著书立说，想写一本《研究生英语阅读》，帮助研究生渡过英语阅读的难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10160" y="765000"/>
            <a:ext cx="2678400" cy="360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49687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工夫不负有心人，让杨佳欣慰的是，她用汗水和泪水凝结成的书稿，得到了专家学者的高度评价，她的导师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应用语言学界第一夫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佩教授亲自为她的新书写序。杨佳满意了，她觉得自己付出的辛劳都得到了回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57920" y="692280"/>
            <a:ext cx="2962080" cy="4321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597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一个天之骄子到一个盲人，再到她的著作的出版，杨佳自强不息的精神感动了许多人。她现在不仅是世界残联的妇女委员（亚洲惟一的一个女性委员），更令人感慨的是，经过她不懈的努力，今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，她接到了美国著名的哈佛大学的录取通知书。为一位失明的求学者敞开自己的大门，这在美国哈佛大学的历史上也是少有的。不向命运低头的杨佳，靠自己的努力拼搏，终于走出了黑暗，迎来了自己生命中的第二次曙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84328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4259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杨佳的人生印证了一句诗：只要心中有阳光，生活就一定会给你呈现雨后的彩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33960" y="836640"/>
            <a:ext cx="3479760" cy="4897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彩云"/>
                <a:ea typeface="华文彩云"/>
              </a:rPr>
              <a:t>小结</a:t>
            </a:r>
            <a:r>
              <a:rPr b="0" lang="zh-CN" sz="6600" spc="-1" strike="noStrike">
                <a:solidFill>
                  <a:srgbClr val="ff0066"/>
                </a:solidFill>
                <a:latin typeface="华文彩云"/>
                <a:ea typeface="华文彩云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无数事例证明</a:t>
            </a:r>
            <a:r>
              <a:rPr b="0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,</a:t>
            </a:r>
            <a:r>
              <a:rPr b="0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有毅力的人可以创造奇迹</a:t>
            </a:r>
            <a:r>
              <a:rPr b="0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,</a:t>
            </a:r>
            <a:r>
              <a:rPr b="0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有毅力才能达到成功的彼岸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727440" cy="5141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彩云"/>
              </a:rPr>
              <a:t>同学们的心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苦难也是幸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永不言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追求中没有乘凉的季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冬天已经来临了，春天还会遥远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83200" y="907920"/>
            <a:ext cx="3449520" cy="482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84640"/>
            <a:ext cx="835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cc9900"/>
                </a:solidFill>
                <a:latin typeface="019-CAI978"/>
                <a:ea typeface="文鼎中特广告体"/>
              </a:rPr>
              <a:t>现在先让我们来看一些事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flipH="1">
            <a:off x="6732360" y="260280"/>
            <a:ext cx="2243160" cy="3403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彩云"/>
              </a:rPr>
              <a:t>同学们的心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968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上帝给每个人的都不会太多，而每个人可争取的却是无限的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上帝造就了你总有他的道理。相信你自己，你肯定会一飞冲天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最困苦的时候，没有时间去流泪；最危急的时候，没有时间去迟疑。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462480" cy="4219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      </a:t>
            </a: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老师的寄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4752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冰心说：“成功的花，人们只惊羡它现时的明艳，谁知道它当初的芽儿，却浸透了奋斗的泪泉，洒遍了牺牲的血雨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同学们，只要有毅力，有恒心，就一定能摘取胜利的果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13400" y="692280"/>
            <a:ext cx="3306600" cy="4033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0260000" cy="6889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11280" y="1125360"/>
            <a:ext cx="77058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2292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5400000">
            <a:off x="4752720" y="2023920"/>
            <a:ext cx="525492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37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文鼎新艺体简"/>
              </a:rPr>
              <a:t>奏响人生的主旋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文鼎新艺体简"/>
              <a:ea typeface="文鼎新艺体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文鼎新艺体简"/>
              </a:rPr>
              <a:t>记盲人钢琴调律师顾安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文鼎新艺体简"/>
              <a:ea typeface="文鼎新艺体简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76280"/>
            <a:ext cx="86756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上海市金陵东路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号的立诚信琴行，在悠扬欢畅的《致爱丽丝》钢琴旋律中，我们见到了顾走进位于安平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个自强不息的弱视残疾人，一位出色的钢琴调律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16360" y="3254400"/>
            <a:ext cx="4751640" cy="3468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404640"/>
            <a:ext cx="5832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人意料的是，眼前的顾安平是如此的年轻：一身明亮的 火红色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恤，一张稚气未脱的脸和交谈中阵阵爽朗的笑声。如果不是那副有些笨拙的矫正眼镜，很难让人相信他是一个患有 先天性白内障和眼球震颤等多种眼科疾病，眼睛开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几乎 失明的弱视残疾人。诚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岁的他所说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虽然我眼中的世界 并不清晰，但我有比常人更灵敏的听觉，更能感悟到生活中最 美妙的声音和事物，所以我是幸福的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35840" y="3429000"/>
            <a:ext cx="1893960" cy="2087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0"/>
            <a:ext cx="6553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果说是对音乐执着的追求，引导顾安平迈进了艺术殿堂，那么家庭的关爱和培养，更为顾安平营造了一个温馨而健康的成长环境。他从小和爷爷奶奶生活在一起，长辈们教导他要勇敢面对现实，正视自己的残疾，培养他独立自主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527880" y="333360"/>
            <a:ext cx="2440080" cy="4497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9000"/>
            <a:ext cx="8821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奶奶和姑妈们发现了他的音乐天赋，从他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岁开始，在家中那台有近百年历史的象牙琴键的摩德利钢琴上，小顾第一次实现了他的音乐理想。他凭着顽强的毅力和自信，通过了钢琴十级考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在上海市日高杯钢琴比赛中获特别奖，被评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海市残疾人自强模范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6680" y="4005360"/>
            <a:ext cx="3127320" cy="2852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084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自信、自强、立志成才的精神使顾安平克服常人难以想象的困难，成为上海市第一位盲人专业钢琴调律师，开办了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乐帮顾安平钢琴调律社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成为一个自食其力的人，创造了人生又一个奇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72360" y="549360"/>
            <a:ext cx="2625480" cy="3887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3:24:25Z</dcterms:created>
  <dc:creator>Billgates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1:46Z</dcterms:modified>
  <cp:revision>159</cp:revision>
  <dc:subject>主题班会课件(分28大类): http://shop62905894.taobao.com</dc:subject>
  <dc:title>主题班会课件(分28大类): http://shop62905894.taobao.com</dc:title>
</cp:coreProperties>
</file>