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10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13.jpeg" ContentType="image/jpeg"/>
  <Override PartName="/ppt/media/image22.png" ContentType="image/png"/>
  <Override PartName="/ppt/media/image19.jpeg" ContentType="image/jpeg"/>
  <Override PartName="/ppt/media/image21.gif" ContentType="image/gif"/>
  <Override PartName="/ppt/media/image20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A86-3914-484D-BB05-9DE0BCF3C4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5FC6-93E3-41DA-874B-741832A67F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955-A3F5-4C94-B032-247B0E80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7C7-2039-4C14-800A-9FE5AFA8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2DE30-EC4E-4006-810D-9AE76DAD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00627-6154-48F2-BE62-0534789E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EAC63-0A88-4697-8C83-D38E09A8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1DA36-4758-4EEB-92C6-4667DC9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88092-ADE4-496D-BFB6-6864192F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BA657-2871-4F9B-8866-CCB539C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182F9-CDEC-4E9D-A601-2547A811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B673E-615E-4AEF-AEF7-90C4802F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92580-C786-4AD8-8211-5B9D03CF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D5558-B113-44DE-B454-E1739F02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CE6-E196-4EBD-97EC-27175579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41E6F-7423-4043-A131-0D3C3D4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4E56D-E53E-48D3-B71A-05805891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1C0B1-5693-4F73-BCB7-B533DB87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5360A-72F2-44E5-B202-8D86078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EF1C3-D873-4875-BBA9-AB67D69A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BC549-EA87-4C17-8A29-DE38A855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B5603-480D-4076-A15E-52BC7779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C4809-8A7B-46BD-B60D-C5016467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029DB-CCBE-4E1D-8B0E-0AECD6BC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499AA-49BC-485E-9399-B622C202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3E1-9AEA-453A-8879-02DEF16E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FA18F-62FE-461B-9357-6C36E393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9C8205-A90E-46BE-BCBA-A584FB8C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171C3C-4F13-473E-8DE3-EA5197D4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6AAD9D-9304-45D1-8596-FB033681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EB3FEC-5877-49E1-89E3-BFF31DB7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E22EFD-CD7D-44D2-A861-CD209764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A6F56D-384E-45EB-A6C7-9B10D7D7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BC3F12-9A12-45E7-BB95-9E80D33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68FA32-DBFB-4F0D-8981-E3A2EA6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2085BD-C480-48A8-9C5C-AE3E087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DD2C-EAF2-496C-9F00-6BADA9FF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46848A-25A1-4345-89A5-DFD36AA1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470E1F-078E-4AE0-BA6C-D8998528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590A12-D544-4084-B954-F5EED8DA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F5E8-A9A4-4F76-9594-D90AF2DD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FE0C-2FA6-44D9-88A3-72792ABB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F570-EEA3-41BE-89AA-164FAF5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3FB3-C196-4BFD-95C1-485F59FA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DCD6-EB11-4D39-8C68-48D2156A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23B9-DA9B-4660-97F4-CBBA29F3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4A1-1505-4D5E-B4C4-540D2129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CC9F-023F-4C08-BF08-B0207062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39CC-BDDA-4B85-B284-84566C2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21D9-9737-4D5A-8333-A99773F2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EC63-627B-4ABD-9837-C669D580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6CD4-F71C-43C8-A4A9-D31E24F6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40B2-B7FA-4CC3-9615-1B6DA68B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F661-CCD5-4365-868E-1E109D6D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6E96-AF1D-4E2F-864C-0B30BA7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45F2-D7FD-4865-9F28-E5EDAA3B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C0F7-C2BE-470D-9FDE-6B11C5BE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BE3-5743-4912-B1F0-06920B78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087F-5A7F-42F8-9DFC-45CA5C7C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BB6A-3C55-4423-A2E6-4E8A1B8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FADC-4519-4CBE-A5DC-08E3722B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86CA-9BFA-426A-AC4B-82948B96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19EAD-7D44-4433-B636-4C5BC0E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A25D-9224-4661-920D-9B139255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8786-F6C3-4D9F-9B17-CDB069C8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72DD-FEF7-4C5C-9DA8-FCE842B3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DF51-EA68-4B76-870B-F3519344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7A76-1387-42D4-9A2A-B3236F56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AB5-7B49-475E-AA0A-F153FAA3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184B2-1257-4907-83D1-8111932C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C183-F8C0-4434-BCC3-FEC505F2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9F5B-957E-41A1-B027-0C4C190D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EFDAE-0B6A-4635-A863-3CE52EF0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D3647-1D6D-4416-AD86-09026DF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5D60-C7B4-4C02-8137-EA51243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EAC8-1BBB-47E2-B2CD-FDCEBE21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F57CC-5DCE-46D3-80FD-2022DD86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7E26-D7C5-44BF-B065-F42A0CB2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EB11-6E76-420F-A7BD-8528121E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B0E-CA93-4101-A611-F94594F8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5BFA4-5C8D-47D9-9EBB-5EFE02FA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75C03-73FC-419D-9AD9-CE69D38C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9A27-6AD4-4E50-AFF7-A84E1D34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8C18A-74ED-4ADE-B0EC-38BC73A0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4BD08-1252-4C55-9115-F9A1FF3D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C264-BEF6-4AEC-9D2C-609C4632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AF39-A09D-4475-970B-8A86ED71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915D-F3DE-4B94-968D-6F2DCF2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56AB4-5AE9-4FFC-983E-D859BDBA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8BE59-BC0B-4330-A8BD-9C863651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9F1-B702-4030-B09C-65FBEBEB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C372F-FF78-46CF-A3C7-17FE3CE2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4063-0912-451C-9975-4734EC94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CE367-2ABB-4656-8D54-6C219D13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82E23-2052-4625-891F-D676B2DB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77F0-BD02-4F0F-9808-D185345C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2980E-B21F-441F-BD0C-5B651B1A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B57A0-68FA-475A-8592-465211AD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859BA-8A11-4E3F-BF3C-6B01ED2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0F32E-50B3-479A-A9E6-18894E3F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90B10-76E5-4E8F-ACE9-058101C3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BBE-9591-4FB0-8BAC-40613D27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31F0B-793A-4528-BBCD-63951063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6D6B-7C1F-4D8C-84CF-43350C39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B80A3-184B-4183-96FB-BDC70F9D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10311-1F5B-4D35-B5C8-B8164D23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16AEF-9D16-40D0-842E-7F3E5486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6435-50EC-48D8-B6CD-5FFA27A2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69D14-4BDF-45BE-802B-2B41259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CA0AC-93D1-410F-A416-F0CD16BF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9A16-48A2-461A-8544-030982E2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E7308-3B2B-4E28-9FDC-63169C23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5B8-EF9E-44B6-AF46-353AC6C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5DC4D-F1F8-4FF2-BE34-5064ACCD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6CA96-C9AB-4522-9B86-A9DF36B9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ECDD8-7658-4060-AF9F-F491693B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4C9E6-5C3C-4BC1-A280-F89C187A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0D386-851B-4535-889F-2D636245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F817B-0409-4F4D-96A0-6138C55E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FFA5A-EB88-459C-B74B-CC1E03E6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68FD9-8C5F-48B8-93D3-61536716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22396-E5D7-4CE4-AA66-D4A11A31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490E2-31A2-4CA4-A9CA-7FC73C62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4C5-44BC-448C-9DD3-DBEBC44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69B43-E95D-4F9D-8FAB-A29EE5EF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720A3-B643-4E1B-B4B2-E76C3E82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7FC3D-43D9-41EE-83C4-CFA48FA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1A80B-55BE-4D1B-B298-7B63ED42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2B4AE-7F90-4535-ABAD-4182EF76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78C15-BBE3-4E52-9030-729BB3E3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87D69-C921-47B7-8763-08036981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79B2D-306D-476D-8F8F-1BC26E5C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54021-CF4E-44BC-970B-4CC14BC4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F2879-CD57-4C57-AF10-0ABF210D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CB54-F734-48E7-8473-29FF731FF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7DA-7AE3-47D7-9787-F69CF646F5D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2DA9-A792-47F5-AD4F-5C4308C5D05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06B5-150B-40CB-8F98-7DBCA2E5C98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6B4B-BB4D-450B-8E4B-5A4E8671C76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7F5B-DBB3-427D-AF71-C2709D8ADA0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B22E-265E-43F3-B1E7-B65F3C26035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7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7A40-406C-4116-BC8F-AF7CBE65D00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4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91B9-9497-465A-A5C6-17812DD411C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6B89-36B2-4DBE-B890-550095E2126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7C6A-C5D7-4EED-8579-4E1954EC511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hyperlink" Target="http://www.ziqu.com/bbs/660100/2/4713.html" TargetMode="External"/><Relationship Id="rId5" Type="http://schemas.openxmlformats.org/officeDocument/2006/relationships/image" Target="../media/image7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hyperlink" Target="http://www.ziqu.com/bbs/660100/2/4713.html" TargetMode="External"/><Relationship Id="rId14" Type="http://schemas.openxmlformats.org/officeDocument/2006/relationships/image" Target="../media/image7.gif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55640" y="404640"/>
            <a:ext cx="7991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成功无捷径</a:t>
            </a:r>
            <a:br>
              <a:rPr sz="6600"/>
            </a:b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           学习当奋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成功无捷径</a:t>
            </a:r>
            <a:br>
              <a:rPr sz="6600"/>
            </a:b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           学习当奋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324000" y="954000"/>
            <a:ext cx="8569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久以前，乌龟与兔子之间发生了争论，它们都说自己跑得比对方快。于是它们决定通过比赛来一决雌雄。确定了路线之后它们就开始跑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兔子一个箭步冲到了前面，并且一路领先。看到乌龟被远远抛在了后面，兔子觉得，自己应该先在树下休息一会儿，然后再继续比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，它在树下坐了下来，并且很快睡着了。乌龟慢慢地超过了它，并且完成了整个赛程，无可争辩地当上了冠军。兔子醒了过来，发现自己输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159080" y="5703840"/>
            <a:ext cx="976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一：稳步前进者往往能够获得最终的胜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187280" y="26028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行楷"/>
              </a:rPr>
              <a:t>龟兔赛跑对我们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6372360" y="333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第一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476360" y="278136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勤奋、持之以恒。学习是一种艰苦的脑力劳动，不能象兔子那样干事稍微有点起色，就骄傲自满。你的强项很可能被你变成自己的绊脚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 rot="1053600">
            <a:off x="244440" y="798120"/>
            <a:ext cx="5486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50" name="Litebulb"/>
          <p:cNvSpPr/>
          <p:nvPr/>
        </p:nvSpPr>
        <p:spPr>
          <a:xfrm>
            <a:off x="6877080" y="189000"/>
            <a:ext cx="1727280" cy="2520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524720" y="476280"/>
            <a:ext cx="50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7425720" y="3573360"/>
            <a:ext cx="18262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方正姚体"/>
              </a:rPr>
              <a:t>梁素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79280" y="8701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学习委员梁素珠，学习上十分勤奋认真，从未有过消极学习状态，堪为全班楷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546200" y="1989000"/>
            <a:ext cx="6481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的学习心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勤奋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持之以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Y+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5364000" y="2735280"/>
            <a:ext cx="3635640" cy="2133720"/>
          </a:xfrm>
          <a:prstGeom prst="cloudCallout">
            <a:avLst>
              <a:gd name="adj1" fmla="val -46287"/>
              <a:gd name="adj2" fmla="val 7513"/>
            </a:avLst>
          </a:prstGeom>
          <a:solidFill>
            <a:srgbClr val="ffffff"/>
          </a:solidFill>
          <a:ln cap="rnd"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0920" y="2602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发挥你的想象力，给兔子和乌龟设计第二场甚至第三第四场比赛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105360" cy="145908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556080" cy="248292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5796000" y="2997360"/>
            <a:ext cx="25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me on, let’s do it again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067280" y="5084640"/>
            <a:ext cx="21564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rot="20101200">
            <a:off x="4357440" y="4797000"/>
            <a:ext cx="36036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rot="19693800">
            <a:off x="4716000" y="4365360"/>
            <a:ext cx="792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3038400">
            <a:off x="3926160" y="2997000"/>
            <a:ext cx="144360" cy="144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rot="1537200">
            <a:off x="4141440" y="2997000"/>
            <a:ext cx="360360" cy="215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1124400">
            <a:off x="4573440" y="3141360"/>
            <a:ext cx="792360" cy="431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217440" y="907920"/>
            <a:ext cx="8675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兔子因为输掉了比赛而感到失望，它做了一些失利原因的分析。兔子发现，自己失败只是因为过于自信而导致粗心大意、疏于防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它不那么自以为是，乌龟根本没有获胜的可能。于是兔子向乌龟提出挑战：再比一次。乌龟同意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在这一次比赛中，兔子全力以赴，毫不停歇地从起点跑到了终点。它把乌龟甩在几公里之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544500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二：迅速并且坚持下去一定能打败又稳又慢的对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2340000" y="260280"/>
            <a:ext cx="345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2556000" y="2852640"/>
            <a:ext cx="640872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改变刻板的思维方式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改进学习方法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提高学习效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 rot="1053600">
            <a:off x="244440" y="798120"/>
            <a:ext cx="5486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72" name="Litebulb"/>
          <p:cNvSpPr/>
          <p:nvPr/>
        </p:nvSpPr>
        <p:spPr>
          <a:xfrm>
            <a:off x="6877080" y="189000"/>
            <a:ext cx="1727280" cy="2520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476280"/>
            <a:ext cx="50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24000" y="115920"/>
            <a:ext cx="8496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这里故事还没有结束。这一次，乌龟又动了动脑筋，它意识到，以当前的比赛形式，它是不可能在比赛中胜过兔子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想了一阵子，然后向兔子发出了新的挑战，它要跟兔子再比一次，但是比赛路线会有所不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兔子同意了。它们出发后，兔子遵循了原先的策略，坚持以最快的速度飞跑，直到面前出现了一条大河。终点位于河对岸两公里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兔子坐了下来，思忖着下一步该怎么办。这时，乌龟赶了上来，它跳进了河里，游到了对岸，并继续向前迈进，最终达到了终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5740560"/>
            <a:ext cx="856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三：首先应该找出自己的核心竞争力，然后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适合展现自己核心竞争力的比赛场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067280" y="1197000"/>
            <a:ext cx="345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三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339720" y="3068640"/>
            <a:ext cx="420408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在学习中发掘自己优势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把握先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想法、行动快人一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 rot="1053600">
            <a:off x="244440" y="798120"/>
            <a:ext cx="5486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79" name="Litebulb"/>
          <p:cNvSpPr/>
          <p:nvPr/>
        </p:nvSpPr>
        <p:spPr>
          <a:xfrm>
            <a:off x="6877080" y="189000"/>
            <a:ext cx="1727280" cy="2520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24720" y="476280"/>
            <a:ext cx="50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 txBox="1"/>
          <p:nvPr/>
        </p:nvSpPr>
        <p:spPr>
          <a:xfrm rot="1965600">
            <a:off x="4932000" y="1197000"/>
            <a:ext cx="3816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郑丽雯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883" name=""/>
          <p:cNvSpPr/>
          <p:nvPr/>
        </p:nvSpPr>
        <p:spPr>
          <a:xfrm>
            <a:off x="106200" y="19843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课代表郑丽雯，实至名归，在上学期期末考试中，凭借数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的全班第一的成绩，由全班语数英总分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一跃成为全班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333440" y="3297240"/>
            <a:ext cx="5543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学习心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心态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认真对待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善于提出问题，解决疑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掌握解题方法，懂得利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到举一反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24000" y="836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事还有更新的版本。兔子和乌龟成了很要好的朋友，它们决定再比试一次，但是这次，它们两个作为一个团队的成员出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出发了，这一次兔子扛着乌龟跑到了岸边，然后，相互对调了一下，乌龟驮着兔子游到了对岸。到了对岸之后，兔子又把乌龟扛了起来，最后，两人一齐冲过了终点线。两人都感到了莫大的满足感，比独自获胜还高兴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4292640"/>
            <a:ext cx="873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四：某个人工作出色、有很强的核心竞争力是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好事，但是除非你能够在一个团队中工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运用好每个人的核心竞争力，否则你常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发现心有余而力不足，因为有些时候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弱项正好是别人的强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2340000" y="260280"/>
            <a:ext cx="345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四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252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行楷"/>
              </a:rPr>
              <a:t>今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：</a:t>
            </a:r>
            <a:br>
              <a:rPr sz="44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我们站在同一起跑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1180800" cy="85716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>
            <a:off x="6877080" y="4941720"/>
            <a:ext cx="1181160" cy="8575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1657080" cy="10224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>
            <a:off x="5364000" y="2492280"/>
            <a:ext cx="1586160" cy="9781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1513080" cy="9320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8"/>
          <a:stretch/>
        </p:blipFill>
        <p:spPr>
          <a:xfrm>
            <a:off x="7236000" y="5589720"/>
            <a:ext cx="1657080" cy="10206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3995640" y="476280"/>
            <a:ext cx="3529080" cy="6381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29272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443640" y="333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64360" y="2492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95640" y="112536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067280" y="3213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97040" y="70358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26920" y="21337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77000" y="4076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09308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88000" y="83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77000" y="1268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2705760" y="3141720"/>
            <a:ext cx="493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发扬合作精神，共同促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在这个集体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我们互相之间不仅仅是对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我们更是同学、战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 rot="1053600">
            <a:off x="244440" y="798120"/>
            <a:ext cx="5486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90" name="Litebulb"/>
          <p:cNvSpPr/>
          <p:nvPr/>
        </p:nvSpPr>
        <p:spPr>
          <a:xfrm>
            <a:off x="6877080" y="189000"/>
            <a:ext cx="1727280" cy="2520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24720" y="476280"/>
            <a:ext cx="50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25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馒头理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5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一个馒头，没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二个馒头，还没有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三个馒头，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此下结论，只要吃第三个馒头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实，没有第一、第二两个馒头的基础，哪有第三个馒头的效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27280" cy="23605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395280" y="3716280"/>
            <a:ext cx="813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基础与发展息息相关。就像盖楼房一样，只打三层楼房的地基，是不能盖出四层楼的，要想盖四层，必须打下四层的地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学习也是如此，基础扎实，终身受益；基础不牢，终生先天性不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积累是一个逐渐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979880" cy="50133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5148360" y="2060640"/>
            <a:ext cx="38163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的积累运动，为的是换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终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受用不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兵千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兵一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218200" y="533520"/>
            <a:ext cx="34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重积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tebulb"/>
          <p:cNvSpPr/>
          <p:nvPr/>
        </p:nvSpPr>
        <p:spPr>
          <a:xfrm>
            <a:off x="3276720" y="189000"/>
            <a:ext cx="1726920" cy="2520720"/>
          </a:xfrm>
          <a:prstGeom prst="pi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851280" y="3729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幼圆"/>
                <a:ea typeface="幼圆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26920" y="4076640"/>
            <a:ext cx="68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什么叫痛苦？   什么叫幸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396520" y="509256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经历残酷的高考，你又如何去体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0000" y="549360"/>
            <a:ext cx="75596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在我们的周记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不少同学在那里大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痛苦 煎熬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3716280"/>
            <a:ext cx="80629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欢乐比起高考成功带来的后的幸福，那又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84360" y="1268280"/>
            <a:ext cx="8062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痛苦比起高考失败后的痛苦，那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我相信这样的一个现实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591012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828720" y="60919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困难之时就是离成功不远之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468360" y="2349360"/>
            <a:ext cx="66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相信自己，才能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828720" y="981000"/>
            <a:ext cx="784692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次挥汗如雨  伤痛曾填满记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因为始终相信  去拼搏才能胜利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是在鼓舞自己  要成功就得努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血在赛场飞腾  巨人在东方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你将赢得胜利创造奇迹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梦想在你手中这是你的天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你我将超越极限超越自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当这一切过去你们将是第一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7236000" y="1700280"/>
            <a:ext cx="1706400" cy="237636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2266920" y="115920"/>
            <a:ext cx="41767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相  信  自  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7524720" y="404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13818" fill="hold"/>
                                        <p:tgtEl>
                                          <p:spTgt spid="9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395280" y="278136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学习心理测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mingb161.gif (6652 bytes)"/>
          <p:cNvPicPr/>
          <p:nvPr/>
        </p:nvPicPr>
        <p:blipFill>
          <a:blip r:embed="rId1"/>
          <a:stretch/>
        </p:blipFill>
        <p:spPr>
          <a:xfrm>
            <a:off x="0" y="0"/>
            <a:ext cx="1992240" cy="16668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我正在到达成功的途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 rot="411600">
            <a:off x="831672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2421000"/>
            <a:ext cx="1176480" cy="11761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258920" y="2205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52720" y="1413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2852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37440" y="2924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1280" y="4437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21440" y="587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661080" y="1628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29080" y="15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484360" y="33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84360" y="263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708360" y="4940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165800" y="4653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43280" y="400356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58920" y="573408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7380360" y="836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7"/>
          <a:stretch/>
        </p:blipFill>
        <p:spPr>
          <a:xfrm>
            <a:off x="1692360" y="43657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8"/>
          <a:stretch/>
        </p:blipFill>
        <p:spPr>
          <a:xfrm rot="1111800">
            <a:off x="5292720" y="530028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9"/>
          <a:stretch/>
        </p:blipFill>
        <p:spPr>
          <a:xfrm>
            <a:off x="6516720" y="220500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10"/>
          <a:stretch/>
        </p:blipFill>
        <p:spPr>
          <a:xfrm rot="1181400">
            <a:off x="5866920" y="40053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1"/>
          <a:stretch/>
        </p:blipFill>
        <p:spPr>
          <a:xfrm rot="1466400">
            <a:off x="7667280" y="364500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2"/>
          <a:stretch/>
        </p:blipFill>
        <p:spPr>
          <a:xfrm rot="1519800">
            <a:off x="3276360" y="3789000"/>
            <a:ext cx="1187280" cy="1187280"/>
          </a:xfrm>
          <a:prstGeom prst="rect">
            <a:avLst/>
          </a:prstGeom>
          <a:ln w="0">
            <a:noFill/>
          </a:ln>
        </p:spPr>
      </p:pic>
      <p:grpSp>
        <p:nvGrpSpPr>
          <p:cNvPr id="661" name=""/>
          <p:cNvGrpSpPr/>
          <p:nvPr/>
        </p:nvGrpSpPr>
        <p:grpSpPr>
          <a:xfrm>
            <a:off x="684360" y="765000"/>
            <a:ext cx="539640" cy="360360"/>
            <a:chOff x="684360" y="765000"/>
            <a:chExt cx="539640" cy="360360"/>
          </a:xfrm>
        </p:grpSpPr>
        <p:sp>
          <p:nvSpPr>
            <p:cNvPr id="662" name=""/>
            <p:cNvSpPr/>
            <p:nvPr/>
          </p:nvSpPr>
          <p:spPr>
            <a:xfrm>
              <a:off x="719280" y="765000"/>
              <a:ext cx="468360" cy="360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46440 h 360360"/>
                <a:gd name="textAreaBottom" fmla="*/ 3139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4360" y="7650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Arial"/>
                </a:rPr>
                <a:t>成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4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71640" y="5681520"/>
            <a:ext cx="1176480" cy="117648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题与学习倾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在填写考卷答案时，你会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答案正确，考卷也要保持很干净、整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答案正确，随便写就可以了，潦草脏乱没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使不会写，也要保持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写不出来，就乱涂一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从小就被人灌输要做一个乖学生，而你自己也很乐意接受这样的暗示，所以你一进学校，就会暗示自己要做个师长、同学、父母眼中的好学生。不仅老师交代的功课会认真完成，课外的活动也会热心参与，像是书法、美术、演讲之类的活动，是最容易获得大家认同的活动。只要是师长认为应该做的，你就会全力以赴，为的就是一个好学生的形象，你的学习动机很明显地就是建立在别人对你的期待上的。所谓水能载舟亦能覆舟，假如那一天，你周边的人不再给你肯定、对你抱以莫大的期待，你可能就会提不起劲，因为你是一个学习意愿很容易受人家影响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250920" y="6951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只重视实力，不注重形式的人，考试对你来讲，只是为了印证你的学习效果，因此你不会去在意考卷的整洁。像你这种人，学业成绩有时候不是你的学习重点和动机，你的学习动机最主要是来自于肯定自己和充实自己的想法，也就是说你对于学习知识有主动性的动机，不会为了某种外在因素而去读书。通常来讲你对于自己要学什么的动机很清楚，你的学习意愿很少会受周边人际或环境的影响，是个很有主见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179280" y="54936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很守规则、很保守的学生，虽然你的学业成绩不是很好，但是你还是会很认真地去读书，不会受到人家的影响，也不会为了达成别人的期待而去埋头努力。你的学习意愿是属于比较低的人，或许是你不会为了师长、父母、同学去努力读书，或许你对于这些学业的兴趣不高，只喜欢依自己的情绪起伏去念自己喜欢的书。但是，你又不想在课堂上引起注意，只想一个人默默地做自己的事，所以你尽量不会去破坏考卷上的整洁，宁可空白一片，很有勇气地接受成绩不理想的事实，是个很有个性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179280" y="836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学习意愿不仅是零，你还会很叛逆地破坏考卷，表示对课业的不满和抗议。在学习动机中的环境诱因和人际肯定的力量，对你一点吸引力都没有，你不仅不会为了父母读书，更不会为了得到别人的肯定去埋头苦读。而且，你的观念中认为读书不会为你带来任何好处，现在是如此，将来更是如此，所以你根本不会有任何的学习动机。但是你又没办法正面地全盘否定这些课业给你的压力，为了表示你的不满，所以你会在考卷上出气，以示抗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但，成功，离我们还很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在到达成功的终点之前，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我们要一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 flipH="1">
            <a:off x="826560" y="2133720"/>
            <a:ext cx="1116360" cy="6858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 flipH="1">
            <a:off x="5940360" y="1557360"/>
            <a:ext cx="2160720" cy="13050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 flipH="1">
            <a:off x="1331640" y="4797360"/>
            <a:ext cx="1152360" cy="6858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 flipH="1">
            <a:off x="7092720" y="4365720"/>
            <a:ext cx="1081080" cy="6858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5"/>
          <a:stretch/>
        </p:blipFill>
        <p:spPr>
          <a:xfrm flipH="1">
            <a:off x="1116000" y="3233880"/>
            <a:ext cx="1728720" cy="8334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 flipH="1">
            <a:off x="3203640" y="1844640"/>
            <a:ext cx="1800000" cy="10717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7"/>
          <a:stretch/>
        </p:blipFill>
        <p:spPr>
          <a:xfrm flipH="1">
            <a:off x="4932360" y="4869000"/>
            <a:ext cx="1944720" cy="109692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3276720" y="3429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奋力奔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03280" y="551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435640" y="285264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88508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8"/>
          <a:stretch/>
        </p:blipFill>
        <p:spPr>
          <a:xfrm flipH="1">
            <a:off x="6804000" y="2997360"/>
            <a:ext cx="2016000" cy="10350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9"/>
          <a:stretch/>
        </p:blipFill>
        <p:spPr>
          <a:xfrm flipH="1">
            <a:off x="2843280" y="4508640"/>
            <a:ext cx="1800000" cy="9651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1547640" y="6021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习就应该像一只快乐的小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539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在奔跑的过程中，我们会遇到很多方面的诱惑和阻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132000" cy="280836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3241800" cy="28083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781720" y="1413000"/>
            <a:ext cx="14601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最爱的狗粮——水果蛋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463160" y="1413000"/>
            <a:ext cx="14601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最害怕的对手——恶狗三兄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50872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还有我最沉溺的休闲方式——狗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446544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2627280" y="836640"/>
            <a:ext cx="3313080" cy="3600360"/>
          </a:xfrm>
          <a:prstGeom prst="wedgeEllipseCallout">
            <a:avLst>
              <a:gd name="adj1" fmla="val -67490"/>
              <a:gd name="adj2" fmla="val 69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987640" y="1628640"/>
            <a:ext cx="26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我忘了自己要做什么了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539640" y="1700280"/>
            <a:ext cx="81360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辛劳成为一种习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勤奋成为一种充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无聊的嬉戏就将变成一种空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87280" y="5229360"/>
            <a:ext cx="34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祸患常积于忽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79280" y="189000"/>
            <a:ext cx="8640720" cy="9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4000" y="404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要想富，先修路。要想学，先自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tebulb"/>
          <p:cNvSpPr/>
          <p:nvPr/>
        </p:nvSpPr>
        <p:spPr>
          <a:xfrm>
            <a:off x="6804000" y="1628640"/>
            <a:ext cx="1727280" cy="25210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51640" y="191628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932360" y="5229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智勇多困于所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3657600" y="3112920"/>
            <a:ext cx="2743200" cy="14590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1143000" y="3613320"/>
            <a:ext cx="3124080" cy="24825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 flipV="1">
            <a:off x="2590920" y="2819520"/>
            <a:ext cx="5943600" cy="396216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659720" y="1217520"/>
            <a:ext cx="77760" cy="1489320"/>
          </a:xfrm>
          <a:custGeom>
            <a:avLst/>
            <a:gdLst/>
            <a:ahLst/>
            <a:rect l="l" t="t" r="r" b="b"/>
            <a:pathLst>
              <a:path w="98" h="1876">
                <a:moveTo>
                  <a:pt x="0" y="1876"/>
                </a:moveTo>
                <a:lnTo>
                  <a:pt x="70" y="0"/>
                </a:lnTo>
                <a:lnTo>
                  <a:pt x="72" y="4"/>
                </a:lnTo>
                <a:lnTo>
                  <a:pt x="77" y="7"/>
                </a:lnTo>
                <a:lnTo>
                  <a:pt x="86" y="9"/>
                </a:lnTo>
                <a:lnTo>
                  <a:pt x="98" y="2"/>
                </a:lnTo>
                <a:lnTo>
                  <a:pt x="88" y="1876"/>
                </a:lnTo>
                <a:lnTo>
                  <a:pt x="0" y="1876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620120" y="1066680"/>
            <a:ext cx="228600" cy="1981440"/>
          </a:xfrm>
          <a:custGeom>
            <a:avLst/>
            <a:gdLst/>
            <a:ahLst/>
            <a:rect l="l" t="t" r="r" b="b"/>
            <a:pathLst>
              <a:path w="76" h="1921">
                <a:moveTo>
                  <a:pt x="0" y="1921"/>
                </a:moveTo>
                <a:lnTo>
                  <a:pt x="31" y="5"/>
                </a:lnTo>
                <a:lnTo>
                  <a:pt x="32" y="7"/>
                </a:lnTo>
                <a:lnTo>
                  <a:pt x="41" y="10"/>
                </a:lnTo>
                <a:lnTo>
                  <a:pt x="53" y="9"/>
                </a:lnTo>
                <a:lnTo>
                  <a:pt x="70" y="0"/>
                </a:lnTo>
                <a:lnTo>
                  <a:pt x="76" y="1921"/>
                </a:lnTo>
                <a:lnTo>
                  <a:pt x="0" y="192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620120" y="1219320"/>
            <a:ext cx="457200" cy="1904760"/>
          </a:xfrm>
          <a:custGeom>
            <a:avLst/>
            <a:gdLst/>
            <a:ahLst/>
            <a:rect l="l" t="t" r="r" b="b"/>
            <a:pathLst>
              <a:path w="71" h="1959">
                <a:moveTo>
                  <a:pt x="14" y="1959"/>
                </a:moveTo>
                <a:lnTo>
                  <a:pt x="0" y="19"/>
                </a:lnTo>
                <a:lnTo>
                  <a:pt x="26" y="0"/>
                </a:lnTo>
                <a:lnTo>
                  <a:pt x="40" y="1492"/>
                </a:lnTo>
                <a:lnTo>
                  <a:pt x="71" y="1952"/>
                </a:lnTo>
                <a:lnTo>
                  <a:pt x="14" y="195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881840" y="1278000"/>
            <a:ext cx="222480" cy="208080"/>
          </a:xfrm>
          <a:custGeom>
            <a:avLst/>
            <a:gdLst/>
            <a:ahLst/>
            <a:rect l="l" t="t" r="r" b="b"/>
            <a:pathLst>
              <a:path w="282" h="262">
                <a:moveTo>
                  <a:pt x="7" y="210"/>
                </a:moveTo>
                <a:lnTo>
                  <a:pt x="282" y="0"/>
                </a:lnTo>
                <a:lnTo>
                  <a:pt x="282" y="19"/>
                </a:lnTo>
                <a:lnTo>
                  <a:pt x="0" y="262"/>
                </a:lnTo>
                <a:lnTo>
                  <a:pt x="7" y="210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00880" y="1374840"/>
            <a:ext cx="258840" cy="279360"/>
          </a:xfrm>
          <a:custGeom>
            <a:avLst/>
            <a:gdLst/>
            <a:ahLst/>
            <a:rect l="l" t="t" r="r" b="b"/>
            <a:pathLst>
              <a:path w="326" h="352">
                <a:moveTo>
                  <a:pt x="326" y="352"/>
                </a:moveTo>
                <a:lnTo>
                  <a:pt x="319" y="275"/>
                </a:lnTo>
                <a:lnTo>
                  <a:pt x="13" y="0"/>
                </a:lnTo>
                <a:lnTo>
                  <a:pt x="0" y="57"/>
                </a:lnTo>
                <a:lnTo>
                  <a:pt x="326" y="35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629400" y="1197000"/>
            <a:ext cx="757080" cy="606240"/>
          </a:xfrm>
          <a:custGeom>
            <a:avLst/>
            <a:gdLst/>
            <a:ahLst/>
            <a:rect l="l" t="t" r="r" b="b"/>
            <a:pathLst>
              <a:path w="954" h="764">
                <a:moveTo>
                  <a:pt x="927" y="262"/>
                </a:moveTo>
                <a:lnTo>
                  <a:pt x="915" y="557"/>
                </a:lnTo>
                <a:lnTo>
                  <a:pt x="911" y="561"/>
                </a:lnTo>
                <a:lnTo>
                  <a:pt x="899" y="573"/>
                </a:lnTo>
                <a:lnTo>
                  <a:pt x="882" y="590"/>
                </a:lnTo>
                <a:lnTo>
                  <a:pt x="858" y="611"/>
                </a:lnTo>
                <a:lnTo>
                  <a:pt x="827" y="633"/>
                </a:lnTo>
                <a:lnTo>
                  <a:pt x="792" y="657"/>
                </a:lnTo>
                <a:lnTo>
                  <a:pt x="752" y="678"/>
                </a:lnTo>
                <a:lnTo>
                  <a:pt x="709" y="697"/>
                </a:lnTo>
                <a:lnTo>
                  <a:pt x="466" y="764"/>
                </a:lnTo>
                <a:lnTo>
                  <a:pt x="468" y="759"/>
                </a:lnTo>
                <a:lnTo>
                  <a:pt x="473" y="742"/>
                </a:lnTo>
                <a:lnTo>
                  <a:pt x="478" y="718"/>
                </a:lnTo>
                <a:lnTo>
                  <a:pt x="487" y="688"/>
                </a:lnTo>
                <a:lnTo>
                  <a:pt x="495" y="654"/>
                </a:lnTo>
                <a:lnTo>
                  <a:pt x="504" y="616"/>
                </a:lnTo>
                <a:lnTo>
                  <a:pt x="511" y="580"/>
                </a:lnTo>
                <a:lnTo>
                  <a:pt x="518" y="543"/>
                </a:lnTo>
                <a:lnTo>
                  <a:pt x="519" y="537"/>
                </a:lnTo>
                <a:lnTo>
                  <a:pt x="521" y="518"/>
                </a:lnTo>
                <a:lnTo>
                  <a:pt x="526" y="488"/>
                </a:lnTo>
                <a:lnTo>
                  <a:pt x="533" y="456"/>
                </a:lnTo>
                <a:lnTo>
                  <a:pt x="544" y="421"/>
                </a:lnTo>
                <a:lnTo>
                  <a:pt x="556" y="388"/>
                </a:lnTo>
                <a:lnTo>
                  <a:pt x="571" y="361"/>
                </a:lnTo>
                <a:lnTo>
                  <a:pt x="590" y="343"/>
                </a:lnTo>
                <a:lnTo>
                  <a:pt x="583" y="345"/>
                </a:lnTo>
                <a:lnTo>
                  <a:pt x="564" y="347"/>
                </a:lnTo>
                <a:lnTo>
                  <a:pt x="535" y="350"/>
                </a:lnTo>
                <a:lnTo>
                  <a:pt x="499" y="355"/>
                </a:lnTo>
                <a:lnTo>
                  <a:pt x="459" y="361"/>
                </a:lnTo>
                <a:lnTo>
                  <a:pt x="416" y="364"/>
                </a:lnTo>
                <a:lnTo>
                  <a:pt x="374" y="366"/>
                </a:lnTo>
                <a:lnTo>
                  <a:pt x="337" y="368"/>
                </a:lnTo>
                <a:lnTo>
                  <a:pt x="330" y="368"/>
                </a:lnTo>
                <a:lnTo>
                  <a:pt x="312" y="369"/>
                </a:lnTo>
                <a:lnTo>
                  <a:pt x="285" y="369"/>
                </a:lnTo>
                <a:lnTo>
                  <a:pt x="248" y="368"/>
                </a:lnTo>
                <a:lnTo>
                  <a:pt x="209" y="362"/>
                </a:lnTo>
                <a:lnTo>
                  <a:pt x="167" y="354"/>
                </a:lnTo>
                <a:lnTo>
                  <a:pt x="124" y="337"/>
                </a:lnTo>
                <a:lnTo>
                  <a:pt x="83" y="314"/>
                </a:lnTo>
                <a:lnTo>
                  <a:pt x="81" y="312"/>
                </a:lnTo>
                <a:lnTo>
                  <a:pt x="74" y="309"/>
                </a:lnTo>
                <a:lnTo>
                  <a:pt x="64" y="300"/>
                </a:lnTo>
                <a:lnTo>
                  <a:pt x="52" y="290"/>
                </a:lnTo>
                <a:lnTo>
                  <a:pt x="40" y="274"/>
                </a:lnTo>
                <a:lnTo>
                  <a:pt x="26" y="255"/>
                </a:lnTo>
                <a:lnTo>
                  <a:pt x="12" y="231"/>
                </a:lnTo>
                <a:lnTo>
                  <a:pt x="0" y="204"/>
                </a:lnTo>
                <a:lnTo>
                  <a:pt x="7" y="200"/>
                </a:lnTo>
                <a:lnTo>
                  <a:pt x="24" y="190"/>
                </a:lnTo>
                <a:lnTo>
                  <a:pt x="52" y="176"/>
                </a:lnTo>
                <a:lnTo>
                  <a:pt x="85" y="157"/>
                </a:lnTo>
                <a:lnTo>
                  <a:pt x="123" y="138"/>
                </a:lnTo>
                <a:lnTo>
                  <a:pt x="160" y="117"/>
                </a:lnTo>
                <a:lnTo>
                  <a:pt x="197" y="97"/>
                </a:lnTo>
                <a:lnTo>
                  <a:pt x="231" y="80"/>
                </a:lnTo>
                <a:lnTo>
                  <a:pt x="238" y="76"/>
                </a:lnTo>
                <a:lnTo>
                  <a:pt x="257" y="67"/>
                </a:lnTo>
                <a:lnTo>
                  <a:pt x="285" y="55"/>
                </a:lnTo>
                <a:lnTo>
                  <a:pt x="319" y="40"/>
                </a:lnTo>
                <a:lnTo>
                  <a:pt x="359" y="26"/>
                </a:lnTo>
                <a:lnTo>
                  <a:pt x="400" y="14"/>
                </a:lnTo>
                <a:lnTo>
                  <a:pt x="442" y="5"/>
                </a:lnTo>
                <a:lnTo>
                  <a:pt x="480" y="2"/>
                </a:lnTo>
                <a:lnTo>
                  <a:pt x="488" y="2"/>
                </a:lnTo>
                <a:lnTo>
                  <a:pt x="511" y="0"/>
                </a:lnTo>
                <a:lnTo>
                  <a:pt x="545" y="0"/>
                </a:lnTo>
                <a:lnTo>
                  <a:pt x="587" y="0"/>
                </a:lnTo>
                <a:lnTo>
                  <a:pt x="632" y="2"/>
                </a:lnTo>
                <a:lnTo>
                  <a:pt x="676" y="7"/>
                </a:lnTo>
                <a:lnTo>
                  <a:pt x="716" y="14"/>
                </a:lnTo>
                <a:lnTo>
                  <a:pt x="749" y="26"/>
                </a:lnTo>
                <a:lnTo>
                  <a:pt x="754" y="30"/>
                </a:lnTo>
                <a:lnTo>
                  <a:pt x="768" y="40"/>
                </a:lnTo>
                <a:lnTo>
                  <a:pt x="787" y="55"/>
                </a:lnTo>
                <a:lnTo>
                  <a:pt x="811" y="76"/>
                </a:lnTo>
                <a:lnTo>
                  <a:pt x="837" y="102"/>
                </a:lnTo>
                <a:lnTo>
                  <a:pt x="861" y="130"/>
                </a:lnTo>
                <a:lnTo>
                  <a:pt x="885" y="162"/>
                </a:lnTo>
                <a:lnTo>
                  <a:pt x="903" y="195"/>
                </a:lnTo>
                <a:lnTo>
                  <a:pt x="954" y="199"/>
                </a:lnTo>
                <a:lnTo>
                  <a:pt x="927" y="2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246800" y="985680"/>
            <a:ext cx="212760" cy="322560"/>
          </a:xfrm>
          <a:custGeom>
            <a:avLst/>
            <a:gdLst/>
            <a:ahLst/>
            <a:rect l="l" t="t" r="r" b="b"/>
            <a:pathLst>
              <a:path w="268" h="407">
                <a:moveTo>
                  <a:pt x="157" y="407"/>
                </a:moveTo>
                <a:lnTo>
                  <a:pt x="152" y="403"/>
                </a:lnTo>
                <a:lnTo>
                  <a:pt x="137" y="391"/>
                </a:lnTo>
                <a:lnTo>
                  <a:pt x="116" y="374"/>
                </a:lnTo>
                <a:lnTo>
                  <a:pt x="92" y="353"/>
                </a:lnTo>
                <a:lnTo>
                  <a:pt x="66" y="327"/>
                </a:lnTo>
                <a:lnTo>
                  <a:pt x="42" y="301"/>
                </a:lnTo>
                <a:lnTo>
                  <a:pt x="24" y="274"/>
                </a:lnTo>
                <a:lnTo>
                  <a:pt x="14" y="248"/>
                </a:lnTo>
                <a:lnTo>
                  <a:pt x="11" y="231"/>
                </a:lnTo>
                <a:lnTo>
                  <a:pt x="2" y="188"/>
                </a:lnTo>
                <a:lnTo>
                  <a:pt x="0" y="132"/>
                </a:lnTo>
                <a:lnTo>
                  <a:pt x="9" y="81"/>
                </a:lnTo>
                <a:lnTo>
                  <a:pt x="57" y="0"/>
                </a:lnTo>
                <a:lnTo>
                  <a:pt x="268" y="158"/>
                </a:lnTo>
                <a:lnTo>
                  <a:pt x="157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72400" y="790560"/>
            <a:ext cx="331560" cy="380880"/>
          </a:xfrm>
          <a:custGeom>
            <a:avLst/>
            <a:gdLst/>
            <a:ahLst/>
            <a:rect l="l" t="t" r="r" b="b"/>
            <a:pathLst>
              <a:path w="420" h="481">
                <a:moveTo>
                  <a:pt x="420" y="481"/>
                </a:moveTo>
                <a:lnTo>
                  <a:pt x="420" y="471"/>
                </a:lnTo>
                <a:lnTo>
                  <a:pt x="416" y="443"/>
                </a:lnTo>
                <a:lnTo>
                  <a:pt x="411" y="402"/>
                </a:lnTo>
                <a:lnTo>
                  <a:pt x="403" y="350"/>
                </a:lnTo>
                <a:lnTo>
                  <a:pt x="389" y="293"/>
                </a:lnTo>
                <a:lnTo>
                  <a:pt x="371" y="236"/>
                </a:lnTo>
                <a:lnTo>
                  <a:pt x="346" y="183"/>
                </a:lnTo>
                <a:lnTo>
                  <a:pt x="315" y="136"/>
                </a:lnTo>
                <a:lnTo>
                  <a:pt x="313" y="135"/>
                </a:lnTo>
                <a:lnTo>
                  <a:pt x="309" y="126"/>
                </a:lnTo>
                <a:lnTo>
                  <a:pt x="301" y="116"/>
                </a:lnTo>
                <a:lnTo>
                  <a:pt x="290" y="102"/>
                </a:lnTo>
                <a:lnTo>
                  <a:pt x="277" y="86"/>
                </a:lnTo>
                <a:lnTo>
                  <a:pt x="258" y="71"/>
                </a:lnTo>
                <a:lnTo>
                  <a:pt x="235" y="54"/>
                </a:lnTo>
                <a:lnTo>
                  <a:pt x="209" y="36"/>
                </a:lnTo>
                <a:lnTo>
                  <a:pt x="204" y="35"/>
                </a:lnTo>
                <a:lnTo>
                  <a:pt x="189" y="29"/>
                </a:lnTo>
                <a:lnTo>
                  <a:pt x="164" y="22"/>
                </a:lnTo>
                <a:lnTo>
                  <a:pt x="137" y="14"/>
                </a:lnTo>
                <a:lnTo>
                  <a:pt x="104" y="7"/>
                </a:lnTo>
                <a:lnTo>
                  <a:pt x="69" y="2"/>
                </a:lnTo>
                <a:lnTo>
                  <a:pt x="35" y="0"/>
                </a:lnTo>
                <a:lnTo>
                  <a:pt x="2" y="2"/>
                </a:lnTo>
                <a:lnTo>
                  <a:pt x="0" y="24"/>
                </a:lnTo>
                <a:lnTo>
                  <a:pt x="0" y="78"/>
                </a:lnTo>
                <a:lnTo>
                  <a:pt x="7" y="143"/>
                </a:lnTo>
                <a:lnTo>
                  <a:pt x="26" y="204"/>
                </a:lnTo>
                <a:lnTo>
                  <a:pt x="28" y="207"/>
                </a:lnTo>
                <a:lnTo>
                  <a:pt x="33" y="217"/>
                </a:lnTo>
                <a:lnTo>
                  <a:pt x="42" y="233"/>
                </a:lnTo>
                <a:lnTo>
                  <a:pt x="54" y="254"/>
                </a:lnTo>
                <a:lnTo>
                  <a:pt x="73" y="276"/>
                </a:lnTo>
                <a:lnTo>
                  <a:pt x="95" y="302"/>
                </a:lnTo>
                <a:lnTo>
                  <a:pt x="125" y="329"/>
                </a:lnTo>
                <a:lnTo>
                  <a:pt x="161" y="357"/>
                </a:lnTo>
                <a:lnTo>
                  <a:pt x="166" y="360"/>
                </a:lnTo>
                <a:lnTo>
                  <a:pt x="183" y="369"/>
                </a:lnTo>
                <a:lnTo>
                  <a:pt x="209" y="383"/>
                </a:lnTo>
                <a:lnTo>
                  <a:pt x="242" y="400"/>
                </a:lnTo>
                <a:lnTo>
                  <a:pt x="282" y="421"/>
                </a:lnTo>
                <a:lnTo>
                  <a:pt x="325" y="442"/>
                </a:lnTo>
                <a:lnTo>
                  <a:pt x="371" y="462"/>
                </a:lnTo>
                <a:lnTo>
                  <a:pt x="420" y="4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634080" y="1201680"/>
            <a:ext cx="727200" cy="596880"/>
          </a:xfrm>
          <a:custGeom>
            <a:avLst/>
            <a:gdLst/>
            <a:ahLst/>
            <a:rect l="l" t="t" r="r" b="b"/>
            <a:pathLst>
              <a:path w="917" h="752">
                <a:moveTo>
                  <a:pt x="898" y="183"/>
                </a:moveTo>
                <a:lnTo>
                  <a:pt x="787" y="62"/>
                </a:lnTo>
                <a:lnTo>
                  <a:pt x="785" y="60"/>
                </a:lnTo>
                <a:lnTo>
                  <a:pt x="778" y="54"/>
                </a:lnTo>
                <a:lnTo>
                  <a:pt x="768" y="45"/>
                </a:lnTo>
                <a:lnTo>
                  <a:pt x="756" y="35"/>
                </a:lnTo>
                <a:lnTo>
                  <a:pt x="739" y="24"/>
                </a:lnTo>
                <a:lnTo>
                  <a:pt x="720" y="14"/>
                </a:lnTo>
                <a:lnTo>
                  <a:pt x="699" y="5"/>
                </a:lnTo>
                <a:lnTo>
                  <a:pt x="677" y="0"/>
                </a:lnTo>
                <a:lnTo>
                  <a:pt x="675" y="0"/>
                </a:lnTo>
                <a:lnTo>
                  <a:pt x="668" y="0"/>
                </a:lnTo>
                <a:lnTo>
                  <a:pt x="658" y="0"/>
                </a:lnTo>
                <a:lnTo>
                  <a:pt x="644" y="0"/>
                </a:lnTo>
                <a:lnTo>
                  <a:pt x="628" y="0"/>
                </a:lnTo>
                <a:lnTo>
                  <a:pt x="609" y="0"/>
                </a:lnTo>
                <a:lnTo>
                  <a:pt x="589" y="0"/>
                </a:lnTo>
                <a:lnTo>
                  <a:pt x="566" y="0"/>
                </a:lnTo>
                <a:lnTo>
                  <a:pt x="544" y="2"/>
                </a:lnTo>
                <a:lnTo>
                  <a:pt x="520" y="2"/>
                </a:lnTo>
                <a:lnTo>
                  <a:pt x="495" y="4"/>
                </a:lnTo>
                <a:lnTo>
                  <a:pt x="471" y="5"/>
                </a:lnTo>
                <a:lnTo>
                  <a:pt x="449" y="9"/>
                </a:lnTo>
                <a:lnTo>
                  <a:pt x="426" y="12"/>
                </a:lnTo>
                <a:lnTo>
                  <a:pt x="407" y="16"/>
                </a:lnTo>
                <a:lnTo>
                  <a:pt x="388" y="19"/>
                </a:lnTo>
                <a:lnTo>
                  <a:pt x="382" y="21"/>
                </a:lnTo>
                <a:lnTo>
                  <a:pt x="366" y="28"/>
                </a:lnTo>
                <a:lnTo>
                  <a:pt x="340" y="36"/>
                </a:lnTo>
                <a:lnTo>
                  <a:pt x="309" y="48"/>
                </a:lnTo>
                <a:lnTo>
                  <a:pt x="275" y="62"/>
                </a:lnTo>
                <a:lnTo>
                  <a:pt x="237" y="76"/>
                </a:lnTo>
                <a:lnTo>
                  <a:pt x="200" y="92"/>
                </a:lnTo>
                <a:lnTo>
                  <a:pt x="168" y="105"/>
                </a:lnTo>
                <a:lnTo>
                  <a:pt x="162" y="109"/>
                </a:lnTo>
                <a:lnTo>
                  <a:pt x="147" y="116"/>
                </a:lnTo>
                <a:lnTo>
                  <a:pt x="124" y="126"/>
                </a:lnTo>
                <a:lnTo>
                  <a:pt x="99" y="140"/>
                </a:lnTo>
                <a:lnTo>
                  <a:pt x="69" y="155"/>
                </a:lnTo>
                <a:lnTo>
                  <a:pt x="42" y="173"/>
                </a:lnTo>
                <a:lnTo>
                  <a:pt x="17" y="188"/>
                </a:lnTo>
                <a:lnTo>
                  <a:pt x="0" y="202"/>
                </a:lnTo>
                <a:lnTo>
                  <a:pt x="0" y="204"/>
                </a:lnTo>
                <a:lnTo>
                  <a:pt x="0" y="209"/>
                </a:lnTo>
                <a:lnTo>
                  <a:pt x="2" y="217"/>
                </a:lnTo>
                <a:lnTo>
                  <a:pt x="5" y="229"/>
                </a:lnTo>
                <a:lnTo>
                  <a:pt x="11" y="243"/>
                </a:lnTo>
                <a:lnTo>
                  <a:pt x="21" y="259"/>
                </a:lnTo>
                <a:lnTo>
                  <a:pt x="35" y="276"/>
                </a:lnTo>
                <a:lnTo>
                  <a:pt x="54" y="293"/>
                </a:lnTo>
                <a:lnTo>
                  <a:pt x="57" y="297"/>
                </a:lnTo>
                <a:lnTo>
                  <a:pt x="69" y="304"/>
                </a:lnTo>
                <a:lnTo>
                  <a:pt x="88" y="314"/>
                </a:lnTo>
                <a:lnTo>
                  <a:pt x="112" y="328"/>
                </a:lnTo>
                <a:lnTo>
                  <a:pt x="142" y="340"/>
                </a:lnTo>
                <a:lnTo>
                  <a:pt x="173" y="352"/>
                </a:lnTo>
                <a:lnTo>
                  <a:pt x="206" y="361"/>
                </a:lnTo>
                <a:lnTo>
                  <a:pt x="240" y="364"/>
                </a:lnTo>
                <a:lnTo>
                  <a:pt x="242" y="364"/>
                </a:lnTo>
                <a:lnTo>
                  <a:pt x="249" y="364"/>
                </a:lnTo>
                <a:lnTo>
                  <a:pt x="257" y="364"/>
                </a:lnTo>
                <a:lnTo>
                  <a:pt x="271" y="364"/>
                </a:lnTo>
                <a:lnTo>
                  <a:pt x="288" y="362"/>
                </a:lnTo>
                <a:lnTo>
                  <a:pt x="307" y="362"/>
                </a:lnTo>
                <a:lnTo>
                  <a:pt x="328" y="361"/>
                </a:lnTo>
                <a:lnTo>
                  <a:pt x="354" y="359"/>
                </a:lnTo>
                <a:lnTo>
                  <a:pt x="380" y="357"/>
                </a:lnTo>
                <a:lnTo>
                  <a:pt x="407" y="355"/>
                </a:lnTo>
                <a:lnTo>
                  <a:pt x="437" y="352"/>
                </a:lnTo>
                <a:lnTo>
                  <a:pt x="468" y="348"/>
                </a:lnTo>
                <a:lnTo>
                  <a:pt x="499" y="343"/>
                </a:lnTo>
                <a:lnTo>
                  <a:pt x="530" y="338"/>
                </a:lnTo>
                <a:lnTo>
                  <a:pt x="563" y="333"/>
                </a:lnTo>
                <a:lnTo>
                  <a:pt x="596" y="326"/>
                </a:lnTo>
                <a:lnTo>
                  <a:pt x="594" y="328"/>
                </a:lnTo>
                <a:lnTo>
                  <a:pt x="589" y="335"/>
                </a:lnTo>
                <a:lnTo>
                  <a:pt x="582" y="347"/>
                </a:lnTo>
                <a:lnTo>
                  <a:pt x="571" y="364"/>
                </a:lnTo>
                <a:lnTo>
                  <a:pt x="559" y="390"/>
                </a:lnTo>
                <a:lnTo>
                  <a:pt x="545" y="423"/>
                </a:lnTo>
                <a:lnTo>
                  <a:pt x="532" y="466"/>
                </a:lnTo>
                <a:lnTo>
                  <a:pt x="518" y="517"/>
                </a:lnTo>
                <a:lnTo>
                  <a:pt x="461" y="752"/>
                </a:lnTo>
                <a:lnTo>
                  <a:pt x="609" y="709"/>
                </a:lnTo>
                <a:lnTo>
                  <a:pt x="615" y="707"/>
                </a:lnTo>
                <a:lnTo>
                  <a:pt x="628" y="704"/>
                </a:lnTo>
                <a:lnTo>
                  <a:pt x="651" y="697"/>
                </a:lnTo>
                <a:lnTo>
                  <a:pt x="678" y="686"/>
                </a:lnTo>
                <a:lnTo>
                  <a:pt x="708" y="676"/>
                </a:lnTo>
                <a:lnTo>
                  <a:pt x="740" y="662"/>
                </a:lnTo>
                <a:lnTo>
                  <a:pt x="772" y="649"/>
                </a:lnTo>
                <a:lnTo>
                  <a:pt x="801" y="633"/>
                </a:lnTo>
                <a:lnTo>
                  <a:pt x="911" y="561"/>
                </a:lnTo>
                <a:lnTo>
                  <a:pt x="917" y="269"/>
                </a:lnTo>
                <a:lnTo>
                  <a:pt x="915" y="261"/>
                </a:lnTo>
                <a:lnTo>
                  <a:pt x="910" y="240"/>
                </a:lnTo>
                <a:lnTo>
                  <a:pt x="904" y="212"/>
                </a:lnTo>
                <a:lnTo>
                  <a:pt x="898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143840" y="1406520"/>
            <a:ext cx="149040" cy="49320"/>
          </a:xfrm>
          <a:custGeom>
            <a:avLst/>
            <a:gdLst/>
            <a:ahLst/>
            <a:rect l="l" t="t" r="r" b="b"/>
            <a:pathLst>
              <a:path w="188" h="62">
                <a:moveTo>
                  <a:pt x="0" y="58"/>
                </a:moveTo>
                <a:lnTo>
                  <a:pt x="188" y="0"/>
                </a:lnTo>
                <a:lnTo>
                  <a:pt x="145" y="6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283520" y="1422360"/>
            <a:ext cx="54000" cy="171360"/>
          </a:xfrm>
          <a:custGeom>
            <a:avLst/>
            <a:gdLst/>
            <a:ahLst/>
            <a:rect l="l" t="t" r="r" b="b"/>
            <a:pathLst>
              <a:path w="67" h="215">
                <a:moveTo>
                  <a:pt x="0" y="62"/>
                </a:moveTo>
                <a:lnTo>
                  <a:pt x="43" y="0"/>
                </a:lnTo>
                <a:lnTo>
                  <a:pt x="67" y="215"/>
                </a:lnTo>
                <a:lnTo>
                  <a:pt x="65" y="210"/>
                </a:lnTo>
                <a:lnTo>
                  <a:pt x="62" y="195"/>
                </a:lnTo>
                <a:lnTo>
                  <a:pt x="55" y="172"/>
                </a:lnTo>
                <a:lnTo>
                  <a:pt x="46" y="146"/>
                </a:lnTo>
                <a:lnTo>
                  <a:pt x="36" y="119"/>
                </a:lnTo>
                <a:lnTo>
                  <a:pt x="26" y="95"/>
                </a:lnTo>
                <a:lnTo>
                  <a:pt x="12" y="74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184880" y="1490760"/>
            <a:ext cx="114480" cy="198360"/>
          </a:xfrm>
          <a:custGeom>
            <a:avLst/>
            <a:gdLst/>
            <a:ahLst/>
            <a:rect l="l" t="t" r="r" b="b"/>
            <a:pathLst>
              <a:path w="143" h="250">
                <a:moveTo>
                  <a:pt x="91" y="0"/>
                </a:moveTo>
                <a:lnTo>
                  <a:pt x="143" y="183"/>
                </a:lnTo>
                <a:lnTo>
                  <a:pt x="43" y="250"/>
                </a:lnTo>
                <a:lnTo>
                  <a:pt x="0" y="86"/>
                </a:lnTo>
                <a:lnTo>
                  <a:pt x="91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078680" y="1490760"/>
            <a:ext cx="125280" cy="81000"/>
          </a:xfrm>
          <a:custGeom>
            <a:avLst/>
            <a:gdLst/>
            <a:ahLst/>
            <a:rect l="l" t="t" r="r" b="b"/>
            <a:pathLst>
              <a:path w="159" h="102">
                <a:moveTo>
                  <a:pt x="159" y="5"/>
                </a:moveTo>
                <a:lnTo>
                  <a:pt x="54" y="0"/>
                </a:lnTo>
                <a:lnTo>
                  <a:pt x="52" y="3"/>
                </a:lnTo>
                <a:lnTo>
                  <a:pt x="45" y="10"/>
                </a:lnTo>
                <a:lnTo>
                  <a:pt x="36" y="22"/>
                </a:lnTo>
                <a:lnTo>
                  <a:pt x="28" y="36"/>
                </a:lnTo>
                <a:lnTo>
                  <a:pt x="17" y="52"/>
                </a:lnTo>
                <a:lnTo>
                  <a:pt x="9" y="69"/>
                </a:lnTo>
                <a:lnTo>
                  <a:pt x="2" y="86"/>
                </a:lnTo>
                <a:lnTo>
                  <a:pt x="0" y="102"/>
                </a:lnTo>
                <a:lnTo>
                  <a:pt x="116" y="72"/>
                </a:lnTo>
                <a:lnTo>
                  <a:pt x="159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048440" y="1590840"/>
            <a:ext cx="84240" cy="120600"/>
          </a:xfrm>
          <a:custGeom>
            <a:avLst/>
            <a:gdLst/>
            <a:ahLst/>
            <a:rect l="l" t="t" r="r" b="b"/>
            <a:pathLst>
              <a:path w="105" h="152">
                <a:moveTo>
                  <a:pt x="33" y="14"/>
                </a:moveTo>
                <a:lnTo>
                  <a:pt x="105" y="0"/>
                </a:lnTo>
                <a:lnTo>
                  <a:pt x="0" y="152"/>
                </a:lnTo>
                <a:lnTo>
                  <a:pt x="33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043760" y="1695600"/>
            <a:ext cx="61920" cy="58680"/>
          </a:xfrm>
          <a:custGeom>
            <a:avLst/>
            <a:gdLst/>
            <a:ahLst/>
            <a:rect l="l" t="t" r="r" b="b"/>
            <a:pathLst>
              <a:path w="78" h="72">
                <a:moveTo>
                  <a:pt x="0" y="72"/>
                </a:moveTo>
                <a:lnTo>
                  <a:pt x="53" y="0"/>
                </a:lnTo>
                <a:lnTo>
                  <a:pt x="78" y="53"/>
                </a:lnTo>
                <a:lnTo>
                  <a:pt x="0" y="7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113600" y="1601640"/>
            <a:ext cx="68400" cy="125640"/>
          </a:xfrm>
          <a:custGeom>
            <a:avLst/>
            <a:gdLst/>
            <a:ahLst/>
            <a:rect l="l" t="t" r="r" b="b"/>
            <a:pathLst>
              <a:path w="86" h="158">
                <a:moveTo>
                  <a:pt x="0" y="76"/>
                </a:moveTo>
                <a:lnTo>
                  <a:pt x="54" y="0"/>
                </a:lnTo>
                <a:lnTo>
                  <a:pt x="86" y="138"/>
                </a:lnTo>
                <a:lnTo>
                  <a:pt x="24" y="158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108920" y="1351080"/>
            <a:ext cx="185760" cy="71280"/>
          </a:xfrm>
          <a:custGeom>
            <a:avLst/>
            <a:gdLst/>
            <a:ahLst/>
            <a:rect l="l" t="t" r="r" b="b"/>
            <a:pathLst>
              <a:path w="235" h="90">
                <a:moveTo>
                  <a:pt x="34" y="0"/>
                </a:moveTo>
                <a:lnTo>
                  <a:pt x="235" y="0"/>
                </a:lnTo>
                <a:lnTo>
                  <a:pt x="229" y="4"/>
                </a:lnTo>
                <a:lnTo>
                  <a:pt x="216" y="12"/>
                </a:lnTo>
                <a:lnTo>
                  <a:pt x="192" y="24"/>
                </a:lnTo>
                <a:lnTo>
                  <a:pt x="162" y="40"/>
                </a:lnTo>
                <a:lnTo>
                  <a:pt x="128" y="55"/>
                </a:lnTo>
                <a:lnTo>
                  <a:pt x="88" y="69"/>
                </a:lnTo>
                <a:lnTo>
                  <a:pt x="45" y="81"/>
                </a:lnTo>
                <a:lnTo>
                  <a:pt x="0" y="90"/>
                </a:lnTo>
                <a:lnTo>
                  <a:pt x="3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77080" y="1351080"/>
            <a:ext cx="228600" cy="109440"/>
          </a:xfrm>
          <a:custGeom>
            <a:avLst/>
            <a:gdLst/>
            <a:ahLst/>
            <a:rect l="l" t="t" r="r" b="b"/>
            <a:pathLst>
              <a:path w="289" h="138">
                <a:moveTo>
                  <a:pt x="289" y="0"/>
                </a:moveTo>
                <a:lnTo>
                  <a:pt x="206" y="109"/>
                </a:lnTo>
                <a:lnTo>
                  <a:pt x="201" y="110"/>
                </a:lnTo>
                <a:lnTo>
                  <a:pt x="188" y="114"/>
                </a:lnTo>
                <a:lnTo>
                  <a:pt x="168" y="119"/>
                </a:lnTo>
                <a:lnTo>
                  <a:pt x="140" y="126"/>
                </a:lnTo>
                <a:lnTo>
                  <a:pt x="109" y="131"/>
                </a:lnTo>
                <a:lnTo>
                  <a:pt x="75" y="136"/>
                </a:lnTo>
                <a:lnTo>
                  <a:pt x="38" y="138"/>
                </a:lnTo>
                <a:lnTo>
                  <a:pt x="0" y="138"/>
                </a:lnTo>
                <a:lnTo>
                  <a:pt x="116" y="0"/>
                </a:lnTo>
                <a:lnTo>
                  <a:pt x="28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765840" y="1368360"/>
            <a:ext cx="127080" cy="92160"/>
          </a:xfrm>
          <a:custGeom>
            <a:avLst/>
            <a:gdLst/>
            <a:ahLst/>
            <a:rect l="l" t="t" r="r" b="b"/>
            <a:pathLst>
              <a:path w="158" h="115">
                <a:moveTo>
                  <a:pt x="158" y="0"/>
                </a:moveTo>
                <a:lnTo>
                  <a:pt x="96" y="110"/>
                </a:lnTo>
                <a:lnTo>
                  <a:pt x="93" y="112"/>
                </a:lnTo>
                <a:lnTo>
                  <a:pt x="86" y="113"/>
                </a:lnTo>
                <a:lnTo>
                  <a:pt x="74" y="115"/>
                </a:lnTo>
                <a:lnTo>
                  <a:pt x="58" y="115"/>
                </a:lnTo>
                <a:lnTo>
                  <a:pt x="43" y="113"/>
                </a:lnTo>
                <a:lnTo>
                  <a:pt x="27" y="108"/>
                </a:lnTo>
                <a:lnTo>
                  <a:pt x="12" y="98"/>
                </a:lnTo>
                <a:lnTo>
                  <a:pt x="0" y="82"/>
                </a:lnTo>
                <a:lnTo>
                  <a:pt x="1" y="79"/>
                </a:lnTo>
                <a:lnTo>
                  <a:pt x="3" y="72"/>
                </a:lnTo>
                <a:lnTo>
                  <a:pt x="8" y="62"/>
                </a:lnTo>
                <a:lnTo>
                  <a:pt x="13" y="50"/>
                </a:lnTo>
                <a:lnTo>
                  <a:pt x="22" y="36"/>
                </a:lnTo>
                <a:lnTo>
                  <a:pt x="32" y="24"/>
                </a:lnTo>
                <a:lnTo>
                  <a:pt x="44" y="13"/>
                </a:lnTo>
                <a:lnTo>
                  <a:pt x="58" y="5"/>
                </a:lnTo>
                <a:lnTo>
                  <a:pt x="158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86640" y="1368360"/>
            <a:ext cx="65160" cy="61920"/>
          </a:xfrm>
          <a:custGeom>
            <a:avLst/>
            <a:gdLst/>
            <a:ahLst/>
            <a:rect l="l" t="t" r="r" b="b"/>
            <a:pathLst>
              <a:path w="82" h="77">
                <a:moveTo>
                  <a:pt x="82" y="0"/>
                </a:moveTo>
                <a:lnTo>
                  <a:pt x="0" y="20"/>
                </a:lnTo>
                <a:lnTo>
                  <a:pt x="2" y="22"/>
                </a:lnTo>
                <a:lnTo>
                  <a:pt x="4" y="27"/>
                </a:lnTo>
                <a:lnTo>
                  <a:pt x="9" y="34"/>
                </a:lnTo>
                <a:lnTo>
                  <a:pt x="14" y="43"/>
                </a:lnTo>
                <a:lnTo>
                  <a:pt x="21" y="53"/>
                </a:lnTo>
                <a:lnTo>
                  <a:pt x="32" y="62"/>
                </a:lnTo>
                <a:lnTo>
                  <a:pt x="42" y="70"/>
                </a:lnTo>
                <a:lnTo>
                  <a:pt x="54" y="77"/>
                </a:lnTo>
                <a:lnTo>
                  <a:pt x="59" y="75"/>
                </a:lnTo>
                <a:lnTo>
                  <a:pt x="68" y="65"/>
                </a:lnTo>
                <a:lnTo>
                  <a:pt x="78" y="43"/>
                </a:lnTo>
                <a:lnTo>
                  <a:pt x="8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94560" y="1319040"/>
            <a:ext cx="60120" cy="24120"/>
          </a:xfrm>
          <a:custGeom>
            <a:avLst/>
            <a:gdLst/>
            <a:ahLst/>
            <a:rect l="l" t="t" r="r" b="b"/>
            <a:pathLst>
              <a:path w="76" h="30">
                <a:moveTo>
                  <a:pt x="0" y="30"/>
                </a:moveTo>
                <a:lnTo>
                  <a:pt x="71" y="0"/>
                </a:lnTo>
                <a:lnTo>
                  <a:pt x="76" y="19"/>
                </a:lnTo>
                <a:lnTo>
                  <a:pt x="0" y="3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800760" y="1270080"/>
            <a:ext cx="114480" cy="57240"/>
          </a:xfrm>
          <a:custGeom>
            <a:avLst/>
            <a:gdLst/>
            <a:ahLst/>
            <a:rect l="l" t="t" r="r" b="b"/>
            <a:pathLst>
              <a:path w="145" h="73">
                <a:moveTo>
                  <a:pt x="0" y="73"/>
                </a:moveTo>
                <a:lnTo>
                  <a:pt x="0" y="35"/>
                </a:lnTo>
                <a:lnTo>
                  <a:pt x="1" y="35"/>
                </a:lnTo>
                <a:lnTo>
                  <a:pt x="8" y="31"/>
                </a:lnTo>
                <a:lnTo>
                  <a:pt x="19" y="28"/>
                </a:lnTo>
                <a:lnTo>
                  <a:pt x="31" y="23"/>
                </a:lnTo>
                <a:lnTo>
                  <a:pt x="45" y="18"/>
                </a:lnTo>
                <a:lnTo>
                  <a:pt x="58" y="12"/>
                </a:lnTo>
                <a:lnTo>
                  <a:pt x="72" y="6"/>
                </a:lnTo>
                <a:lnTo>
                  <a:pt x="86" y="0"/>
                </a:lnTo>
                <a:lnTo>
                  <a:pt x="145" y="73"/>
                </a:lnTo>
                <a:lnTo>
                  <a:pt x="0" y="7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904080" y="1231920"/>
            <a:ext cx="204840" cy="92160"/>
          </a:xfrm>
          <a:custGeom>
            <a:avLst/>
            <a:gdLst/>
            <a:ahLst/>
            <a:rect l="l" t="t" r="r" b="b"/>
            <a:pathLst>
              <a:path w="259" h="116">
                <a:moveTo>
                  <a:pt x="102" y="110"/>
                </a:moveTo>
                <a:lnTo>
                  <a:pt x="0" y="40"/>
                </a:lnTo>
                <a:lnTo>
                  <a:pt x="2" y="38"/>
                </a:lnTo>
                <a:lnTo>
                  <a:pt x="10" y="35"/>
                </a:lnTo>
                <a:lnTo>
                  <a:pt x="21" y="29"/>
                </a:lnTo>
                <a:lnTo>
                  <a:pt x="38" y="22"/>
                </a:lnTo>
                <a:lnTo>
                  <a:pt x="57" y="16"/>
                </a:lnTo>
                <a:lnTo>
                  <a:pt x="81" y="9"/>
                </a:lnTo>
                <a:lnTo>
                  <a:pt x="109" y="4"/>
                </a:lnTo>
                <a:lnTo>
                  <a:pt x="140" y="0"/>
                </a:lnTo>
                <a:lnTo>
                  <a:pt x="259" y="116"/>
                </a:lnTo>
                <a:lnTo>
                  <a:pt x="102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074000" y="1227240"/>
            <a:ext cx="203040" cy="96840"/>
          </a:xfrm>
          <a:custGeom>
            <a:avLst/>
            <a:gdLst/>
            <a:ahLst/>
            <a:rect l="l" t="t" r="r" b="b"/>
            <a:pathLst>
              <a:path w="255" h="123">
                <a:moveTo>
                  <a:pt x="0" y="4"/>
                </a:moveTo>
                <a:lnTo>
                  <a:pt x="3" y="4"/>
                </a:lnTo>
                <a:lnTo>
                  <a:pt x="15" y="2"/>
                </a:lnTo>
                <a:lnTo>
                  <a:pt x="31" y="2"/>
                </a:lnTo>
                <a:lnTo>
                  <a:pt x="52" y="0"/>
                </a:lnTo>
                <a:lnTo>
                  <a:pt x="76" y="2"/>
                </a:lnTo>
                <a:lnTo>
                  <a:pt x="100" y="4"/>
                </a:lnTo>
                <a:lnTo>
                  <a:pt x="122" y="7"/>
                </a:lnTo>
                <a:lnTo>
                  <a:pt x="145" y="12"/>
                </a:lnTo>
                <a:lnTo>
                  <a:pt x="148" y="14"/>
                </a:lnTo>
                <a:lnTo>
                  <a:pt x="155" y="17"/>
                </a:lnTo>
                <a:lnTo>
                  <a:pt x="169" y="24"/>
                </a:lnTo>
                <a:lnTo>
                  <a:pt x="184" y="35"/>
                </a:lnTo>
                <a:lnTo>
                  <a:pt x="202" y="50"/>
                </a:lnTo>
                <a:lnTo>
                  <a:pt x="219" y="69"/>
                </a:lnTo>
                <a:lnTo>
                  <a:pt x="238" y="93"/>
                </a:lnTo>
                <a:lnTo>
                  <a:pt x="255" y="123"/>
                </a:lnTo>
                <a:lnTo>
                  <a:pt x="110" y="123"/>
                </a:lnTo>
                <a:lnTo>
                  <a:pt x="0" y="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05600" y="1038240"/>
            <a:ext cx="165240" cy="88920"/>
          </a:xfrm>
          <a:custGeom>
            <a:avLst/>
            <a:gdLst/>
            <a:ahLst/>
            <a:rect l="l" t="t" r="r" b="b"/>
            <a:pathLst>
              <a:path w="207" h="110">
                <a:moveTo>
                  <a:pt x="207" y="110"/>
                </a:moveTo>
                <a:lnTo>
                  <a:pt x="205" y="107"/>
                </a:lnTo>
                <a:lnTo>
                  <a:pt x="200" y="100"/>
                </a:lnTo>
                <a:lnTo>
                  <a:pt x="191" y="90"/>
                </a:lnTo>
                <a:lnTo>
                  <a:pt x="179" y="74"/>
                </a:lnTo>
                <a:lnTo>
                  <a:pt x="165" y="57"/>
                </a:lnTo>
                <a:lnTo>
                  <a:pt x="150" y="40"/>
                </a:lnTo>
                <a:lnTo>
                  <a:pt x="132" y="19"/>
                </a:lnTo>
                <a:lnTo>
                  <a:pt x="115" y="0"/>
                </a:lnTo>
                <a:lnTo>
                  <a:pt x="0" y="0"/>
                </a:lnTo>
                <a:lnTo>
                  <a:pt x="5" y="3"/>
                </a:lnTo>
                <a:lnTo>
                  <a:pt x="17" y="10"/>
                </a:lnTo>
                <a:lnTo>
                  <a:pt x="38" y="24"/>
                </a:lnTo>
                <a:lnTo>
                  <a:pt x="63" y="40"/>
                </a:lnTo>
                <a:lnTo>
                  <a:pt x="94" y="57"/>
                </a:lnTo>
                <a:lnTo>
                  <a:pt x="131" y="74"/>
                </a:lnTo>
                <a:lnTo>
                  <a:pt x="167" y="93"/>
                </a:lnTo>
                <a:lnTo>
                  <a:pt x="207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926400" y="958680"/>
            <a:ext cx="145800" cy="41400"/>
          </a:xfrm>
          <a:custGeom>
            <a:avLst/>
            <a:gdLst/>
            <a:ahLst/>
            <a:rect l="l" t="t" r="r" b="b"/>
            <a:pathLst>
              <a:path w="183" h="54">
                <a:moveTo>
                  <a:pt x="183" y="54"/>
                </a:moveTo>
                <a:lnTo>
                  <a:pt x="144" y="0"/>
                </a:lnTo>
                <a:lnTo>
                  <a:pt x="0" y="5"/>
                </a:lnTo>
                <a:lnTo>
                  <a:pt x="2" y="7"/>
                </a:lnTo>
                <a:lnTo>
                  <a:pt x="11" y="14"/>
                </a:lnTo>
                <a:lnTo>
                  <a:pt x="25" y="28"/>
                </a:lnTo>
                <a:lnTo>
                  <a:pt x="49" y="48"/>
                </a:lnTo>
                <a:lnTo>
                  <a:pt x="183" y="5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902280" y="893880"/>
            <a:ext cx="115920" cy="34920"/>
          </a:xfrm>
          <a:custGeom>
            <a:avLst/>
            <a:gdLst/>
            <a:ahLst/>
            <a:rect l="l" t="t" r="r" b="b"/>
            <a:pathLst>
              <a:path w="147" h="43">
                <a:moveTo>
                  <a:pt x="147" y="43"/>
                </a:moveTo>
                <a:lnTo>
                  <a:pt x="107" y="0"/>
                </a:lnTo>
                <a:lnTo>
                  <a:pt x="2" y="0"/>
                </a:lnTo>
                <a:lnTo>
                  <a:pt x="0" y="2"/>
                </a:lnTo>
                <a:lnTo>
                  <a:pt x="0" y="9"/>
                </a:lnTo>
                <a:lnTo>
                  <a:pt x="6" y="21"/>
                </a:lnTo>
                <a:lnTo>
                  <a:pt x="18" y="38"/>
                </a:lnTo>
                <a:lnTo>
                  <a:pt x="147" y="4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961320" y="814320"/>
            <a:ext cx="98280" cy="9864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24" y="33"/>
                </a:moveTo>
                <a:lnTo>
                  <a:pt x="0" y="0"/>
                </a:lnTo>
                <a:lnTo>
                  <a:pt x="81" y="38"/>
                </a:lnTo>
                <a:lnTo>
                  <a:pt x="88" y="45"/>
                </a:lnTo>
                <a:lnTo>
                  <a:pt x="103" y="62"/>
                </a:lnTo>
                <a:lnTo>
                  <a:pt x="117" y="90"/>
                </a:lnTo>
                <a:lnTo>
                  <a:pt x="124" y="124"/>
                </a:lnTo>
                <a:lnTo>
                  <a:pt x="24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67520" y="906480"/>
            <a:ext cx="65160" cy="101520"/>
          </a:xfrm>
          <a:custGeom>
            <a:avLst/>
            <a:gdLst/>
            <a:ahLst/>
            <a:rect l="l" t="t" r="r" b="b"/>
            <a:pathLst>
              <a:path w="81" h="129">
                <a:moveTo>
                  <a:pt x="0" y="38"/>
                </a:moveTo>
                <a:lnTo>
                  <a:pt x="19" y="0"/>
                </a:lnTo>
                <a:lnTo>
                  <a:pt x="21" y="1"/>
                </a:lnTo>
                <a:lnTo>
                  <a:pt x="26" y="3"/>
                </a:lnTo>
                <a:lnTo>
                  <a:pt x="33" y="10"/>
                </a:lnTo>
                <a:lnTo>
                  <a:pt x="42" y="17"/>
                </a:lnTo>
                <a:lnTo>
                  <a:pt x="50" y="29"/>
                </a:lnTo>
                <a:lnTo>
                  <a:pt x="61" y="44"/>
                </a:lnTo>
                <a:lnTo>
                  <a:pt x="71" y="63"/>
                </a:lnTo>
                <a:lnTo>
                  <a:pt x="81" y="86"/>
                </a:lnTo>
                <a:lnTo>
                  <a:pt x="68" y="129"/>
                </a:lnTo>
                <a:lnTo>
                  <a:pt x="66" y="126"/>
                </a:lnTo>
                <a:lnTo>
                  <a:pt x="61" y="117"/>
                </a:lnTo>
                <a:lnTo>
                  <a:pt x="52" y="105"/>
                </a:lnTo>
                <a:lnTo>
                  <a:pt x="43" y="91"/>
                </a:lnTo>
                <a:lnTo>
                  <a:pt x="31" y="76"/>
                </a:lnTo>
                <a:lnTo>
                  <a:pt x="21" y="60"/>
                </a:lnTo>
                <a:lnTo>
                  <a:pt x="11" y="46"/>
                </a:lnTo>
                <a:lnTo>
                  <a:pt x="0" y="3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143840" y="1004760"/>
            <a:ext cx="30240" cy="74880"/>
          </a:xfrm>
          <a:custGeom>
            <a:avLst/>
            <a:gdLst/>
            <a:ahLst/>
            <a:rect l="l" t="t" r="r" b="b"/>
            <a:pathLst>
              <a:path w="40" h="95">
                <a:moveTo>
                  <a:pt x="0" y="33"/>
                </a:moveTo>
                <a:lnTo>
                  <a:pt x="10" y="0"/>
                </a:lnTo>
                <a:lnTo>
                  <a:pt x="40" y="95"/>
                </a:lnTo>
                <a:lnTo>
                  <a:pt x="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283520" y="1027080"/>
            <a:ext cx="42840" cy="84240"/>
          </a:xfrm>
          <a:custGeom>
            <a:avLst/>
            <a:gdLst/>
            <a:ahLst/>
            <a:rect l="l" t="t" r="r" b="b"/>
            <a:pathLst>
              <a:path w="53" h="107">
                <a:moveTo>
                  <a:pt x="19" y="0"/>
                </a:moveTo>
                <a:lnTo>
                  <a:pt x="24" y="7"/>
                </a:lnTo>
                <a:lnTo>
                  <a:pt x="34" y="30"/>
                </a:lnTo>
                <a:lnTo>
                  <a:pt x="46" y="64"/>
                </a:lnTo>
                <a:lnTo>
                  <a:pt x="53" y="107"/>
                </a:lnTo>
                <a:lnTo>
                  <a:pt x="0" y="97"/>
                </a:lnTo>
                <a:lnTo>
                  <a:pt x="0" y="87"/>
                </a:lnTo>
                <a:lnTo>
                  <a:pt x="0" y="61"/>
                </a:lnTo>
                <a:lnTo>
                  <a:pt x="5" y="30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280280" y="1128600"/>
            <a:ext cx="65160" cy="108000"/>
          </a:xfrm>
          <a:custGeom>
            <a:avLst/>
            <a:gdLst/>
            <a:ahLst/>
            <a:rect l="l" t="t" r="r" b="b"/>
            <a:pathLst>
              <a:path w="83" h="134">
                <a:moveTo>
                  <a:pt x="0" y="0"/>
                </a:moveTo>
                <a:lnTo>
                  <a:pt x="67" y="24"/>
                </a:lnTo>
                <a:lnTo>
                  <a:pt x="83" y="134"/>
                </a:lnTo>
                <a:lnTo>
                  <a:pt x="81" y="134"/>
                </a:lnTo>
                <a:lnTo>
                  <a:pt x="74" y="131"/>
                </a:lnTo>
                <a:lnTo>
                  <a:pt x="65" y="124"/>
                </a:lnTo>
                <a:lnTo>
                  <a:pt x="55" y="112"/>
                </a:lnTo>
                <a:lnTo>
                  <a:pt x="41" y="95"/>
                </a:lnTo>
                <a:lnTo>
                  <a:pt x="27" y="72"/>
                </a:lnTo>
                <a:lnTo>
                  <a:pt x="13" y="3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375680" y="1111320"/>
            <a:ext cx="60120" cy="133200"/>
          </a:xfrm>
          <a:custGeom>
            <a:avLst/>
            <a:gdLst/>
            <a:ahLst/>
            <a:rect l="l" t="t" r="r" b="b"/>
            <a:pathLst>
              <a:path w="76" h="168">
                <a:moveTo>
                  <a:pt x="0" y="168"/>
                </a:moveTo>
                <a:lnTo>
                  <a:pt x="0" y="47"/>
                </a:lnTo>
                <a:lnTo>
                  <a:pt x="76" y="0"/>
                </a:lnTo>
                <a:lnTo>
                  <a:pt x="73" y="5"/>
                </a:lnTo>
                <a:lnTo>
                  <a:pt x="64" y="21"/>
                </a:lnTo>
                <a:lnTo>
                  <a:pt x="52" y="42"/>
                </a:lnTo>
                <a:lnTo>
                  <a:pt x="38" y="68"/>
                </a:lnTo>
                <a:lnTo>
                  <a:pt x="25" y="95"/>
                </a:lnTo>
                <a:lnTo>
                  <a:pt x="13" y="123"/>
                </a:lnTo>
                <a:lnTo>
                  <a:pt x="4" y="149"/>
                </a:lnTo>
                <a:lnTo>
                  <a:pt x="0" y="16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342200" y="1042920"/>
            <a:ext cx="60480" cy="795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28" y="100"/>
                </a:moveTo>
                <a:lnTo>
                  <a:pt x="0" y="0"/>
                </a:lnTo>
                <a:lnTo>
                  <a:pt x="4" y="2"/>
                </a:lnTo>
                <a:lnTo>
                  <a:pt x="11" y="7"/>
                </a:lnTo>
                <a:lnTo>
                  <a:pt x="21" y="14"/>
                </a:lnTo>
                <a:lnTo>
                  <a:pt x="33" y="24"/>
                </a:lnTo>
                <a:lnTo>
                  <a:pt x="47" y="35"/>
                </a:lnTo>
                <a:lnTo>
                  <a:pt x="59" y="45"/>
                </a:lnTo>
                <a:lnTo>
                  <a:pt x="69" y="54"/>
                </a:lnTo>
                <a:lnTo>
                  <a:pt x="76" y="62"/>
                </a:lnTo>
                <a:lnTo>
                  <a:pt x="28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894360" y="820800"/>
            <a:ext cx="69840" cy="54000"/>
          </a:xfrm>
          <a:custGeom>
            <a:avLst/>
            <a:gdLst/>
            <a:ahLst/>
            <a:rect l="l" t="t" r="r" b="b"/>
            <a:pathLst>
              <a:path w="90" h="67">
                <a:moveTo>
                  <a:pt x="90" y="58"/>
                </a:moveTo>
                <a:lnTo>
                  <a:pt x="88" y="57"/>
                </a:lnTo>
                <a:lnTo>
                  <a:pt x="83" y="51"/>
                </a:lnTo>
                <a:lnTo>
                  <a:pt x="76" y="45"/>
                </a:lnTo>
                <a:lnTo>
                  <a:pt x="66" y="34"/>
                </a:lnTo>
                <a:lnTo>
                  <a:pt x="54" y="26"/>
                </a:lnTo>
                <a:lnTo>
                  <a:pt x="41" y="15"/>
                </a:lnTo>
                <a:lnTo>
                  <a:pt x="28" y="7"/>
                </a:lnTo>
                <a:lnTo>
                  <a:pt x="12" y="0"/>
                </a:lnTo>
                <a:lnTo>
                  <a:pt x="9" y="7"/>
                </a:lnTo>
                <a:lnTo>
                  <a:pt x="4" y="22"/>
                </a:lnTo>
                <a:lnTo>
                  <a:pt x="0" y="45"/>
                </a:lnTo>
                <a:lnTo>
                  <a:pt x="9" y="67"/>
                </a:lnTo>
                <a:lnTo>
                  <a:pt x="90" y="5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283520" y="331920"/>
            <a:ext cx="1119240" cy="760320"/>
          </a:xfrm>
          <a:custGeom>
            <a:avLst/>
            <a:gdLst/>
            <a:ahLst/>
            <a:rect l="l" t="t" r="r" b="b"/>
            <a:pathLst>
              <a:path w="1408" h="959">
                <a:moveTo>
                  <a:pt x="640" y="930"/>
                </a:moveTo>
                <a:lnTo>
                  <a:pt x="644" y="932"/>
                </a:lnTo>
                <a:lnTo>
                  <a:pt x="654" y="935"/>
                </a:lnTo>
                <a:lnTo>
                  <a:pt x="668" y="940"/>
                </a:lnTo>
                <a:lnTo>
                  <a:pt x="687" y="945"/>
                </a:lnTo>
                <a:lnTo>
                  <a:pt x="709" y="951"/>
                </a:lnTo>
                <a:lnTo>
                  <a:pt x="733" y="956"/>
                </a:lnTo>
                <a:lnTo>
                  <a:pt x="759" y="959"/>
                </a:lnTo>
                <a:lnTo>
                  <a:pt x="785" y="959"/>
                </a:lnTo>
                <a:lnTo>
                  <a:pt x="790" y="959"/>
                </a:lnTo>
                <a:lnTo>
                  <a:pt x="807" y="957"/>
                </a:lnTo>
                <a:lnTo>
                  <a:pt x="832" y="952"/>
                </a:lnTo>
                <a:lnTo>
                  <a:pt x="864" y="947"/>
                </a:lnTo>
                <a:lnTo>
                  <a:pt x="901" y="938"/>
                </a:lnTo>
                <a:lnTo>
                  <a:pt x="940" y="926"/>
                </a:lnTo>
                <a:lnTo>
                  <a:pt x="983" y="911"/>
                </a:lnTo>
                <a:lnTo>
                  <a:pt x="1025" y="892"/>
                </a:lnTo>
                <a:lnTo>
                  <a:pt x="1030" y="888"/>
                </a:lnTo>
                <a:lnTo>
                  <a:pt x="1046" y="878"/>
                </a:lnTo>
                <a:lnTo>
                  <a:pt x="1066" y="861"/>
                </a:lnTo>
                <a:lnTo>
                  <a:pt x="1096" y="837"/>
                </a:lnTo>
                <a:lnTo>
                  <a:pt x="1127" y="807"/>
                </a:lnTo>
                <a:lnTo>
                  <a:pt x="1161" y="771"/>
                </a:lnTo>
                <a:lnTo>
                  <a:pt x="1197" y="732"/>
                </a:lnTo>
                <a:lnTo>
                  <a:pt x="1230" y="685"/>
                </a:lnTo>
                <a:lnTo>
                  <a:pt x="1408" y="312"/>
                </a:lnTo>
                <a:lnTo>
                  <a:pt x="1401" y="312"/>
                </a:lnTo>
                <a:lnTo>
                  <a:pt x="1382" y="314"/>
                </a:lnTo>
                <a:lnTo>
                  <a:pt x="1353" y="316"/>
                </a:lnTo>
                <a:lnTo>
                  <a:pt x="1315" y="318"/>
                </a:lnTo>
                <a:lnTo>
                  <a:pt x="1272" y="323"/>
                </a:lnTo>
                <a:lnTo>
                  <a:pt x="1227" y="330"/>
                </a:lnTo>
                <a:lnTo>
                  <a:pt x="1182" y="338"/>
                </a:lnTo>
                <a:lnTo>
                  <a:pt x="1139" y="350"/>
                </a:lnTo>
                <a:lnTo>
                  <a:pt x="1134" y="352"/>
                </a:lnTo>
                <a:lnTo>
                  <a:pt x="1118" y="356"/>
                </a:lnTo>
                <a:lnTo>
                  <a:pt x="1096" y="362"/>
                </a:lnTo>
                <a:lnTo>
                  <a:pt x="1066" y="373"/>
                </a:lnTo>
                <a:lnTo>
                  <a:pt x="1034" y="387"/>
                </a:lnTo>
                <a:lnTo>
                  <a:pt x="999" y="402"/>
                </a:lnTo>
                <a:lnTo>
                  <a:pt x="966" y="423"/>
                </a:lnTo>
                <a:lnTo>
                  <a:pt x="933" y="445"/>
                </a:lnTo>
                <a:lnTo>
                  <a:pt x="930" y="449"/>
                </a:lnTo>
                <a:lnTo>
                  <a:pt x="921" y="456"/>
                </a:lnTo>
                <a:lnTo>
                  <a:pt x="908" y="468"/>
                </a:lnTo>
                <a:lnTo>
                  <a:pt x="892" y="483"/>
                </a:lnTo>
                <a:lnTo>
                  <a:pt x="875" y="499"/>
                </a:lnTo>
                <a:lnTo>
                  <a:pt x="858" y="514"/>
                </a:lnTo>
                <a:lnTo>
                  <a:pt x="844" y="530"/>
                </a:lnTo>
                <a:lnTo>
                  <a:pt x="832" y="542"/>
                </a:lnTo>
                <a:lnTo>
                  <a:pt x="830" y="523"/>
                </a:lnTo>
                <a:lnTo>
                  <a:pt x="825" y="469"/>
                </a:lnTo>
                <a:lnTo>
                  <a:pt x="814" y="397"/>
                </a:lnTo>
                <a:lnTo>
                  <a:pt x="799" y="316"/>
                </a:lnTo>
                <a:lnTo>
                  <a:pt x="797" y="307"/>
                </a:lnTo>
                <a:lnTo>
                  <a:pt x="792" y="285"/>
                </a:lnTo>
                <a:lnTo>
                  <a:pt x="783" y="250"/>
                </a:lnTo>
                <a:lnTo>
                  <a:pt x="770" y="207"/>
                </a:lnTo>
                <a:lnTo>
                  <a:pt x="749" y="157"/>
                </a:lnTo>
                <a:lnTo>
                  <a:pt x="725" y="104"/>
                </a:lnTo>
                <a:lnTo>
                  <a:pt x="694" y="50"/>
                </a:lnTo>
                <a:lnTo>
                  <a:pt x="656" y="0"/>
                </a:lnTo>
                <a:lnTo>
                  <a:pt x="652" y="4"/>
                </a:lnTo>
                <a:lnTo>
                  <a:pt x="642" y="11"/>
                </a:lnTo>
                <a:lnTo>
                  <a:pt x="628" y="24"/>
                </a:lnTo>
                <a:lnTo>
                  <a:pt x="611" y="42"/>
                </a:lnTo>
                <a:lnTo>
                  <a:pt x="592" y="64"/>
                </a:lnTo>
                <a:lnTo>
                  <a:pt x="573" y="92"/>
                </a:lnTo>
                <a:lnTo>
                  <a:pt x="556" y="123"/>
                </a:lnTo>
                <a:lnTo>
                  <a:pt x="542" y="159"/>
                </a:lnTo>
                <a:lnTo>
                  <a:pt x="538" y="166"/>
                </a:lnTo>
                <a:lnTo>
                  <a:pt x="531" y="187"/>
                </a:lnTo>
                <a:lnTo>
                  <a:pt x="519" y="216"/>
                </a:lnTo>
                <a:lnTo>
                  <a:pt x="507" y="252"/>
                </a:lnTo>
                <a:lnTo>
                  <a:pt x="493" y="292"/>
                </a:lnTo>
                <a:lnTo>
                  <a:pt x="481" y="331"/>
                </a:lnTo>
                <a:lnTo>
                  <a:pt x="471" y="369"/>
                </a:lnTo>
                <a:lnTo>
                  <a:pt x="466" y="402"/>
                </a:lnTo>
                <a:lnTo>
                  <a:pt x="462" y="414"/>
                </a:lnTo>
                <a:lnTo>
                  <a:pt x="455" y="445"/>
                </a:lnTo>
                <a:lnTo>
                  <a:pt x="449" y="483"/>
                </a:lnTo>
                <a:lnTo>
                  <a:pt x="445" y="518"/>
                </a:lnTo>
                <a:lnTo>
                  <a:pt x="431" y="528"/>
                </a:lnTo>
                <a:lnTo>
                  <a:pt x="430" y="523"/>
                </a:lnTo>
                <a:lnTo>
                  <a:pt x="423" y="511"/>
                </a:lnTo>
                <a:lnTo>
                  <a:pt x="412" y="492"/>
                </a:lnTo>
                <a:lnTo>
                  <a:pt x="402" y="468"/>
                </a:lnTo>
                <a:lnTo>
                  <a:pt x="388" y="444"/>
                </a:lnTo>
                <a:lnTo>
                  <a:pt x="373" y="419"/>
                </a:lnTo>
                <a:lnTo>
                  <a:pt x="359" y="397"/>
                </a:lnTo>
                <a:lnTo>
                  <a:pt x="345" y="380"/>
                </a:lnTo>
                <a:lnTo>
                  <a:pt x="340" y="375"/>
                </a:lnTo>
                <a:lnTo>
                  <a:pt x="326" y="364"/>
                </a:lnTo>
                <a:lnTo>
                  <a:pt x="307" y="347"/>
                </a:lnTo>
                <a:lnTo>
                  <a:pt x="281" y="326"/>
                </a:lnTo>
                <a:lnTo>
                  <a:pt x="252" y="304"/>
                </a:lnTo>
                <a:lnTo>
                  <a:pt x="222" y="283"/>
                </a:lnTo>
                <a:lnTo>
                  <a:pt x="191" y="266"/>
                </a:lnTo>
                <a:lnTo>
                  <a:pt x="164" y="254"/>
                </a:lnTo>
                <a:lnTo>
                  <a:pt x="14" y="221"/>
                </a:lnTo>
                <a:lnTo>
                  <a:pt x="0" y="407"/>
                </a:lnTo>
                <a:lnTo>
                  <a:pt x="0" y="414"/>
                </a:lnTo>
                <a:lnTo>
                  <a:pt x="2" y="437"/>
                </a:lnTo>
                <a:lnTo>
                  <a:pt x="5" y="468"/>
                </a:lnTo>
                <a:lnTo>
                  <a:pt x="10" y="507"/>
                </a:lnTo>
                <a:lnTo>
                  <a:pt x="17" y="550"/>
                </a:lnTo>
                <a:lnTo>
                  <a:pt x="27" y="597"/>
                </a:lnTo>
                <a:lnTo>
                  <a:pt x="43" y="644"/>
                </a:lnTo>
                <a:lnTo>
                  <a:pt x="62" y="685"/>
                </a:lnTo>
                <a:lnTo>
                  <a:pt x="67" y="692"/>
                </a:lnTo>
                <a:lnTo>
                  <a:pt x="79" y="711"/>
                </a:lnTo>
                <a:lnTo>
                  <a:pt x="100" y="740"/>
                </a:lnTo>
                <a:lnTo>
                  <a:pt x="128" y="775"/>
                </a:lnTo>
                <a:lnTo>
                  <a:pt x="160" y="813"/>
                </a:lnTo>
                <a:lnTo>
                  <a:pt x="198" y="849"/>
                </a:lnTo>
                <a:lnTo>
                  <a:pt x="240" y="883"/>
                </a:lnTo>
                <a:lnTo>
                  <a:pt x="283" y="911"/>
                </a:lnTo>
                <a:lnTo>
                  <a:pt x="285" y="911"/>
                </a:lnTo>
                <a:lnTo>
                  <a:pt x="290" y="913"/>
                </a:lnTo>
                <a:lnTo>
                  <a:pt x="298" y="914"/>
                </a:lnTo>
                <a:lnTo>
                  <a:pt x="309" y="916"/>
                </a:lnTo>
                <a:lnTo>
                  <a:pt x="323" y="920"/>
                </a:lnTo>
                <a:lnTo>
                  <a:pt x="340" y="921"/>
                </a:lnTo>
                <a:lnTo>
                  <a:pt x="357" y="925"/>
                </a:lnTo>
                <a:lnTo>
                  <a:pt x="378" y="926"/>
                </a:lnTo>
                <a:lnTo>
                  <a:pt x="398" y="930"/>
                </a:lnTo>
                <a:lnTo>
                  <a:pt x="419" y="932"/>
                </a:lnTo>
                <a:lnTo>
                  <a:pt x="443" y="932"/>
                </a:lnTo>
                <a:lnTo>
                  <a:pt x="466" y="933"/>
                </a:lnTo>
                <a:lnTo>
                  <a:pt x="490" y="932"/>
                </a:lnTo>
                <a:lnTo>
                  <a:pt x="514" y="932"/>
                </a:lnTo>
                <a:lnTo>
                  <a:pt x="537" y="928"/>
                </a:lnTo>
                <a:lnTo>
                  <a:pt x="559" y="925"/>
                </a:lnTo>
                <a:lnTo>
                  <a:pt x="561" y="925"/>
                </a:lnTo>
                <a:lnTo>
                  <a:pt x="566" y="921"/>
                </a:lnTo>
                <a:lnTo>
                  <a:pt x="573" y="920"/>
                </a:lnTo>
                <a:lnTo>
                  <a:pt x="583" y="918"/>
                </a:lnTo>
                <a:lnTo>
                  <a:pt x="595" y="918"/>
                </a:lnTo>
                <a:lnTo>
                  <a:pt x="609" y="920"/>
                </a:lnTo>
                <a:lnTo>
                  <a:pt x="625" y="923"/>
                </a:lnTo>
                <a:lnTo>
                  <a:pt x="640" y="9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370640" y="228600"/>
            <a:ext cx="263520" cy="361800"/>
          </a:xfrm>
          <a:custGeom>
            <a:avLst/>
            <a:gdLst/>
            <a:ahLst/>
            <a:rect l="l" t="t" r="r" b="b"/>
            <a:pathLst>
              <a:path w="333" h="455">
                <a:moveTo>
                  <a:pt x="333" y="455"/>
                </a:moveTo>
                <a:lnTo>
                  <a:pt x="327" y="288"/>
                </a:lnTo>
                <a:lnTo>
                  <a:pt x="327" y="283"/>
                </a:lnTo>
                <a:lnTo>
                  <a:pt x="326" y="267"/>
                </a:lnTo>
                <a:lnTo>
                  <a:pt x="322" y="247"/>
                </a:lnTo>
                <a:lnTo>
                  <a:pt x="317" y="219"/>
                </a:lnTo>
                <a:lnTo>
                  <a:pt x="310" y="190"/>
                </a:lnTo>
                <a:lnTo>
                  <a:pt x="300" y="157"/>
                </a:lnTo>
                <a:lnTo>
                  <a:pt x="284" y="128"/>
                </a:lnTo>
                <a:lnTo>
                  <a:pt x="265" y="100"/>
                </a:lnTo>
                <a:lnTo>
                  <a:pt x="264" y="97"/>
                </a:lnTo>
                <a:lnTo>
                  <a:pt x="255" y="90"/>
                </a:lnTo>
                <a:lnTo>
                  <a:pt x="243" y="79"/>
                </a:lnTo>
                <a:lnTo>
                  <a:pt x="227" y="66"/>
                </a:lnTo>
                <a:lnTo>
                  <a:pt x="205" y="52"/>
                </a:lnTo>
                <a:lnTo>
                  <a:pt x="181" y="38"/>
                </a:lnTo>
                <a:lnTo>
                  <a:pt x="150" y="24"/>
                </a:lnTo>
                <a:lnTo>
                  <a:pt x="117" y="14"/>
                </a:lnTo>
                <a:lnTo>
                  <a:pt x="12" y="0"/>
                </a:lnTo>
                <a:lnTo>
                  <a:pt x="1" y="135"/>
                </a:lnTo>
                <a:lnTo>
                  <a:pt x="0" y="150"/>
                </a:lnTo>
                <a:lnTo>
                  <a:pt x="1" y="188"/>
                </a:lnTo>
                <a:lnTo>
                  <a:pt x="10" y="236"/>
                </a:lnTo>
                <a:lnTo>
                  <a:pt x="31" y="283"/>
                </a:lnTo>
                <a:lnTo>
                  <a:pt x="34" y="285"/>
                </a:lnTo>
                <a:lnTo>
                  <a:pt x="41" y="291"/>
                </a:lnTo>
                <a:lnTo>
                  <a:pt x="53" y="302"/>
                </a:lnTo>
                <a:lnTo>
                  <a:pt x="70" y="316"/>
                </a:lnTo>
                <a:lnTo>
                  <a:pt x="91" y="331"/>
                </a:lnTo>
                <a:lnTo>
                  <a:pt x="115" y="348"/>
                </a:lnTo>
                <a:lnTo>
                  <a:pt x="143" y="366"/>
                </a:lnTo>
                <a:lnTo>
                  <a:pt x="174" y="383"/>
                </a:lnTo>
                <a:lnTo>
                  <a:pt x="177" y="385"/>
                </a:lnTo>
                <a:lnTo>
                  <a:pt x="189" y="390"/>
                </a:lnTo>
                <a:lnTo>
                  <a:pt x="207" y="398"/>
                </a:lnTo>
                <a:lnTo>
                  <a:pt x="227" y="409"/>
                </a:lnTo>
                <a:lnTo>
                  <a:pt x="253" y="419"/>
                </a:lnTo>
                <a:lnTo>
                  <a:pt x="279" y="431"/>
                </a:lnTo>
                <a:lnTo>
                  <a:pt x="307" y="443"/>
                </a:lnTo>
                <a:lnTo>
                  <a:pt x="333" y="4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951680" y="244440"/>
            <a:ext cx="266760" cy="360360"/>
          </a:xfrm>
          <a:custGeom>
            <a:avLst/>
            <a:gdLst/>
            <a:ahLst/>
            <a:rect l="l" t="t" r="r" b="b"/>
            <a:pathLst>
              <a:path w="335" h="453">
                <a:moveTo>
                  <a:pt x="5" y="453"/>
                </a:moveTo>
                <a:lnTo>
                  <a:pt x="10" y="453"/>
                </a:lnTo>
                <a:lnTo>
                  <a:pt x="26" y="452"/>
                </a:lnTo>
                <a:lnTo>
                  <a:pt x="47" y="450"/>
                </a:lnTo>
                <a:lnTo>
                  <a:pt x="74" y="446"/>
                </a:lnTo>
                <a:lnTo>
                  <a:pt x="104" y="439"/>
                </a:lnTo>
                <a:lnTo>
                  <a:pt x="133" y="429"/>
                </a:lnTo>
                <a:lnTo>
                  <a:pt x="160" y="415"/>
                </a:lnTo>
                <a:lnTo>
                  <a:pt x="183" y="396"/>
                </a:lnTo>
                <a:lnTo>
                  <a:pt x="186" y="393"/>
                </a:lnTo>
                <a:lnTo>
                  <a:pt x="193" y="383"/>
                </a:lnTo>
                <a:lnTo>
                  <a:pt x="205" y="367"/>
                </a:lnTo>
                <a:lnTo>
                  <a:pt x="219" y="345"/>
                </a:lnTo>
                <a:lnTo>
                  <a:pt x="235" y="319"/>
                </a:lnTo>
                <a:lnTo>
                  <a:pt x="250" y="289"/>
                </a:lnTo>
                <a:lnTo>
                  <a:pt x="266" y="255"/>
                </a:lnTo>
                <a:lnTo>
                  <a:pt x="278" y="219"/>
                </a:lnTo>
                <a:lnTo>
                  <a:pt x="280" y="212"/>
                </a:lnTo>
                <a:lnTo>
                  <a:pt x="286" y="191"/>
                </a:lnTo>
                <a:lnTo>
                  <a:pt x="295" y="164"/>
                </a:lnTo>
                <a:lnTo>
                  <a:pt x="307" y="129"/>
                </a:lnTo>
                <a:lnTo>
                  <a:pt x="318" y="93"/>
                </a:lnTo>
                <a:lnTo>
                  <a:pt x="326" y="57"/>
                </a:lnTo>
                <a:lnTo>
                  <a:pt x="333" y="26"/>
                </a:lnTo>
                <a:lnTo>
                  <a:pt x="335" y="3"/>
                </a:lnTo>
                <a:lnTo>
                  <a:pt x="331" y="3"/>
                </a:lnTo>
                <a:lnTo>
                  <a:pt x="321" y="1"/>
                </a:lnTo>
                <a:lnTo>
                  <a:pt x="304" y="0"/>
                </a:lnTo>
                <a:lnTo>
                  <a:pt x="283" y="0"/>
                </a:lnTo>
                <a:lnTo>
                  <a:pt x="261" y="0"/>
                </a:lnTo>
                <a:lnTo>
                  <a:pt x="235" y="3"/>
                </a:lnTo>
                <a:lnTo>
                  <a:pt x="209" y="8"/>
                </a:lnTo>
                <a:lnTo>
                  <a:pt x="183" y="17"/>
                </a:lnTo>
                <a:lnTo>
                  <a:pt x="178" y="19"/>
                </a:lnTo>
                <a:lnTo>
                  <a:pt x="167" y="26"/>
                </a:lnTo>
                <a:lnTo>
                  <a:pt x="148" y="36"/>
                </a:lnTo>
                <a:lnTo>
                  <a:pt x="129" y="48"/>
                </a:lnTo>
                <a:lnTo>
                  <a:pt x="107" y="64"/>
                </a:lnTo>
                <a:lnTo>
                  <a:pt x="85" y="82"/>
                </a:lnTo>
                <a:lnTo>
                  <a:pt x="67" y="101"/>
                </a:lnTo>
                <a:lnTo>
                  <a:pt x="53" y="122"/>
                </a:lnTo>
                <a:lnTo>
                  <a:pt x="52" y="126"/>
                </a:lnTo>
                <a:lnTo>
                  <a:pt x="45" y="138"/>
                </a:lnTo>
                <a:lnTo>
                  <a:pt x="34" y="155"/>
                </a:lnTo>
                <a:lnTo>
                  <a:pt x="24" y="179"/>
                </a:lnTo>
                <a:lnTo>
                  <a:pt x="14" y="208"/>
                </a:lnTo>
                <a:lnTo>
                  <a:pt x="7" y="245"/>
                </a:lnTo>
                <a:lnTo>
                  <a:pt x="0" y="284"/>
                </a:lnTo>
                <a:lnTo>
                  <a:pt x="0" y="329"/>
                </a:lnTo>
                <a:lnTo>
                  <a:pt x="5" y="4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497720" y="955800"/>
            <a:ext cx="182520" cy="82440"/>
          </a:xfrm>
          <a:custGeom>
            <a:avLst/>
            <a:gdLst/>
            <a:ahLst/>
            <a:rect l="l" t="t" r="r" b="b"/>
            <a:pathLst>
              <a:path w="230" h="105">
                <a:moveTo>
                  <a:pt x="230" y="100"/>
                </a:moveTo>
                <a:lnTo>
                  <a:pt x="119" y="0"/>
                </a:lnTo>
                <a:lnTo>
                  <a:pt x="117" y="1"/>
                </a:lnTo>
                <a:lnTo>
                  <a:pt x="111" y="8"/>
                </a:lnTo>
                <a:lnTo>
                  <a:pt x="102" y="17"/>
                </a:lnTo>
                <a:lnTo>
                  <a:pt x="88" y="27"/>
                </a:lnTo>
                <a:lnTo>
                  <a:pt x="71" y="39"/>
                </a:lnTo>
                <a:lnTo>
                  <a:pt x="50" y="50"/>
                </a:lnTo>
                <a:lnTo>
                  <a:pt x="28" y="60"/>
                </a:lnTo>
                <a:lnTo>
                  <a:pt x="0" y="67"/>
                </a:lnTo>
                <a:lnTo>
                  <a:pt x="0" y="69"/>
                </a:lnTo>
                <a:lnTo>
                  <a:pt x="4" y="70"/>
                </a:lnTo>
                <a:lnTo>
                  <a:pt x="9" y="74"/>
                </a:lnTo>
                <a:lnTo>
                  <a:pt x="19" y="79"/>
                </a:lnTo>
                <a:lnTo>
                  <a:pt x="31" y="84"/>
                </a:lnTo>
                <a:lnTo>
                  <a:pt x="50" y="89"/>
                </a:lnTo>
                <a:lnTo>
                  <a:pt x="74" y="95"/>
                </a:lnTo>
                <a:lnTo>
                  <a:pt x="105" y="100"/>
                </a:lnTo>
                <a:lnTo>
                  <a:pt x="109" y="100"/>
                </a:lnTo>
                <a:lnTo>
                  <a:pt x="119" y="101"/>
                </a:lnTo>
                <a:lnTo>
                  <a:pt x="133" y="103"/>
                </a:lnTo>
                <a:lnTo>
                  <a:pt x="152" y="103"/>
                </a:lnTo>
                <a:lnTo>
                  <a:pt x="171" y="105"/>
                </a:lnTo>
                <a:lnTo>
                  <a:pt x="192" y="105"/>
                </a:lnTo>
                <a:lnTo>
                  <a:pt x="212" y="103"/>
                </a:lnTo>
                <a:lnTo>
                  <a:pt x="23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62720" y="871560"/>
            <a:ext cx="200160" cy="106200"/>
          </a:xfrm>
          <a:custGeom>
            <a:avLst/>
            <a:gdLst/>
            <a:ahLst/>
            <a:rect l="l" t="t" r="r" b="b"/>
            <a:pathLst>
              <a:path w="250" h="132">
                <a:moveTo>
                  <a:pt x="250" y="86"/>
                </a:moveTo>
                <a:lnTo>
                  <a:pt x="129" y="132"/>
                </a:lnTo>
                <a:lnTo>
                  <a:pt x="126" y="131"/>
                </a:lnTo>
                <a:lnTo>
                  <a:pt x="117" y="124"/>
                </a:lnTo>
                <a:lnTo>
                  <a:pt x="103" y="113"/>
                </a:lnTo>
                <a:lnTo>
                  <a:pt x="86" y="100"/>
                </a:lnTo>
                <a:lnTo>
                  <a:pt x="67" y="81"/>
                </a:lnTo>
                <a:lnTo>
                  <a:pt x="45" y="58"/>
                </a:lnTo>
                <a:lnTo>
                  <a:pt x="22" y="31"/>
                </a:lnTo>
                <a:lnTo>
                  <a:pt x="0" y="0"/>
                </a:lnTo>
                <a:lnTo>
                  <a:pt x="221" y="22"/>
                </a:lnTo>
                <a:lnTo>
                  <a:pt x="250" y="8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332840" y="741240"/>
            <a:ext cx="171360" cy="111240"/>
          </a:xfrm>
          <a:custGeom>
            <a:avLst/>
            <a:gdLst/>
            <a:ahLst/>
            <a:rect l="l" t="t" r="r" b="b"/>
            <a:pathLst>
              <a:path w="218" h="139">
                <a:moveTo>
                  <a:pt x="218" y="139"/>
                </a:moveTo>
                <a:lnTo>
                  <a:pt x="123" y="19"/>
                </a:lnTo>
                <a:lnTo>
                  <a:pt x="2" y="0"/>
                </a:lnTo>
                <a:lnTo>
                  <a:pt x="0" y="10"/>
                </a:lnTo>
                <a:lnTo>
                  <a:pt x="0" y="36"/>
                </a:lnTo>
                <a:lnTo>
                  <a:pt x="7" y="72"/>
                </a:lnTo>
                <a:lnTo>
                  <a:pt x="26" y="115"/>
                </a:lnTo>
                <a:lnTo>
                  <a:pt x="218" y="13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315200" y="593640"/>
            <a:ext cx="82440" cy="114480"/>
          </a:xfrm>
          <a:custGeom>
            <a:avLst/>
            <a:gdLst/>
            <a:ahLst/>
            <a:rect l="l" t="t" r="r" b="b"/>
            <a:pathLst>
              <a:path w="103" h="144">
                <a:moveTo>
                  <a:pt x="103" y="144"/>
                </a:moveTo>
                <a:lnTo>
                  <a:pt x="13" y="0"/>
                </a:lnTo>
                <a:lnTo>
                  <a:pt x="10" y="13"/>
                </a:lnTo>
                <a:lnTo>
                  <a:pt x="3" y="40"/>
                </a:lnTo>
                <a:lnTo>
                  <a:pt x="0" y="80"/>
                </a:lnTo>
                <a:lnTo>
                  <a:pt x="3" y="119"/>
                </a:lnTo>
                <a:lnTo>
                  <a:pt x="5" y="121"/>
                </a:lnTo>
                <a:lnTo>
                  <a:pt x="8" y="125"/>
                </a:lnTo>
                <a:lnTo>
                  <a:pt x="15" y="128"/>
                </a:lnTo>
                <a:lnTo>
                  <a:pt x="25" y="133"/>
                </a:lnTo>
                <a:lnTo>
                  <a:pt x="38" y="138"/>
                </a:lnTo>
                <a:lnTo>
                  <a:pt x="55" y="142"/>
                </a:lnTo>
                <a:lnTo>
                  <a:pt x="77" y="144"/>
                </a:lnTo>
                <a:lnTo>
                  <a:pt x="103" y="1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326360" y="531720"/>
            <a:ext cx="133200" cy="187560"/>
          </a:xfrm>
          <a:custGeom>
            <a:avLst/>
            <a:gdLst/>
            <a:ahLst/>
            <a:rect l="l" t="t" r="r" b="b"/>
            <a:pathLst>
              <a:path w="168" h="234">
                <a:moveTo>
                  <a:pt x="157" y="234"/>
                </a:moveTo>
                <a:lnTo>
                  <a:pt x="0" y="0"/>
                </a:lnTo>
                <a:lnTo>
                  <a:pt x="6" y="2"/>
                </a:lnTo>
                <a:lnTo>
                  <a:pt x="21" y="7"/>
                </a:lnTo>
                <a:lnTo>
                  <a:pt x="44" y="15"/>
                </a:lnTo>
                <a:lnTo>
                  <a:pt x="71" y="26"/>
                </a:lnTo>
                <a:lnTo>
                  <a:pt x="100" y="38"/>
                </a:lnTo>
                <a:lnTo>
                  <a:pt x="126" y="52"/>
                </a:lnTo>
                <a:lnTo>
                  <a:pt x="150" y="67"/>
                </a:lnTo>
                <a:lnTo>
                  <a:pt x="168" y="83"/>
                </a:lnTo>
                <a:lnTo>
                  <a:pt x="168" y="95"/>
                </a:lnTo>
                <a:lnTo>
                  <a:pt x="166" y="126"/>
                </a:lnTo>
                <a:lnTo>
                  <a:pt x="163" y="174"/>
                </a:lnTo>
                <a:lnTo>
                  <a:pt x="157" y="23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478640" y="623880"/>
            <a:ext cx="90720" cy="216000"/>
          </a:xfrm>
          <a:custGeom>
            <a:avLst/>
            <a:gdLst/>
            <a:ahLst/>
            <a:rect l="l" t="t" r="r" b="b"/>
            <a:pathLst>
              <a:path w="114" h="273">
                <a:moveTo>
                  <a:pt x="0" y="178"/>
                </a:moveTo>
                <a:lnTo>
                  <a:pt x="24" y="0"/>
                </a:lnTo>
                <a:lnTo>
                  <a:pt x="26" y="2"/>
                </a:lnTo>
                <a:lnTo>
                  <a:pt x="33" y="6"/>
                </a:lnTo>
                <a:lnTo>
                  <a:pt x="43" y="14"/>
                </a:lnTo>
                <a:lnTo>
                  <a:pt x="55" y="25"/>
                </a:lnTo>
                <a:lnTo>
                  <a:pt x="69" y="38"/>
                </a:lnTo>
                <a:lnTo>
                  <a:pt x="84" y="56"/>
                </a:lnTo>
                <a:lnTo>
                  <a:pt x="98" y="76"/>
                </a:lnTo>
                <a:lnTo>
                  <a:pt x="114" y="100"/>
                </a:lnTo>
                <a:lnTo>
                  <a:pt x="71" y="273"/>
                </a:lnTo>
                <a:lnTo>
                  <a:pt x="0" y="1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569360" y="760320"/>
            <a:ext cx="136440" cy="244440"/>
          </a:xfrm>
          <a:custGeom>
            <a:avLst/>
            <a:gdLst/>
            <a:ahLst/>
            <a:rect l="l" t="t" r="r" b="b"/>
            <a:pathLst>
              <a:path w="172" h="307">
                <a:moveTo>
                  <a:pt x="0" y="143"/>
                </a:moveTo>
                <a:lnTo>
                  <a:pt x="29" y="0"/>
                </a:lnTo>
                <a:lnTo>
                  <a:pt x="34" y="7"/>
                </a:lnTo>
                <a:lnTo>
                  <a:pt x="45" y="27"/>
                </a:lnTo>
                <a:lnTo>
                  <a:pt x="64" y="58"/>
                </a:lnTo>
                <a:lnTo>
                  <a:pt x="84" y="98"/>
                </a:lnTo>
                <a:lnTo>
                  <a:pt x="109" y="145"/>
                </a:lnTo>
                <a:lnTo>
                  <a:pt x="131" y="193"/>
                </a:lnTo>
                <a:lnTo>
                  <a:pt x="153" y="243"/>
                </a:lnTo>
                <a:lnTo>
                  <a:pt x="172" y="291"/>
                </a:lnTo>
                <a:lnTo>
                  <a:pt x="172" y="307"/>
                </a:lnTo>
                <a:lnTo>
                  <a:pt x="0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466040" y="468360"/>
            <a:ext cx="130320" cy="79200"/>
          </a:xfrm>
          <a:custGeom>
            <a:avLst/>
            <a:gdLst/>
            <a:ahLst/>
            <a:rect l="l" t="t" r="r" b="b"/>
            <a:pathLst>
              <a:path w="164" h="100">
                <a:moveTo>
                  <a:pt x="164" y="100"/>
                </a:moveTo>
                <a:lnTo>
                  <a:pt x="111" y="5"/>
                </a:lnTo>
                <a:lnTo>
                  <a:pt x="0" y="0"/>
                </a:lnTo>
                <a:lnTo>
                  <a:pt x="4" y="3"/>
                </a:lnTo>
                <a:lnTo>
                  <a:pt x="14" y="14"/>
                </a:lnTo>
                <a:lnTo>
                  <a:pt x="31" y="26"/>
                </a:lnTo>
                <a:lnTo>
                  <a:pt x="52" y="43"/>
                </a:lnTo>
                <a:lnTo>
                  <a:pt x="76" y="60"/>
                </a:lnTo>
                <a:lnTo>
                  <a:pt x="104" y="76"/>
                </a:lnTo>
                <a:lnTo>
                  <a:pt x="133" y="89"/>
                </a:lnTo>
                <a:lnTo>
                  <a:pt x="164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402680" y="361800"/>
            <a:ext cx="129960" cy="82800"/>
          </a:xfrm>
          <a:custGeom>
            <a:avLst/>
            <a:gdLst/>
            <a:ahLst/>
            <a:rect l="l" t="t" r="r" b="b"/>
            <a:pathLst>
              <a:path w="164" h="105">
                <a:moveTo>
                  <a:pt x="164" y="105"/>
                </a:moveTo>
                <a:lnTo>
                  <a:pt x="102" y="5"/>
                </a:lnTo>
                <a:lnTo>
                  <a:pt x="0" y="0"/>
                </a:lnTo>
                <a:lnTo>
                  <a:pt x="0" y="12"/>
                </a:lnTo>
                <a:lnTo>
                  <a:pt x="4" y="42"/>
                </a:lnTo>
                <a:lnTo>
                  <a:pt x="14" y="78"/>
                </a:lnTo>
                <a:lnTo>
                  <a:pt x="38" y="105"/>
                </a:lnTo>
                <a:lnTo>
                  <a:pt x="164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405560" y="277920"/>
            <a:ext cx="57240" cy="6192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0" y="0"/>
                </a:lnTo>
                <a:lnTo>
                  <a:pt x="0" y="9"/>
                </a:lnTo>
                <a:lnTo>
                  <a:pt x="0" y="29"/>
                </a:lnTo>
                <a:lnTo>
                  <a:pt x="0" y="54"/>
                </a:lnTo>
                <a:lnTo>
                  <a:pt x="0" y="73"/>
                </a:lnTo>
                <a:lnTo>
                  <a:pt x="73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448400" y="272880"/>
            <a:ext cx="79560" cy="86040"/>
          </a:xfrm>
          <a:custGeom>
            <a:avLst/>
            <a:gdLst/>
            <a:ahLst/>
            <a:rect l="l" t="t" r="r" b="b"/>
            <a:pathLst>
              <a:path w="100" h="109">
                <a:moveTo>
                  <a:pt x="0" y="2"/>
                </a:moveTo>
                <a:lnTo>
                  <a:pt x="2" y="2"/>
                </a:lnTo>
                <a:lnTo>
                  <a:pt x="9" y="0"/>
                </a:lnTo>
                <a:lnTo>
                  <a:pt x="17" y="0"/>
                </a:lnTo>
                <a:lnTo>
                  <a:pt x="29" y="2"/>
                </a:lnTo>
                <a:lnTo>
                  <a:pt x="45" y="7"/>
                </a:lnTo>
                <a:lnTo>
                  <a:pt x="62" y="14"/>
                </a:lnTo>
                <a:lnTo>
                  <a:pt x="81" y="26"/>
                </a:lnTo>
                <a:lnTo>
                  <a:pt x="100" y="45"/>
                </a:lnTo>
                <a:lnTo>
                  <a:pt x="95" y="109"/>
                </a:lnTo>
                <a:lnTo>
                  <a:pt x="91" y="105"/>
                </a:lnTo>
                <a:lnTo>
                  <a:pt x="83" y="95"/>
                </a:lnTo>
                <a:lnTo>
                  <a:pt x="71" y="81"/>
                </a:lnTo>
                <a:lnTo>
                  <a:pt x="55" y="62"/>
                </a:lnTo>
                <a:lnTo>
                  <a:pt x="40" y="45"/>
                </a:lnTo>
                <a:lnTo>
                  <a:pt x="24" y="28"/>
                </a:lnTo>
                <a:lnTo>
                  <a:pt x="10" y="12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558200" y="351000"/>
            <a:ext cx="54000" cy="171360"/>
          </a:xfrm>
          <a:custGeom>
            <a:avLst/>
            <a:gdLst/>
            <a:ahLst/>
            <a:rect l="l" t="t" r="r" b="b"/>
            <a:pathLst>
              <a:path w="67" h="216">
                <a:moveTo>
                  <a:pt x="0" y="0"/>
                </a:moveTo>
                <a:lnTo>
                  <a:pt x="0" y="87"/>
                </a:lnTo>
                <a:lnTo>
                  <a:pt x="67" y="216"/>
                </a:lnTo>
                <a:lnTo>
                  <a:pt x="67" y="211"/>
                </a:lnTo>
                <a:lnTo>
                  <a:pt x="66" y="195"/>
                </a:lnTo>
                <a:lnTo>
                  <a:pt x="60" y="173"/>
                </a:lnTo>
                <a:lnTo>
                  <a:pt x="55" y="144"/>
                </a:lnTo>
                <a:lnTo>
                  <a:pt x="47" y="111"/>
                </a:lnTo>
                <a:lnTo>
                  <a:pt x="35" y="75"/>
                </a:lnTo>
                <a:lnTo>
                  <a:pt x="19" y="37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69080" y="681120"/>
            <a:ext cx="96840" cy="236520"/>
          </a:xfrm>
          <a:custGeom>
            <a:avLst/>
            <a:gdLst/>
            <a:ahLst/>
            <a:rect l="l" t="t" r="r" b="b"/>
            <a:pathLst>
              <a:path w="122" h="296">
                <a:moveTo>
                  <a:pt x="122" y="296"/>
                </a:moveTo>
                <a:lnTo>
                  <a:pt x="108" y="110"/>
                </a:lnTo>
                <a:lnTo>
                  <a:pt x="8" y="0"/>
                </a:lnTo>
                <a:lnTo>
                  <a:pt x="7" y="15"/>
                </a:lnTo>
                <a:lnTo>
                  <a:pt x="3" y="52"/>
                </a:lnTo>
                <a:lnTo>
                  <a:pt x="0" y="96"/>
                </a:lnTo>
                <a:lnTo>
                  <a:pt x="3" y="133"/>
                </a:lnTo>
                <a:lnTo>
                  <a:pt x="122" y="2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691400" y="555480"/>
            <a:ext cx="81000" cy="15264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0" y="192"/>
                </a:moveTo>
                <a:lnTo>
                  <a:pt x="104" y="116"/>
                </a:lnTo>
                <a:lnTo>
                  <a:pt x="35" y="0"/>
                </a:lnTo>
                <a:lnTo>
                  <a:pt x="30" y="5"/>
                </a:lnTo>
                <a:lnTo>
                  <a:pt x="16" y="24"/>
                </a:lnTo>
                <a:lnTo>
                  <a:pt x="4" y="59"/>
                </a:lnTo>
                <a:lnTo>
                  <a:pt x="0" y="111"/>
                </a:lnTo>
                <a:lnTo>
                  <a:pt x="10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732800" y="403200"/>
            <a:ext cx="48960" cy="163440"/>
          </a:xfrm>
          <a:custGeom>
            <a:avLst/>
            <a:gdLst/>
            <a:ahLst/>
            <a:rect l="l" t="t" r="r" b="b"/>
            <a:pathLst>
              <a:path w="62" h="205">
                <a:moveTo>
                  <a:pt x="48" y="205"/>
                </a:moveTo>
                <a:lnTo>
                  <a:pt x="62" y="0"/>
                </a:lnTo>
                <a:lnTo>
                  <a:pt x="61" y="1"/>
                </a:lnTo>
                <a:lnTo>
                  <a:pt x="54" y="8"/>
                </a:lnTo>
                <a:lnTo>
                  <a:pt x="43" y="19"/>
                </a:lnTo>
                <a:lnTo>
                  <a:pt x="33" y="36"/>
                </a:lnTo>
                <a:lnTo>
                  <a:pt x="23" y="57"/>
                </a:lnTo>
                <a:lnTo>
                  <a:pt x="12" y="84"/>
                </a:lnTo>
                <a:lnTo>
                  <a:pt x="4" y="119"/>
                </a:lnTo>
                <a:lnTo>
                  <a:pt x="0" y="158"/>
                </a:lnTo>
                <a:lnTo>
                  <a:pt x="48" y="2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800840" y="411120"/>
            <a:ext cx="74880" cy="198360"/>
          </a:xfrm>
          <a:custGeom>
            <a:avLst/>
            <a:gdLst/>
            <a:ahLst/>
            <a:rect l="l" t="t" r="r" b="b"/>
            <a:pathLst>
              <a:path w="95" h="250">
                <a:moveTo>
                  <a:pt x="0" y="250"/>
                </a:moveTo>
                <a:lnTo>
                  <a:pt x="19" y="0"/>
                </a:lnTo>
                <a:lnTo>
                  <a:pt x="23" y="4"/>
                </a:lnTo>
                <a:lnTo>
                  <a:pt x="30" y="12"/>
                </a:lnTo>
                <a:lnTo>
                  <a:pt x="40" y="28"/>
                </a:lnTo>
                <a:lnTo>
                  <a:pt x="52" y="49"/>
                </a:lnTo>
                <a:lnTo>
                  <a:pt x="66" y="73"/>
                </a:lnTo>
                <a:lnTo>
                  <a:pt x="78" y="100"/>
                </a:lnTo>
                <a:lnTo>
                  <a:pt x="88" y="131"/>
                </a:lnTo>
                <a:lnTo>
                  <a:pt x="95" y="164"/>
                </a:lnTo>
                <a:lnTo>
                  <a:pt x="95" y="188"/>
                </a:lnTo>
                <a:lnTo>
                  <a:pt x="0" y="25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800840" y="593640"/>
            <a:ext cx="93960" cy="147600"/>
          </a:xfrm>
          <a:custGeom>
            <a:avLst/>
            <a:gdLst/>
            <a:ahLst/>
            <a:rect l="l" t="t" r="r" b="b"/>
            <a:pathLst>
              <a:path w="120" h="187">
                <a:moveTo>
                  <a:pt x="0" y="57"/>
                </a:moveTo>
                <a:lnTo>
                  <a:pt x="101" y="0"/>
                </a:lnTo>
                <a:lnTo>
                  <a:pt x="104" y="6"/>
                </a:lnTo>
                <a:lnTo>
                  <a:pt x="113" y="23"/>
                </a:lnTo>
                <a:lnTo>
                  <a:pt x="120" y="49"/>
                </a:lnTo>
                <a:lnTo>
                  <a:pt x="120" y="81"/>
                </a:lnTo>
                <a:lnTo>
                  <a:pt x="6" y="187"/>
                </a:lnTo>
                <a:lnTo>
                  <a:pt x="0" y="5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800840" y="696960"/>
            <a:ext cx="106560" cy="311040"/>
          </a:xfrm>
          <a:custGeom>
            <a:avLst/>
            <a:gdLst/>
            <a:ahLst/>
            <a:rect l="l" t="t" r="r" b="b"/>
            <a:pathLst>
              <a:path w="135" h="393">
                <a:moveTo>
                  <a:pt x="0" y="105"/>
                </a:moveTo>
                <a:lnTo>
                  <a:pt x="0" y="393"/>
                </a:lnTo>
                <a:lnTo>
                  <a:pt x="4" y="390"/>
                </a:lnTo>
                <a:lnTo>
                  <a:pt x="11" y="381"/>
                </a:lnTo>
                <a:lnTo>
                  <a:pt x="21" y="367"/>
                </a:lnTo>
                <a:lnTo>
                  <a:pt x="35" y="348"/>
                </a:lnTo>
                <a:lnTo>
                  <a:pt x="50" y="326"/>
                </a:lnTo>
                <a:lnTo>
                  <a:pt x="66" y="300"/>
                </a:lnTo>
                <a:lnTo>
                  <a:pt x="80" y="271"/>
                </a:lnTo>
                <a:lnTo>
                  <a:pt x="92" y="239"/>
                </a:lnTo>
                <a:lnTo>
                  <a:pt x="99" y="212"/>
                </a:lnTo>
                <a:lnTo>
                  <a:pt x="114" y="145"/>
                </a:lnTo>
                <a:lnTo>
                  <a:pt x="128" y="65"/>
                </a:lnTo>
                <a:lnTo>
                  <a:pt x="135" y="0"/>
                </a:lnTo>
                <a:lnTo>
                  <a:pt x="0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981920" y="426960"/>
            <a:ext cx="28440" cy="136440"/>
          </a:xfrm>
          <a:custGeom>
            <a:avLst/>
            <a:gdLst/>
            <a:ahLst/>
            <a:rect l="l" t="t" r="r" b="b"/>
            <a:pathLst>
              <a:path w="34" h="173">
                <a:moveTo>
                  <a:pt x="0" y="173"/>
                </a:moveTo>
                <a:lnTo>
                  <a:pt x="0" y="38"/>
                </a:lnTo>
                <a:lnTo>
                  <a:pt x="10" y="0"/>
                </a:lnTo>
                <a:lnTo>
                  <a:pt x="34" y="95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024760" y="331920"/>
            <a:ext cx="30240" cy="147600"/>
          </a:xfrm>
          <a:custGeom>
            <a:avLst/>
            <a:gdLst/>
            <a:ahLst/>
            <a:rect l="l" t="t" r="r" b="b"/>
            <a:pathLst>
              <a:path w="38" h="187">
                <a:moveTo>
                  <a:pt x="6" y="187"/>
                </a:moveTo>
                <a:lnTo>
                  <a:pt x="0" y="35"/>
                </a:lnTo>
                <a:lnTo>
                  <a:pt x="25" y="0"/>
                </a:lnTo>
                <a:lnTo>
                  <a:pt x="38" y="125"/>
                </a:lnTo>
                <a:lnTo>
                  <a:pt x="6" y="18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066160" y="285840"/>
            <a:ext cx="49320" cy="109440"/>
          </a:xfrm>
          <a:custGeom>
            <a:avLst/>
            <a:gdLst/>
            <a:ahLst/>
            <a:rect l="l" t="t" r="r" b="b"/>
            <a:pathLst>
              <a:path w="62" h="138">
                <a:moveTo>
                  <a:pt x="19" y="138"/>
                </a:moveTo>
                <a:lnTo>
                  <a:pt x="0" y="25"/>
                </a:lnTo>
                <a:lnTo>
                  <a:pt x="4" y="21"/>
                </a:lnTo>
                <a:lnTo>
                  <a:pt x="11" y="14"/>
                </a:lnTo>
                <a:lnTo>
                  <a:pt x="21" y="6"/>
                </a:lnTo>
                <a:lnTo>
                  <a:pt x="35" y="0"/>
                </a:lnTo>
                <a:lnTo>
                  <a:pt x="62" y="95"/>
                </a:lnTo>
                <a:lnTo>
                  <a:pt x="19" y="13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132760" y="272880"/>
            <a:ext cx="39600" cy="51120"/>
          </a:xfrm>
          <a:custGeom>
            <a:avLst/>
            <a:gdLst/>
            <a:ahLst/>
            <a:rect l="l" t="t" r="r" b="b"/>
            <a:pathLst>
              <a:path w="52" h="64">
                <a:moveTo>
                  <a:pt x="3" y="64"/>
                </a:moveTo>
                <a:lnTo>
                  <a:pt x="0" y="10"/>
                </a:lnTo>
                <a:lnTo>
                  <a:pt x="52" y="0"/>
                </a:lnTo>
                <a:lnTo>
                  <a:pt x="3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016840" y="511200"/>
            <a:ext cx="73080" cy="60480"/>
          </a:xfrm>
          <a:custGeom>
            <a:avLst/>
            <a:gdLst/>
            <a:ahLst/>
            <a:rect l="l" t="t" r="r" b="b"/>
            <a:pathLst>
              <a:path w="92" h="76">
                <a:moveTo>
                  <a:pt x="0" y="76"/>
                </a:moveTo>
                <a:lnTo>
                  <a:pt x="29" y="9"/>
                </a:lnTo>
                <a:lnTo>
                  <a:pt x="92" y="0"/>
                </a:lnTo>
                <a:lnTo>
                  <a:pt x="92" y="4"/>
                </a:lnTo>
                <a:lnTo>
                  <a:pt x="92" y="11"/>
                </a:lnTo>
                <a:lnTo>
                  <a:pt x="90" y="21"/>
                </a:lnTo>
                <a:lnTo>
                  <a:pt x="85" y="33"/>
                </a:lnTo>
                <a:lnTo>
                  <a:pt x="74" y="47"/>
                </a:lnTo>
                <a:lnTo>
                  <a:pt x="57" y="59"/>
                </a:lnTo>
                <a:lnTo>
                  <a:pt x="33" y="69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062920" y="438120"/>
            <a:ext cx="79200" cy="44640"/>
          </a:xfrm>
          <a:custGeom>
            <a:avLst/>
            <a:gdLst/>
            <a:ahLst/>
            <a:rect l="l" t="t" r="r" b="b"/>
            <a:pathLst>
              <a:path w="100" h="57">
                <a:moveTo>
                  <a:pt x="0" y="52"/>
                </a:moveTo>
                <a:lnTo>
                  <a:pt x="38" y="0"/>
                </a:lnTo>
                <a:lnTo>
                  <a:pt x="100" y="8"/>
                </a:lnTo>
                <a:lnTo>
                  <a:pt x="98" y="12"/>
                </a:lnTo>
                <a:lnTo>
                  <a:pt x="95" y="19"/>
                </a:lnTo>
                <a:lnTo>
                  <a:pt x="88" y="29"/>
                </a:lnTo>
                <a:lnTo>
                  <a:pt x="79" y="40"/>
                </a:lnTo>
                <a:lnTo>
                  <a:pt x="65" y="48"/>
                </a:lnTo>
                <a:lnTo>
                  <a:pt x="48" y="55"/>
                </a:lnTo>
                <a:lnTo>
                  <a:pt x="26" y="57"/>
                </a:lnTo>
                <a:lnTo>
                  <a:pt x="0" y="5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112240" y="372960"/>
            <a:ext cx="50760" cy="38160"/>
          </a:xfrm>
          <a:custGeom>
            <a:avLst/>
            <a:gdLst/>
            <a:ahLst/>
            <a:rect l="l" t="t" r="r" b="b"/>
            <a:pathLst>
              <a:path w="62" h="46">
                <a:moveTo>
                  <a:pt x="0" y="33"/>
                </a:moveTo>
                <a:lnTo>
                  <a:pt x="33" y="0"/>
                </a:lnTo>
                <a:lnTo>
                  <a:pt x="62" y="3"/>
                </a:lnTo>
                <a:lnTo>
                  <a:pt x="43" y="46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163000" y="290520"/>
            <a:ext cx="28440" cy="41400"/>
          </a:xfrm>
          <a:custGeom>
            <a:avLst/>
            <a:gdLst/>
            <a:ahLst/>
            <a:rect l="l" t="t" r="r" b="b"/>
            <a:pathLst>
              <a:path w="38" h="51">
                <a:moveTo>
                  <a:pt x="0" y="43"/>
                </a:moveTo>
                <a:lnTo>
                  <a:pt x="38" y="0"/>
                </a:lnTo>
                <a:lnTo>
                  <a:pt x="24" y="51"/>
                </a:lnTo>
                <a:lnTo>
                  <a:pt x="0" y="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869240" y="870120"/>
            <a:ext cx="54000" cy="80640"/>
          </a:xfrm>
          <a:custGeom>
            <a:avLst/>
            <a:gdLst/>
            <a:ahLst/>
            <a:rect l="l" t="t" r="r" b="b"/>
            <a:pathLst>
              <a:path w="67" h="104">
                <a:moveTo>
                  <a:pt x="0" y="104"/>
                </a:moveTo>
                <a:lnTo>
                  <a:pt x="1" y="102"/>
                </a:lnTo>
                <a:lnTo>
                  <a:pt x="7" y="97"/>
                </a:lnTo>
                <a:lnTo>
                  <a:pt x="12" y="88"/>
                </a:lnTo>
                <a:lnTo>
                  <a:pt x="20" y="76"/>
                </a:lnTo>
                <a:lnTo>
                  <a:pt x="29" y="62"/>
                </a:lnTo>
                <a:lnTo>
                  <a:pt x="38" y="47"/>
                </a:lnTo>
                <a:lnTo>
                  <a:pt x="45" y="29"/>
                </a:lnTo>
                <a:lnTo>
                  <a:pt x="51" y="12"/>
                </a:lnTo>
                <a:lnTo>
                  <a:pt x="60" y="0"/>
                </a:lnTo>
                <a:lnTo>
                  <a:pt x="65" y="21"/>
                </a:lnTo>
                <a:lnTo>
                  <a:pt x="67" y="50"/>
                </a:lnTo>
                <a:lnTo>
                  <a:pt x="67" y="66"/>
                </a:lnTo>
                <a:lnTo>
                  <a:pt x="67" y="66"/>
                </a:lnTo>
                <a:lnTo>
                  <a:pt x="65" y="67"/>
                </a:lnTo>
                <a:lnTo>
                  <a:pt x="60" y="71"/>
                </a:lnTo>
                <a:lnTo>
                  <a:pt x="55" y="76"/>
                </a:lnTo>
                <a:lnTo>
                  <a:pt x="46" y="81"/>
                </a:lnTo>
                <a:lnTo>
                  <a:pt x="34" y="88"/>
                </a:lnTo>
                <a:lnTo>
                  <a:pt x="19" y="95"/>
                </a:lnTo>
                <a:lnTo>
                  <a:pt x="0" y="10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834320" y="969840"/>
            <a:ext cx="244440" cy="77760"/>
          </a:xfrm>
          <a:custGeom>
            <a:avLst/>
            <a:gdLst/>
            <a:ahLst/>
            <a:rect l="l" t="t" r="r" b="b"/>
            <a:pathLst>
              <a:path w="307" h="98">
                <a:moveTo>
                  <a:pt x="0" y="81"/>
                </a:moveTo>
                <a:lnTo>
                  <a:pt x="81" y="0"/>
                </a:lnTo>
                <a:lnTo>
                  <a:pt x="307" y="38"/>
                </a:lnTo>
                <a:lnTo>
                  <a:pt x="303" y="39"/>
                </a:lnTo>
                <a:lnTo>
                  <a:pt x="296" y="45"/>
                </a:lnTo>
                <a:lnTo>
                  <a:pt x="283" y="51"/>
                </a:lnTo>
                <a:lnTo>
                  <a:pt x="264" y="60"/>
                </a:lnTo>
                <a:lnTo>
                  <a:pt x="239" y="70"/>
                </a:lnTo>
                <a:lnTo>
                  <a:pt x="210" y="79"/>
                </a:lnTo>
                <a:lnTo>
                  <a:pt x="177" y="88"/>
                </a:lnTo>
                <a:lnTo>
                  <a:pt x="138" y="95"/>
                </a:lnTo>
                <a:lnTo>
                  <a:pt x="134" y="95"/>
                </a:lnTo>
                <a:lnTo>
                  <a:pt x="124" y="96"/>
                </a:lnTo>
                <a:lnTo>
                  <a:pt x="108" y="98"/>
                </a:lnTo>
                <a:lnTo>
                  <a:pt x="89" y="98"/>
                </a:lnTo>
                <a:lnTo>
                  <a:pt x="69" y="98"/>
                </a:lnTo>
                <a:lnTo>
                  <a:pt x="44" y="95"/>
                </a:lnTo>
                <a:lnTo>
                  <a:pt x="22" y="8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956720" y="888840"/>
            <a:ext cx="231480" cy="88920"/>
          </a:xfrm>
          <a:custGeom>
            <a:avLst/>
            <a:gdLst/>
            <a:ahLst/>
            <a:rect l="l" t="t" r="r" b="b"/>
            <a:pathLst>
              <a:path w="292" h="110">
                <a:moveTo>
                  <a:pt x="0" y="64"/>
                </a:moveTo>
                <a:lnTo>
                  <a:pt x="86" y="0"/>
                </a:lnTo>
                <a:lnTo>
                  <a:pt x="292" y="40"/>
                </a:lnTo>
                <a:lnTo>
                  <a:pt x="200" y="110"/>
                </a:lnTo>
                <a:lnTo>
                  <a:pt x="0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937640" y="738360"/>
            <a:ext cx="74520" cy="155520"/>
          </a:xfrm>
          <a:custGeom>
            <a:avLst/>
            <a:gdLst/>
            <a:ahLst/>
            <a:rect l="l" t="t" r="r" b="b"/>
            <a:pathLst>
              <a:path w="95" h="196">
                <a:moveTo>
                  <a:pt x="19" y="196"/>
                </a:moveTo>
                <a:lnTo>
                  <a:pt x="0" y="91"/>
                </a:lnTo>
                <a:lnTo>
                  <a:pt x="2" y="89"/>
                </a:lnTo>
                <a:lnTo>
                  <a:pt x="9" y="82"/>
                </a:lnTo>
                <a:lnTo>
                  <a:pt x="19" y="72"/>
                </a:lnTo>
                <a:lnTo>
                  <a:pt x="31" y="58"/>
                </a:lnTo>
                <a:lnTo>
                  <a:pt x="43" y="44"/>
                </a:lnTo>
                <a:lnTo>
                  <a:pt x="59" y="29"/>
                </a:lnTo>
                <a:lnTo>
                  <a:pt x="72" y="13"/>
                </a:lnTo>
                <a:lnTo>
                  <a:pt x="86" y="0"/>
                </a:lnTo>
                <a:lnTo>
                  <a:pt x="95" y="148"/>
                </a:lnTo>
                <a:lnTo>
                  <a:pt x="19" y="1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043840" y="647640"/>
            <a:ext cx="138240" cy="177840"/>
          </a:xfrm>
          <a:custGeom>
            <a:avLst/>
            <a:gdLst/>
            <a:ahLst/>
            <a:rect l="l" t="t" r="r" b="b"/>
            <a:pathLst>
              <a:path w="172" h="224">
                <a:moveTo>
                  <a:pt x="0" y="224"/>
                </a:moveTo>
                <a:lnTo>
                  <a:pt x="3" y="70"/>
                </a:lnTo>
                <a:lnTo>
                  <a:pt x="5" y="69"/>
                </a:lnTo>
                <a:lnTo>
                  <a:pt x="8" y="64"/>
                </a:lnTo>
                <a:lnTo>
                  <a:pt x="13" y="57"/>
                </a:lnTo>
                <a:lnTo>
                  <a:pt x="24" y="48"/>
                </a:lnTo>
                <a:lnTo>
                  <a:pt x="38" y="39"/>
                </a:lnTo>
                <a:lnTo>
                  <a:pt x="55" y="29"/>
                </a:lnTo>
                <a:lnTo>
                  <a:pt x="77" y="19"/>
                </a:lnTo>
                <a:lnTo>
                  <a:pt x="105" y="8"/>
                </a:lnTo>
                <a:lnTo>
                  <a:pt x="172" y="0"/>
                </a:lnTo>
                <a:lnTo>
                  <a:pt x="124" y="124"/>
                </a:lnTo>
                <a:lnTo>
                  <a:pt x="0" y="22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062920" y="790560"/>
            <a:ext cx="201600" cy="103320"/>
          </a:xfrm>
          <a:custGeom>
            <a:avLst/>
            <a:gdLst/>
            <a:ahLst/>
            <a:rect l="l" t="t" r="r" b="b"/>
            <a:pathLst>
              <a:path w="253" h="129">
                <a:moveTo>
                  <a:pt x="0" y="81"/>
                </a:moveTo>
                <a:lnTo>
                  <a:pt x="100" y="0"/>
                </a:lnTo>
                <a:lnTo>
                  <a:pt x="253" y="19"/>
                </a:lnTo>
                <a:lnTo>
                  <a:pt x="252" y="22"/>
                </a:lnTo>
                <a:lnTo>
                  <a:pt x="247" y="31"/>
                </a:lnTo>
                <a:lnTo>
                  <a:pt x="238" y="45"/>
                </a:lnTo>
                <a:lnTo>
                  <a:pt x="228" y="62"/>
                </a:lnTo>
                <a:lnTo>
                  <a:pt x="215" y="79"/>
                </a:lnTo>
                <a:lnTo>
                  <a:pt x="202" y="98"/>
                </a:lnTo>
                <a:lnTo>
                  <a:pt x="190" y="115"/>
                </a:lnTo>
                <a:lnTo>
                  <a:pt x="176" y="12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91440" y="620640"/>
            <a:ext cx="163440" cy="149400"/>
          </a:xfrm>
          <a:custGeom>
            <a:avLst/>
            <a:gdLst/>
            <a:ahLst/>
            <a:rect l="l" t="t" r="r" b="b"/>
            <a:pathLst>
              <a:path w="205" h="188">
                <a:moveTo>
                  <a:pt x="0" y="167"/>
                </a:moveTo>
                <a:lnTo>
                  <a:pt x="205" y="0"/>
                </a:lnTo>
                <a:lnTo>
                  <a:pt x="202" y="7"/>
                </a:lnTo>
                <a:lnTo>
                  <a:pt x="193" y="26"/>
                </a:lnTo>
                <a:lnTo>
                  <a:pt x="181" y="54"/>
                </a:lnTo>
                <a:lnTo>
                  <a:pt x="167" y="85"/>
                </a:lnTo>
                <a:lnTo>
                  <a:pt x="152" y="117"/>
                </a:lnTo>
                <a:lnTo>
                  <a:pt x="138" y="149"/>
                </a:lnTo>
                <a:lnTo>
                  <a:pt x="124" y="173"/>
                </a:lnTo>
                <a:lnTo>
                  <a:pt x="116" y="188"/>
                </a:lnTo>
                <a:lnTo>
                  <a:pt x="0" y="1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201160" y="609480"/>
            <a:ext cx="128520" cy="10188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0" y="130"/>
                </a:moveTo>
                <a:lnTo>
                  <a:pt x="28" y="19"/>
                </a:lnTo>
                <a:lnTo>
                  <a:pt x="163" y="0"/>
                </a:lnTo>
                <a:lnTo>
                  <a:pt x="0" y="13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23400" y="839880"/>
            <a:ext cx="568080" cy="682560"/>
          </a:xfrm>
          <a:custGeom>
            <a:avLst/>
            <a:gdLst/>
            <a:ahLst/>
            <a:rect l="l" t="t" r="r" b="b"/>
            <a:pathLst>
              <a:path w="714" h="859">
                <a:moveTo>
                  <a:pt x="0" y="509"/>
                </a:moveTo>
                <a:lnTo>
                  <a:pt x="0" y="488"/>
                </a:lnTo>
                <a:lnTo>
                  <a:pt x="1" y="440"/>
                </a:lnTo>
                <a:lnTo>
                  <a:pt x="12" y="378"/>
                </a:lnTo>
                <a:lnTo>
                  <a:pt x="32" y="317"/>
                </a:lnTo>
                <a:lnTo>
                  <a:pt x="36" y="312"/>
                </a:lnTo>
                <a:lnTo>
                  <a:pt x="43" y="298"/>
                </a:lnTo>
                <a:lnTo>
                  <a:pt x="55" y="278"/>
                </a:lnTo>
                <a:lnTo>
                  <a:pt x="70" y="253"/>
                </a:lnTo>
                <a:lnTo>
                  <a:pt x="88" y="226"/>
                </a:lnTo>
                <a:lnTo>
                  <a:pt x="108" y="200"/>
                </a:lnTo>
                <a:lnTo>
                  <a:pt x="131" y="174"/>
                </a:lnTo>
                <a:lnTo>
                  <a:pt x="153" y="153"/>
                </a:lnTo>
                <a:lnTo>
                  <a:pt x="160" y="148"/>
                </a:lnTo>
                <a:lnTo>
                  <a:pt x="179" y="133"/>
                </a:lnTo>
                <a:lnTo>
                  <a:pt x="208" y="110"/>
                </a:lnTo>
                <a:lnTo>
                  <a:pt x="243" y="84"/>
                </a:lnTo>
                <a:lnTo>
                  <a:pt x="283" y="58"/>
                </a:lnTo>
                <a:lnTo>
                  <a:pt x="324" y="34"/>
                </a:lnTo>
                <a:lnTo>
                  <a:pt x="364" y="15"/>
                </a:lnTo>
                <a:lnTo>
                  <a:pt x="398" y="5"/>
                </a:lnTo>
                <a:lnTo>
                  <a:pt x="405" y="5"/>
                </a:lnTo>
                <a:lnTo>
                  <a:pt x="422" y="5"/>
                </a:lnTo>
                <a:lnTo>
                  <a:pt x="447" y="3"/>
                </a:lnTo>
                <a:lnTo>
                  <a:pt x="478" y="2"/>
                </a:lnTo>
                <a:lnTo>
                  <a:pt x="509" y="2"/>
                </a:lnTo>
                <a:lnTo>
                  <a:pt x="540" y="0"/>
                </a:lnTo>
                <a:lnTo>
                  <a:pt x="566" y="0"/>
                </a:lnTo>
                <a:lnTo>
                  <a:pt x="585" y="0"/>
                </a:lnTo>
                <a:lnTo>
                  <a:pt x="586" y="8"/>
                </a:lnTo>
                <a:lnTo>
                  <a:pt x="586" y="33"/>
                </a:lnTo>
                <a:lnTo>
                  <a:pt x="578" y="72"/>
                </a:lnTo>
                <a:lnTo>
                  <a:pt x="555" y="129"/>
                </a:lnTo>
                <a:lnTo>
                  <a:pt x="552" y="136"/>
                </a:lnTo>
                <a:lnTo>
                  <a:pt x="542" y="155"/>
                </a:lnTo>
                <a:lnTo>
                  <a:pt x="526" y="184"/>
                </a:lnTo>
                <a:lnTo>
                  <a:pt x="505" y="219"/>
                </a:lnTo>
                <a:lnTo>
                  <a:pt x="479" y="257"/>
                </a:lnTo>
                <a:lnTo>
                  <a:pt x="450" y="296"/>
                </a:lnTo>
                <a:lnTo>
                  <a:pt x="417" y="331"/>
                </a:lnTo>
                <a:lnTo>
                  <a:pt x="383" y="360"/>
                </a:lnTo>
                <a:lnTo>
                  <a:pt x="378" y="364"/>
                </a:lnTo>
                <a:lnTo>
                  <a:pt x="360" y="374"/>
                </a:lnTo>
                <a:lnTo>
                  <a:pt x="338" y="388"/>
                </a:lnTo>
                <a:lnTo>
                  <a:pt x="310" y="405"/>
                </a:lnTo>
                <a:lnTo>
                  <a:pt x="281" y="424"/>
                </a:lnTo>
                <a:lnTo>
                  <a:pt x="252" y="441"/>
                </a:lnTo>
                <a:lnTo>
                  <a:pt x="226" y="455"/>
                </a:lnTo>
                <a:lnTo>
                  <a:pt x="205" y="465"/>
                </a:lnTo>
                <a:lnTo>
                  <a:pt x="398" y="533"/>
                </a:lnTo>
                <a:lnTo>
                  <a:pt x="403" y="534"/>
                </a:lnTo>
                <a:lnTo>
                  <a:pt x="419" y="538"/>
                </a:lnTo>
                <a:lnTo>
                  <a:pt x="441" y="545"/>
                </a:lnTo>
                <a:lnTo>
                  <a:pt x="469" y="555"/>
                </a:lnTo>
                <a:lnTo>
                  <a:pt x="500" y="565"/>
                </a:lnTo>
                <a:lnTo>
                  <a:pt x="529" y="579"/>
                </a:lnTo>
                <a:lnTo>
                  <a:pt x="557" y="593"/>
                </a:lnTo>
                <a:lnTo>
                  <a:pt x="580" y="609"/>
                </a:lnTo>
                <a:lnTo>
                  <a:pt x="583" y="612"/>
                </a:lnTo>
                <a:lnTo>
                  <a:pt x="593" y="624"/>
                </a:lnTo>
                <a:lnTo>
                  <a:pt x="609" y="643"/>
                </a:lnTo>
                <a:lnTo>
                  <a:pt x="630" y="667"/>
                </a:lnTo>
                <a:lnTo>
                  <a:pt x="650" y="698"/>
                </a:lnTo>
                <a:lnTo>
                  <a:pt x="673" y="734"/>
                </a:lnTo>
                <a:lnTo>
                  <a:pt x="695" y="774"/>
                </a:lnTo>
                <a:lnTo>
                  <a:pt x="714" y="819"/>
                </a:lnTo>
                <a:lnTo>
                  <a:pt x="709" y="821"/>
                </a:lnTo>
                <a:lnTo>
                  <a:pt x="695" y="826"/>
                </a:lnTo>
                <a:lnTo>
                  <a:pt x="671" y="835"/>
                </a:lnTo>
                <a:lnTo>
                  <a:pt x="643" y="841"/>
                </a:lnTo>
                <a:lnTo>
                  <a:pt x="609" y="850"/>
                </a:lnTo>
                <a:lnTo>
                  <a:pt x="569" y="857"/>
                </a:lnTo>
                <a:lnTo>
                  <a:pt x="529" y="859"/>
                </a:lnTo>
                <a:lnTo>
                  <a:pt x="488" y="859"/>
                </a:lnTo>
                <a:lnTo>
                  <a:pt x="481" y="857"/>
                </a:lnTo>
                <a:lnTo>
                  <a:pt x="460" y="853"/>
                </a:lnTo>
                <a:lnTo>
                  <a:pt x="429" y="845"/>
                </a:lnTo>
                <a:lnTo>
                  <a:pt x="393" y="835"/>
                </a:lnTo>
                <a:lnTo>
                  <a:pt x="352" y="819"/>
                </a:lnTo>
                <a:lnTo>
                  <a:pt x="310" y="802"/>
                </a:lnTo>
                <a:lnTo>
                  <a:pt x="272" y="779"/>
                </a:lnTo>
                <a:lnTo>
                  <a:pt x="240" y="752"/>
                </a:lnTo>
                <a:lnTo>
                  <a:pt x="234" y="748"/>
                </a:lnTo>
                <a:lnTo>
                  <a:pt x="224" y="740"/>
                </a:lnTo>
                <a:lnTo>
                  <a:pt x="205" y="724"/>
                </a:lnTo>
                <a:lnTo>
                  <a:pt x="184" y="705"/>
                </a:lnTo>
                <a:lnTo>
                  <a:pt x="160" y="683"/>
                </a:lnTo>
                <a:lnTo>
                  <a:pt x="138" y="655"/>
                </a:lnTo>
                <a:lnTo>
                  <a:pt x="115" y="626"/>
                </a:lnTo>
                <a:lnTo>
                  <a:pt x="96" y="595"/>
                </a:lnTo>
                <a:lnTo>
                  <a:pt x="89" y="588"/>
                </a:lnTo>
                <a:lnTo>
                  <a:pt x="76" y="569"/>
                </a:lnTo>
                <a:lnTo>
                  <a:pt x="62" y="543"/>
                </a:lnTo>
                <a:lnTo>
                  <a:pt x="53" y="514"/>
                </a:lnTo>
                <a:lnTo>
                  <a:pt x="0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379000" y="1060560"/>
            <a:ext cx="487080" cy="217440"/>
          </a:xfrm>
          <a:custGeom>
            <a:avLst/>
            <a:gdLst/>
            <a:ahLst/>
            <a:rect l="l" t="t" r="r" b="b"/>
            <a:pathLst>
              <a:path w="614" h="274">
                <a:moveTo>
                  <a:pt x="0" y="177"/>
                </a:moveTo>
                <a:lnTo>
                  <a:pt x="38" y="153"/>
                </a:lnTo>
                <a:lnTo>
                  <a:pt x="39" y="150"/>
                </a:lnTo>
                <a:lnTo>
                  <a:pt x="48" y="141"/>
                </a:lnTo>
                <a:lnTo>
                  <a:pt x="60" y="129"/>
                </a:lnTo>
                <a:lnTo>
                  <a:pt x="76" y="113"/>
                </a:lnTo>
                <a:lnTo>
                  <a:pt x="98" y="94"/>
                </a:lnTo>
                <a:lnTo>
                  <a:pt x="122" y="77"/>
                </a:lnTo>
                <a:lnTo>
                  <a:pt x="153" y="58"/>
                </a:lnTo>
                <a:lnTo>
                  <a:pt x="186" y="43"/>
                </a:lnTo>
                <a:lnTo>
                  <a:pt x="191" y="41"/>
                </a:lnTo>
                <a:lnTo>
                  <a:pt x="205" y="34"/>
                </a:lnTo>
                <a:lnTo>
                  <a:pt x="227" y="27"/>
                </a:lnTo>
                <a:lnTo>
                  <a:pt x="253" y="18"/>
                </a:lnTo>
                <a:lnTo>
                  <a:pt x="284" y="10"/>
                </a:lnTo>
                <a:lnTo>
                  <a:pt x="317" y="3"/>
                </a:lnTo>
                <a:lnTo>
                  <a:pt x="348" y="0"/>
                </a:lnTo>
                <a:lnTo>
                  <a:pt x="379" y="0"/>
                </a:lnTo>
                <a:lnTo>
                  <a:pt x="384" y="0"/>
                </a:lnTo>
                <a:lnTo>
                  <a:pt x="398" y="1"/>
                </a:lnTo>
                <a:lnTo>
                  <a:pt x="421" y="5"/>
                </a:lnTo>
                <a:lnTo>
                  <a:pt x="447" y="12"/>
                </a:lnTo>
                <a:lnTo>
                  <a:pt x="474" y="20"/>
                </a:lnTo>
                <a:lnTo>
                  <a:pt x="504" y="34"/>
                </a:lnTo>
                <a:lnTo>
                  <a:pt x="531" y="53"/>
                </a:lnTo>
                <a:lnTo>
                  <a:pt x="555" y="77"/>
                </a:lnTo>
                <a:lnTo>
                  <a:pt x="614" y="158"/>
                </a:lnTo>
                <a:lnTo>
                  <a:pt x="612" y="160"/>
                </a:lnTo>
                <a:lnTo>
                  <a:pt x="607" y="167"/>
                </a:lnTo>
                <a:lnTo>
                  <a:pt x="597" y="175"/>
                </a:lnTo>
                <a:lnTo>
                  <a:pt x="585" y="186"/>
                </a:lnTo>
                <a:lnTo>
                  <a:pt x="569" y="198"/>
                </a:lnTo>
                <a:lnTo>
                  <a:pt x="548" y="212"/>
                </a:lnTo>
                <a:lnTo>
                  <a:pt x="526" y="224"/>
                </a:lnTo>
                <a:lnTo>
                  <a:pt x="498" y="236"/>
                </a:lnTo>
                <a:lnTo>
                  <a:pt x="493" y="237"/>
                </a:lnTo>
                <a:lnTo>
                  <a:pt x="479" y="241"/>
                </a:lnTo>
                <a:lnTo>
                  <a:pt x="457" y="248"/>
                </a:lnTo>
                <a:lnTo>
                  <a:pt x="431" y="255"/>
                </a:lnTo>
                <a:lnTo>
                  <a:pt x="402" y="262"/>
                </a:lnTo>
                <a:lnTo>
                  <a:pt x="371" y="269"/>
                </a:lnTo>
                <a:lnTo>
                  <a:pt x="341" y="272"/>
                </a:lnTo>
                <a:lnTo>
                  <a:pt x="315" y="274"/>
                </a:lnTo>
                <a:lnTo>
                  <a:pt x="310" y="274"/>
                </a:lnTo>
                <a:lnTo>
                  <a:pt x="296" y="272"/>
                </a:lnTo>
                <a:lnTo>
                  <a:pt x="276" y="270"/>
                </a:lnTo>
                <a:lnTo>
                  <a:pt x="250" y="265"/>
                </a:lnTo>
                <a:lnTo>
                  <a:pt x="221" y="258"/>
                </a:lnTo>
                <a:lnTo>
                  <a:pt x="188" y="250"/>
                </a:lnTo>
                <a:lnTo>
                  <a:pt x="153" y="236"/>
                </a:lnTo>
                <a:lnTo>
                  <a:pt x="120" y="220"/>
                </a:lnTo>
                <a:lnTo>
                  <a:pt x="119" y="219"/>
                </a:lnTo>
                <a:lnTo>
                  <a:pt x="117" y="217"/>
                </a:lnTo>
                <a:lnTo>
                  <a:pt x="112" y="213"/>
                </a:lnTo>
                <a:lnTo>
                  <a:pt x="105" y="208"/>
                </a:lnTo>
                <a:lnTo>
                  <a:pt x="96" y="201"/>
                </a:lnTo>
                <a:lnTo>
                  <a:pt x="88" y="194"/>
                </a:lnTo>
                <a:lnTo>
                  <a:pt x="77" y="186"/>
                </a:lnTo>
                <a:lnTo>
                  <a:pt x="67" y="177"/>
                </a:lnTo>
                <a:lnTo>
                  <a:pt x="64" y="175"/>
                </a:lnTo>
                <a:lnTo>
                  <a:pt x="53" y="174"/>
                </a:lnTo>
                <a:lnTo>
                  <a:pt x="39" y="177"/>
                </a:lnTo>
                <a:lnTo>
                  <a:pt x="19" y="193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153280" y="1019160"/>
            <a:ext cx="77760" cy="176400"/>
          </a:xfrm>
          <a:custGeom>
            <a:avLst/>
            <a:gdLst/>
            <a:ahLst/>
            <a:rect l="l" t="t" r="r" b="b"/>
            <a:pathLst>
              <a:path w="96" h="221">
                <a:moveTo>
                  <a:pt x="0" y="221"/>
                </a:moveTo>
                <a:lnTo>
                  <a:pt x="96" y="110"/>
                </a:lnTo>
                <a:lnTo>
                  <a:pt x="96" y="0"/>
                </a:lnTo>
                <a:lnTo>
                  <a:pt x="95" y="3"/>
                </a:lnTo>
                <a:lnTo>
                  <a:pt x="88" y="12"/>
                </a:lnTo>
                <a:lnTo>
                  <a:pt x="79" y="24"/>
                </a:lnTo>
                <a:lnTo>
                  <a:pt x="69" y="39"/>
                </a:lnTo>
                <a:lnTo>
                  <a:pt x="57" y="57"/>
                </a:lnTo>
                <a:lnTo>
                  <a:pt x="45" y="77"/>
                </a:lnTo>
                <a:lnTo>
                  <a:pt x="34" y="96"/>
                </a:lnTo>
                <a:lnTo>
                  <a:pt x="24" y="115"/>
                </a:lnTo>
                <a:lnTo>
                  <a:pt x="0" y="22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256600" y="917640"/>
            <a:ext cx="106200" cy="155520"/>
          </a:xfrm>
          <a:custGeom>
            <a:avLst/>
            <a:gdLst/>
            <a:ahLst/>
            <a:rect l="l" t="t" r="r" b="b"/>
            <a:pathLst>
              <a:path w="135" h="197">
                <a:moveTo>
                  <a:pt x="5" y="197"/>
                </a:moveTo>
                <a:lnTo>
                  <a:pt x="0" y="92"/>
                </a:lnTo>
                <a:lnTo>
                  <a:pt x="2" y="90"/>
                </a:lnTo>
                <a:lnTo>
                  <a:pt x="5" y="83"/>
                </a:lnTo>
                <a:lnTo>
                  <a:pt x="12" y="76"/>
                </a:lnTo>
                <a:lnTo>
                  <a:pt x="19" y="66"/>
                </a:lnTo>
                <a:lnTo>
                  <a:pt x="29" y="54"/>
                </a:lnTo>
                <a:lnTo>
                  <a:pt x="41" y="44"/>
                </a:lnTo>
                <a:lnTo>
                  <a:pt x="54" y="33"/>
                </a:lnTo>
                <a:lnTo>
                  <a:pt x="67" y="25"/>
                </a:lnTo>
                <a:lnTo>
                  <a:pt x="135" y="0"/>
                </a:lnTo>
                <a:lnTo>
                  <a:pt x="130" y="57"/>
                </a:lnTo>
                <a:lnTo>
                  <a:pt x="5" y="197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393040" y="863640"/>
            <a:ext cx="133560" cy="92160"/>
          </a:xfrm>
          <a:custGeom>
            <a:avLst/>
            <a:gdLst/>
            <a:ahLst/>
            <a:rect l="l" t="t" r="r" b="b"/>
            <a:pathLst>
              <a:path w="167" h="116">
                <a:moveTo>
                  <a:pt x="0" y="116"/>
                </a:moveTo>
                <a:lnTo>
                  <a:pt x="10" y="43"/>
                </a:lnTo>
                <a:lnTo>
                  <a:pt x="13" y="42"/>
                </a:lnTo>
                <a:lnTo>
                  <a:pt x="20" y="36"/>
                </a:lnTo>
                <a:lnTo>
                  <a:pt x="34" y="29"/>
                </a:lnTo>
                <a:lnTo>
                  <a:pt x="53" y="21"/>
                </a:lnTo>
                <a:lnTo>
                  <a:pt x="76" y="14"/>
                </a:lnTo>
                <a:lnTo>
                  <a:pt x="103" y="7"/>
                </a:lnTo>
                <a:lnTo>
                  <a:pt x="133" y="2"/>
                </a:lnTo>
                <a:lnTo>
                  <a:pt x="167" y="0"/>
                </a:lnTo>
                <a:lnTo>
                  <a:pt x="0" y="116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451720" y="871560"/>
            <a:ext cx="109800" cy="87120"/>
          </a:xfrm>
          <a:custGeom>
            <a:avLst/>
            <a:gdLst/>
            <a:ahLst/>
            <a:rect l="l" t="t" r="r" b="b"/>
            <a:pathLst>
              <a:path w="138" h="108">
                <a:moveTo>
                  <a:pt x="0" y="108"/>
                </a:moveTo>
                <a:lnTo>
                  <a:pt x="138" y="0"/>
                </a:lnTo>
                <a:lnTo>
                  <a:pt x="135" y="13"/>
                </a:lnTo>
                <a:lnTo>
                  <a:pt x="124" y="43"/>
                </a:lnTo>
                <a:lnTo>
                  <a:pt x="111" y="79"/>
                </a:lnTo>
                <a:lnTo>
                  <a:pt x="95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344080" y="981000"/>
            <a:ext cx="164880" cy="65160"/>
          </a:xfrm>
          <a:custGeom>
            <a:avLst/>
            <a:gdLst/>
            <a:ahLst/>
            <a:rect l="l" t="t" r="r" b="b"/>
            <a:pathLst>
              <a:path w="207" h="82">
                <a:moveTo>
                  <a:pt x="96" y="0"/>
                </a:moveTo>
                <a:lnTo>
                  <a:pt x="207" y="0"/>
                </a:lnTo>
                <a:lnTo>
                  <a:pt x="205" y="2"/>
                </a:lnTo>
                <a:lnTo>
                  <a:pt x="203" y="9"/>
                </a:lnTo>
                <a:lnTo>
                  <a:pt x="198" y="19"/>
                </a:lnTo>
                <a:lnTo>
                  <a:pt x="191" y="30"/>
                </a:lnTo>
                <a:lnTo>
                  <a:pt x="182" y="44"/>
                </a:lnTo>
                <a:lnTo>
                  <a:pt x="172" y="57"/>
                </a:lnTo>
                <a:lnTo>
                  <a:pt x="160" y="69"/>
                </a:lnTo>
                <a:lnTo>
                  <a:pt x="148" y="82"/>
                </a:lnTo>
                <a:lnTo>
                  <a:pt x="0" y="82"/>
                </a:lnTo>
                <a:lnTo>
                  <a:pt x="9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269200" y="1073160"/>
            <a:ext cx="166680" cy="55440"/>
          </a:xfrm>
          <a:custGeom>
            <a:avLst/>
            <a:gdLst/>
            <a:ahLst/>
            <a:rect l="l" t="t" r="r" b="b"/>
            <a:pathLst>
              <a:path w="210" h="71">
                <a:moveTo>
                  <a:pt x="62" y="0"/>
                </a:moveTo>
                <a:lnTo>
                  <a:pt x="210" y="0"/>
                </a:lnTo>
                <a:lnTo>
                  <a:pt x="208" y="2"/>
                </a:lnTo>
                <a:lnTo>
                  <a:pt x="203" y="7"/>
                </a:lnTo>
                <a:lnTo>
                  <a:pt x="196" y="16"/>
                </a:lnTo>
                <a:lnTo>
                  <a:pt x="186" y="24"/>
                </a:lnTo>
                <a:lnTo>
                  <a:pt x="172" y="36"/>
                </a:lnTo>
                <a:lnTo>
                  <a:pt x="155" y="48"/>
                </a:lnTo>
                <a:lnTo>
                  <a:pt x="136" y="60"/>
                </a:lnTo>
                <a:lnTo>
                  <a:pt x="114" y="71"/>
                </a:ln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188200" y="1147680"/>
            <a:ext cx="122400" cy="73080"/>
          </a:xfrm>
          <a:custGeom>
            <a:avLst/>
            <a:gdLst/>
            <a:ahLst/>
            <a:rect l="l" t="t" r="r" b="b"/>
            <a:pathLst>
              <a:path w="153" h="91">
                <a:moveTo>
                  <a:pt x="53" y="0"/>
                </a:moveTo>
                <a:lnTo>
                  <a:pt x="153" y="15"/>
                </a:lnTo>
                <a:lnTo>
                  <a:pt x="152" y="19"/>
                </a:lnTo>
                <a:lnTo>
                  <a:pt x="143" y="26"/>
                </a:lnTo>
                <a:lnTo>
                  <a:pt x="131" y="36"/>
                </a:lnTo>
                <a:lnTo>
                  <a:pt x="115" y="48"/>
                </a:lnTo>
                <a:lnTo>
                  <a:pt x="93" y="62"/>
                </a:lnTo>
                <a:lnTo>
                  <a:pt x="67" y="74"/>
                </a:lnTo>
                <a:lnTo>
                  <a:pt x="36" y="84"/>
                </a:lnTo>
                <a:lnTo>
                  <a:pt x="0" y="91"/>
                </a:lnTo>
                <a:lnTo>
                  <a:pt x="53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231040" y="1251000"/>
            <a:ext cx="230400" cy="6516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7" y="2"/>
                </a:lnTo>
                <a:lnTo>
                  <a:pt x="93" y="5"/>
                </a:lnTo>
                <a:lnTo>
                  <a:pt x="137" y="11"/>
                </a:lnTo>
                <a:lnTo>
                  <a:pt x="180" y="19"/>
                </a:lnTo>
                <a:lnTo>
                  <a:pt x="223" y="31"/>
                </a:lnTo>
                <a:lnTo>
                  <a:pt x="264" y="48"/>
                </a:lnTo>
                <a:lnTo>
                  <a:pt x="292" y="62"/>
                </a:lnTo>
                <a:lnTo>
                  <a:pt x="168" y="8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226360" y="1278000"/>
            <a:ext cx="79560" cy="11412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0"/>
                </a:moveTo>
                <a:lnTo>
                  <a:pt x="100" y="67"/>
                </a:lnTo>
                <a:lnTo>
                  <a:pt x="100" y="143"/>
                </a:lnTo>
                <a:lnTo>
                  <a:pt x="97" y="141"/>
                </a:lnTo>
                <a:lnTo>
                  <a:pt x="88" y="132"/>
                </a:lnTo>
                <a:lnTo>
                  <a:pt x="76" y="122"/>
                </a:lnTo>
                <a:lnTo>
                  <a:pt x="61" y="105"/>
                </a:lnTo>
                <a:lnTo>
                  <a:pt x="45" y="86"/>
                </a:lnTo>
                <a:lnTo>
                  <a:pt x="28" y="60"/>
                </a:lnTo>
                <a:lnTo>
                  <a:pt x="12" y="3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344080" y="1338120"/>
            <a:ext cx="68040" cy="12240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101"/>
                </a:moveTo>
                <a:lnTo>
                  <a:pt x="0" y="0"/>
                </a:lnTo>
                <a:lnTo>
                  <a:pt x="77" y="24"/>
                </a:lnTo>
                <a:lnTo>
                  <a:pt x="86" y="153"/>
                </a:lnTo>
                <a:lnTo>
                  <a:pt x="0" y="10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431200" y="1380960"/>
            <a:ext cx="100080" cy="103320"/>
          </a:xfrm>
          <a:custGeom>
            <a:avLst/>
            <a:gdLst/>
            <a:ahLst/>
            <a:rect l="l" t="t" r="r" b="b"/>
            <a:pathLst>
              <a:path w="124" h="129">
                <a:moveTo>
                  <a:pt x="0" y="0"/>
                </a:moveTo>
                <a:lnTo>
                  <a:pt x="5" y="105"/>
                </a:lnTo>
                <a:lnTo>
                  <a:pt x="7" y="107"/>
                </a:lnTo>
                <a:lnTo>
                  <a:pt x="14" y="110"/>
                </a:lnTo>
                <a:lnTo>
                  <a:pt x="26" y="114"/>
                </a:lnTo>
                <a:lnTo>
                  <a:pt x="40" y="119"/>
                </a:lnTo>
                <a:lnTo>
                  <a:pt x="57" y="124"/>
                </a:lnTo>
                <a:lnTo>
                  <a:pt x="78" y="128"/>
                </a:lnTo>
                <a:lnTo>
                  <a:pt x="100" y="129"/>
                </a:lnTo>
                <a:lnTo>
                  <a:pt x="124" y="129"/>
                </a:lnTo>
                <a:lnTo>
                  <a:pt x="67" y="1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534520" y="1425600"/>
            <a:ext cx="102960" cy="60480"/>
          </a:xfrm>
          <a:custGeom>
            <a:avLst/>
            <a:gdLst/>
            <a:ahLst/>
            <a:rect l="l" t="t" r="r" b="b"/>
            <a:pathLst>
              <a:path w="130" h="74">
                <a:moveTo>
                  <a:pt x="0" y="0"/>
                </a:moveTo>
                <a:lnTo>
                  <a:pt x="38" y="72"/>
                </a:lnTo>
                <a:lnTo>
                  <a:pt x="40" y="72"/>
                </a:lnTo>
                <a:lnTo>
                  <a:pt x="47" y="72"/>
                </a:lnTo>
                <a:lnTo>
                  <a:pt x="56" y="74"/>
                </a:lnTo>
                <a:lnTo>
                  <a:pt x="68" y="74"/>
                </a:lnTo>
                <a:lnTo>
                  <a:pt x="81" y="74"/>
                </a:lnTo>
                <a:lnTo>
                  <a:pt x="97" y="72"/>
                </a:lnTo>
                <a:lnTo>
                  <a:pt x="114" y="71"/>
                </a:lnTo>
                <a:lnTo>
                  <a:pt x="130" y="67"/>
                </a:lnTo>
                <a:lnTo>
                  <a:pt x="128" y="65"/>
                </a:lnTo>
                <a:lnTo>
                  <a:pt x="121" y="60"/>
                </a:lnTo>
                <a:lnTo>
                  <a:pt x="111" y="53"/>
                </a:lnTo>
                <a:lnTo>
                  <a:pt x="97" y="45"/>
                </a:lnTo>
                <a:lnTo>
                  <a:pt x="80" y="34"/>
                </a:lnTo>
                <a:lnTo>
                  <a:pt x="57" y="22"/>
                </a:lnTo>
                <a:lnTo>
                  <a:pt x="31" y="1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435880" y="1312920"/>
            <a:ext cx="125640" cy="60120"/>
          </a:xfrm>
          <a:custGeom>
            <a:avLst/>
            <a:gdLst/>
            <a:ahLst/>
            <a:rect l="l" t="t" r="r" b="b"/>
            <a:pathLst>
              <a:path w="157" h="76">
                <a:moveTo>
                  <a:pt x="0" y="27"/>
                </a:moveTo>
                <a:lnTo>
                  <a:pt x="81" y="0"/>
                </a:lnTo>
                <a:lnTo>
                  <a:pt x="85" y="2"/>
                </a:lnTo>
                <a:lnTo>
                  <a:pt x="92" y="5"/>
                </a:lnTo>
                <a:lnTo>
                  <a:pt x="102" y="10"/>
                </a:lnTo>
                <a:lnTo>
                  <a:pt x="114" y="15"/>
                </a:lnTo>
                <a:lnTo>
                  <a:pt x="128" y="22"/>
                </a:lnTo>
                <a:lnTo>
                  <a:pt x="140" y="29"/>
                </a:lnTo>
                <a:lnTo>
                  <a:pt x="150" y="36"/>
                </a:lnTo>
                <a:lnTo>
                  <a:pt x="157" y="43"/>
                </a:lnTo>
                <a:lnTo>
                  <a:pt x="95" y="76"/>
                </a:lnTo>
                <a:lnTo>
                  <a:pt x="0" y="2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545680" y="1376280"/>
            <a:ext cx="95040" cy="60480"/>
          </a:xfrm>
          <a:custGeom>
            <a:avLst/>
            <a:gdLst/>
            <a:ahLst/>
            <a:rect l="l" t="t" r="r" b="b"/>
            <a:pathLst>
              <a:path w="121" h="76">
                <a:moveTo>
                  <a:pt x="0" y="14"/>
                </a:moveTo>
                <a:lnTo>
                  <a:pt x="59" y="0"/>
                </a:lnTo>
                <a:lnTo>
                  <a:pt x="61" y="2"/>
                </a:lnTo>
                <a:lnTo>
                  <a:pt x="64" y="5"/>
                </a:lnTo>
                <a:lnTo>
                  <a:pt x="69" y="12"/>
                </a:lnTo>
                <a:lnTo>
                  <a:pt x="76" y="21"/>
                </a:lnTo>
                <a:lnTo>
                  <a:pt x="85" y="31"/>
                </a:lnTo>
                <a:lnTo>
                  <a:pt x="95" y="45"/>
                </a:lnTo>
                <a:lnTo>
                  <a:pt x="107" y="58"/>
                </a:lnTo>
                <a:lnTo>
                  <a:pt x="121" y="76"/>
                </a:lnTo>
                <a:lnTo>
                  <a:pt x="0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466120" y="1182600"/>
            <a:ext cx="147600" cy="65160"/>
          </a:xfrm>
          <a:custGeom>
            <a:avLst/>
            <a:gdLst/>
            <a:ahLst/>
            <a:rect l="l" t="t" r="r" b="b"/>
            <a:pathLst>
              <a:path w="186" h="83">
                <a:moveTo>
                  <a:pt x="0" y="0"/>
                </a:moveTo>
                <a:lnTo>
                  <a:pt x="105" y="0"/>
                </a:lnTo>
                <a:lnTo>
                  <a:pt x="186" y="83"/>
                </a:lnTo>
                <a:lnTo>
                  <a:pt x="181" y="83"/>
                </a:lnTo>
                <a:lnTo>
                  <a:pt x="164" y="79"/>
                </a:lnTo>
                <a:lnTo>
                  <a:pt x="140" y="76"/>
                </a:lnTo>
                <a:lnTo>
                  <a:pt x="112" y="69"/>
                </a:lnTo>
                <a:lnTo>
                  <a:pt x="79" y="59"/>
                </a:lnTo>
                <a:lnTo>
                  <a:pt x="50" y="43"/>
                </a:lnTo>
                <a:lnTo>
                  <a:pt x="23" y="2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607600" y="1171440"/>
            <a:ext cx="136440" cy="65160"/>
          </a:xfrm>
          <a:custGeom>
            <a:avLst/>
            <a:gdLst/>
            <a:ahLst/>
            <a:rect l="l" t="t" r="r" b="b"/>
            <a:pathLst>
              <a:path w="172" h="81">
                <a:moveTo>
                  <a:pt x="0" y="5"/>
                </a:moveTo>
                <a:lnTo>
                  <a:pt x="124" y="0"/>
                </a:lnTo>
                <a:lnTo>
                  <a:pt x="172" y="57"/>
                </a:lnTo>
                <a:lnTo>
                  <a:pt x="169" y="59"/>
                </a:lnTo>
                <a:lnTo>
                  <a:pt x="162" y="61"/>
                </a:lnTo>
                <a:lnTo>
                  <a:pt x="150" y="64"/>
                </a:lnTo>
                <a:lnTo>
                  <a:pt x="136" y="69"/>
                </a:lnTo>
                <a:lnTo>
                  <a:pt x="121" y="74"/>
                </a:lnTo>
                <a:lnTo>
                  <a:pt x="103" y="78"/>
                </a:lnTo>
                <a:lnTo>
                  <a:pt x="86" y="80"/>
                </a:lnTo>
                <a:lnTo>
                  <a:pt x="71" y="81"/>
                </a:lnTo>
                <a:lnTo>
                  <a:pt x="57" y="78"/>
                </a:lnTo>
                <a:lnTo>
                  <a:pt x="43" y="69"/>
                </a:lnTo>
                <a:lnTo>
                  <a:pt x="31" y="57"/>
                </a:lnTo>
                <a:lnTo>
                  <a:pt x="21" y="43"/>
                </a:lnTo>
                <a:lnTo>
                  <a:pt x="12" y="30"/>
                </a:lnTo>
                <a:lnTo>
                  <a:pt x="5" y="17"/>
                </a:lnTo>
                <a:lnTo>
                  <a:pt x="2" y="9"/>
                </a:lnTo>
                <a:lnTo>
                  <a:pt x="0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8744040" y="1176480"/>
            <a:ext cx="90360" cy="25200"/>
          </a:xfrm>
          <a:custGeom>
            <a:avLst/>
            <a:gdLst/>
            <a:ahLst/>
            <a:rect l="l" t="t" r="r" b="b"/>
            <a:pathLst>
              <a:path w="114" h="33">
                <a:moveTo>
                  <a:pt x="0" y="0"/>
                </a:moveTo>
                <a:lnTo>
                  <a:pt x="33" y="33"/>
                </a:lnTo>
                <a:lnTo>
                  <a:pt x="114" y="6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715240" y="1095480"/>
            <a:ext cx="82800" cy="46080"/>
          </a:xfrm>
          <a:custGeom>
            <a:avLst/>
            <a:gdLst/>
            <a:ahLst/>
            <a:rect l="l" t="t" r="r" b="b"/>
            <a:pathLst>
              <a:path w="104" h="58">
                <a:moveTo>
                  <a:pt x="2" y="58"/>
                </a:moveTo>
                <a:lnTo>
                  <a:pt x="104" y="48"/>
                </a:lnTo>
                <a:lnTo>
                  <a:pt x="102" y="46"/>
                </a:lnTo>
                <a:lnTo>
                  <a:pt x="97" y="41"/>
                </a:lnTo>
                <a:lnTo>
                  <a:pt x="90" y="36"/>
                </a:lnTo>
                <a:lnTo>
                  <a:pt x="80" y="27"/>
                </a:lnTo>
                <a:lnTo>
                  <a:pt x="67" y="19"/>
                </a:lnTo>
                <a:lnTo>
                  <a:pt x="54" y="12"/>
                </a:lnTo>
                <a:lnTo>
                  <a:pt x="40" y="5"/>
                </a:lnTo>
                <a:lnTo>
                  <a:pt x="26" y="0"/>
                </a:lnTo>
                <a:lnTo>
                  <a:pt x="7" y="5"/>
                </a:lnTo>
                <a:lnTo>
                  <a:pt x="0" y="25"/>
                </a:lnTo>
                <a:lnTo>
                  <a:pt x="0" y="48"/>
                </a:lnTo>
                <a:lnTo>
                  <a:pt x="2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607600" y="1087560"/>
            <a:ext cx="90360" cy="50760"/>
          </a:xfrm>
          <a:custGeom>
            <a:avLst/>
            <a:gdLst/>
            <a:ahLst/>
            <a:rect l="l" t="t" r="r" b="b"/>
            <a:pathLst>
              <a:path w="114" h="62">
                <a:moveTo>
                  <a:pt x="81" y="62"/>
                </a:moveTo>
                <a:lnTo>
                  <a:pt x="114" y="0"/>
                </a:lnTo>
                <a:lnTo>
                  <a:pt x="112" y="0"/>
                </a:lnTo>
                <a:lnTo>
                  <a:pt x="105" y="0"/>
                </a:lnTo>
                <a:lnTo>
                  <a:pt x="96" y="0"/>
                </a:lnTo>
                <a:lnTo>
                  <a:pt x="86" y="0"/>
                </a:lnTo>
                <a:lnTo>
                  <a:pt x="74" y="2"/>
                </a:lnTo>
                <a:lnTo>
                  <a:pt x="60" y="3"/>
                </a:lnTo>
                <a:lnTo>
                  <a:pt x="46" y="7"/>
                </a:lnTo>
                <a:lnTo>
                  <a:pt x="33" y="14"/>
                </a:lnTo>
                <a:lnTo>
                  <a:pt x="14" y="29"/>
                </a:lnTo>
                <a:lnTo>
                  <a:pt x="3" y="43"/>
                </a:lnTo>
                <a:lnTo>
                  <a:pt x="0" y="53"/>
                </a:lnTo>
                <a:lnTo>
                  <a:pt x="0" y="57"/>
                </a:lnTo>
                <a:lnTo>
                  <a:pt x="81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475840" y="1095480"/>
            <a:ext cx="115560" cy="69840"/>
          </a:xfrm>
          <a:custGeom>
            <a:avLst/>
            <a:gdLst/>
            <a:ahLst/>
            <a:rect l="l" t="t" r="r" b="b"/>
            <a:pathLst>
              <a:path w="147" h="88">
                <a:moveTo>
                  <a:pt x="85" y="67"/>
                </a:moveTo>
                <a:lnTo>
                  <a:pt x="147" y="0"/>
                </a:lnTo>
                <a:lnTo>
                  <a:pt x="142" y="1"/>
                </a:lnTo>
                <a:lnTo>
                  <a:pt x="130" y="5"/>
                </a:lnTo>
                <a:lnTo>
                  <a:pt x="112" y="12"/>
                </a:lnTo>
                <a:lnTo>
                  <a:pt x="90" y="22"/>
                </a:lnTo>
                <a:lnTo>
                  <a:pt x="66" y="32"/>
                </a:lnTo>
                <a:lnTo>
                  <a:pt x="43" y="44"/>
                </a:lnTo>
                <a:lnTo>
                  <a:pt x="23" y="58"/>
                </a:lnTo>
                <a:lnTo>
                  <a:pt x="7" y="72"/>
                </a:lnTo>
                <a:lnTo>
                  <a:pt x="0" y="82"/>
                </a:lnTo>
                <a:lnTo>
                  <a:pt x="5" y="88"/>
                </a:lnTo>
                <a:lnTo>
                  <a:pt x="17" y="88"/>
                </a:lnTo>
                <a:lnTo>
                  <a:pt x="33" y="84"/>
                </a:lnTo>
                <a:lnTo>
                  <a:pt x="52" y="79"/>
                </a:lnTo>
                <a:lnTo>
                  <a:pt x="67" y="74"/>
                </a:lnTo>
                <a:lnTo>
                  <a:pt x="80" y="69"/>
                </a:lnTo>
                <a:lnTo>
                  <a:pt x="85" y="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940440" y="3200400"/>
            <a:ext cx="58680" cy="195120"/>
          </a:xfrm>
          <a:custGeom>
            <a:avLst/>
            <a:gdLst/>
            <a:ahLst/>
            <a:rect l="l" t="t" r="r" b="b"/>
            <a:pathLst>
              <a:path w="113" h="368">
                <a:moveTo>
                  <a:pt x="8" y="0"/>
                </a:moveTo>
                <a:lnTo>
                  <a:pt x="0" y="271"/>
                </a:lnTo>
                <a:lnTo>
                  <a:pt x="36" y="368"/>
                </a:lnTo>
                <a:lnTo>
                  <a:pt x="113" y="239"/>
                </a:lnTo>
                <a:lnTo>
                  <a:pt x="57" y="89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e0a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532640" y="2790720"/>
            <a:ext cx="100080" cy="101880"/>
          </a:xfrm>
          <a:custGeom>
            <a:avLst/>
            <a:gdLst/>
            <a:ahLst/>
            <a:rect l="l" t="t" r="r" b="b"/>
            <a:pathLst>
              <a:path w="187" h="193">
                <a:moveTo>
                  <a:pt x="0" y="117"/>
                </a:moveTo>
                <a:lnTo>
                  <a:pt x="187" y="0"/>
                </a:lnTo>
                <a:lnTo>
                  <a:pt x="179" y="77"/>
                </a:lnTo>
                <a:lnTo>
                  <a:pt x="33" y="193"/>
                </a:lnTo>
                <a:lnTo>
                  <a:pt x="0" y="117"/>
                </a:lnTo>
                <a:lnTo>
                  <a:pt x="0" y="117"/>
                </a:lnTo>
                <a:close/>
              </a:path>
            </a:pathLst>
          </a:cu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732720" y="1933560"/>
            <a:ext cx="939600" cy="1123920"/>
          </a:xfrm>
          <a:custGeom>
            <a:avLst/>
            <a:gdLst/>
            <a:ahLst/>
            <a:rect l="l" t="t" r="r" b="b"/>
            <a:pathLst>
              <a:path w="1774" h="2123">
                <a:moveTo>
                  <a:pt x="943" y="8"/>
                </a:moveTo>
                <a:lnTo>
                  <a:pt x="1153" y="97"/>
                </a:lnTo>
                <a:lnTo>
                  <a:pt x="1186" y="57"/>
                </a:lnTo>
                <a:lnTo>
                  <a:pt x="1267" y="138"/>
                </a:lnTo>
                <a:lnTo>
                  <a:pt x="1346" y="267"/>
                </a:lnTo>
                <a:lnTo>
                  <a:pt x="1346" y="429"/>
                </a:lnTo>
                <a:lnTo>
                  <a:pt x="1774" y="775"/>
                </a:lnTo>
                <a:lnTo>
                  <a:pt x="1234" y="573"/>
                </a:lnTo>
                <a:lnTo>
                  <a:pt x="1129" y="630"/>
                </a:lnTo>
                <a:lnTo>
                  <a:pt x="936" y="589"/>
                </a:lnTo>
                <a:lnTo>
                  <a:pt x="904" y="508"/>
                </a:lnTo>
                <a:lnTo>
                  <a:pt x="807" y="517"/>
                </a:lnTo>
                <a:lnTo>
                  <a:pt x="734" y="606"/>
                </a:lnTo>
                <a:lnTo>
                  <a:pt x="766" y="735"/>
                </a:lnTo>
                <a:lnTo>
                  <a:pt x="943" y="743"/>
                </a:lnTo>
                <a:lnTo>
                  <a:pt x="1371" y="808"/>
                </a:lnTo>
                <a:lnTo>
                  <a:pt x="1484" y="1010"/>
                </a:lnTo>
                <a:lnTo>
                  <a:pt x="1259" y="1251"/>
                </a:lnTo>
                <a:lnTo>
                  <a:pt x="1153" y="1623"/>
                </a:lnTo>
                <a:lnTo>
                  <a:pt x="1008" y="1848"/>
                </a:lnTo>
                <a:lnTo>
                  <a:pt x="750" y="1986"/>
                </a:lnTo>
                <a:lnTo>
                  <a:pt x="580" y="2123"/>
                </a:lnTo>
                <a:lnTo>
                  <a:pt x="0" y="1897"/>
                </a:lnTo>
                <a:lnTo>
                  <a:pt x="225" y="1130"/>
                </a:lnTo>
                <a:lnTo>
                  <a:pt x="176" y="1091"/>
                </a:lnTo>
                <a:lnTo>
                  <a:pt x="330" y="961"/>
                </a:lnTo>
                <a:lnTo>
                  <a:pt x="766" y="994"/>
                </a:lnTo>
                <a:lnTo>
                  <a:pt x="855" y="969"/>
                </a:lnTo>
                <a:lnTo>
                  <a:pt x="525" y="767"/>
                </a:lnTo>
                <a:lnTo>
                  <a:pt x="500" y="549"/>
                </a:lnTo>
                <a:lnTo>
                  <a:pt x="620" y="300"/>
                </a:lnTo>
                <a:lnTo>
                  <a:pt x="967" y="162"/>
                </a:lnTo>
                <a:lnTo>
                  <a:pt x="880" y="0"/>
                </a:lnTo>
                <a:lnTo>
                  <a:pt x="943" y="8"/>
                </a:lnTo>
                <a:lnTo>
                  <a:pt x="9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2927520"/>
            <a:ext cx="1162080" cy="60300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66c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197840" y="1947960"/>
            <a:ext cx="269640" cy="214200"/>
          </a:xfrm>
          <a:custGeom>
            <a:avLst/>
            <a:gdLst/>
            <a:ahLst/>
            <a:rect l="l" t="t" r="r" b="b"/>
            <a:pathLst>
              <a:path w="509" h="406">
                <a:moveTo>
                  <a:pt x="274" y="395"/>
                </a:moveTo>
                <a:lnTo>
                  <a:pt x="329" y="400"/>
                </a:lnTo>
                <a:lnTo>
                  <a:pt x="334" y="391"/>
                </a:lnTo>
                <a:lnTo>
                  <a:pt x="371" y="391"/>
                </a:lnTo>
                <a:lnTo>
                  <a:pt x="363" y="368"/>
                </a:lnTo>
                <a:lnTo>
                  <a:pt x="398" y="368"/>
                </a:lnTo>
                <a:lnTo>
                  <a:pt x="385" y="326"/>
                </a:lnTo>
                <a:lnTo>
                  <a:pt x="340" y="238"/>
                </a:lnTo>
                <a:lnTo>
                  <a:pt x="217" y="144"/>
                </a:lnTo>
                <a:lnTo>
                  <a:pt x="130" y="58"/>
                </a:lnTo>
                <a:lnTo>
                  <a:pt x="212" y="70"/>
                </a:lnTo>
                <a:lnTo>
                  <a:pt x="265" y="87"/>
                </a:lnTo>
                <a:lnTo>
                  <a:pt x="335" y="137"/>
                </a:lnTo>
                <a:lnTo>
                  <a:pt x="338" y="100"/>
                </a:lnTo>
                <a:lnTo>
                  <a:pt x="425" y="213"/>
                </a:lnTo>
                <a:lnTo>
                  <a:pt x="463" y="380"/>
                </a:lnTo>
                <a:lnTo>
                  <a:pt x="509" y="406"/>
                </a:lnTo>
                <a:lnTo>
                  <a:pt x="467" y="249"/>
                </a:lnTo>
                <a:lnTo>
                  <a:pt x="363" y="66"/>
                </a:lnTo>
                <a:lnTo>
                  <a:pt x="300" y="24"/>
                </a:lnTo>
                <a:lnTo>
                  <a:pt x="294" y="56"/>
                </a:lnTo>
                <a:lnTo>
                  <a:pt x="182" y="24"/>
                </a:lnTo>
                <a:lnTo>
                  <a:pt x="0" y="0"/>
                </a:lnTo>
                <a:lnTo>
                  <a:pt x="101" y="94"/>
                </a:lnTo>
                <a:lnTo>
                  <a:pt x="265" y="222"/>
                </a:lnTo>
                <a:lnTo>
                  <a:pt x="338" y="323"/>
                </a:lnTo>
                <a:lnTo>
                  <a:pt x="320" y="362"/>
                </a:lnTo>
                <a:lnTo>
                  <a:pt x="274" y="395"/>
                </a:lnTo>
                <a:lnTo>
                  <a:pt x="274" y="395"/>
                </a:lnTo>
                <a:close/>
              </a:path>
            </a:pathLst>
          </a:custGeom>
          <a:solidFill>
            <a:srgbClr val="e3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310520" y="2097000"/>
            <a:ext cx="55440" cy="52560"/>
          </a:xfrm>
          <a:custGeom>
            <a:avLst/>
            <a:gdLst/>
            <a:ahLst/>
            <a:rect l="l" t="t" r="r" b="b"/>
            <a:pathLst>
              <a:path w="105" h="97">
                <a:moveTo>
                  <a:pt x="0" y="30"/>
                </a:moveTo>
                <a:lnTo>
                  <a:pt x="53" y="0"/>
                </a:lnTo>
                <a:lnTo>
                  <a:pt x="86" y="15"/>
                </a:lnTo>
                <a:lnTo>
                  <a:pt x="105" y="67"/>
                </a:lnTo>
                <a:lnTo>
                  <a:pt x="72" y="97"/>
                </a:lnTo>
                <a:lnTo>
                  <a:pt x="14" y="97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711840" y="2516040"/>
            <a:ext cx="501840" cy="474840"/>
          </a:xfrm>
          <a:custGeom>
            <a:avLst/>
            <a:gdLst/>
            <a:ahLst/>
            <a:rect l="l" t="t" r="r" b="b"/>
            <a:pathLst>
              <a:path w="947" h="898">
                <a:moveTo>
                  <a:pt x="289" y="6"/>
                </a:moveTo>
                <a:lnTo>
                  <a:pt x="377" y="0"/>
                </a:lnTo>
                <a:lnTo>
                  <a:pt x="366" y="54"/>
                </a:lnTo>
                <a:lnTo>
                  <a:pt x="420" y="116"/>
                </a:lnTo>
                <a:lnTo>
                  <a:pt x="265" y="251"/>
                </a:lnTo>
                <a:lnTo>
                  <a:pt x="353" y="247"/>
                </a:lnTo>
                <a:lnTo>
                  <a:pt x="289" y="382"/>
                </a:lnTo>
                <a:lnTo>
                  <a:pt x="343" y="406"/>
                </a:lnTo>
                <a:lnTo>
                  <a:pt x="473" y="324"/>
                </a:lnTo>
                <a:lnTo>
                  <a:pt x="525" y="434"/>
                </a:lnTo>
                <a:lnTo>
                  <a:pt x="589" y="411"/>
                </a:lnTo>
                <a:lnTo>
                  <a:pt x="583" y="363"/>
                </a:lnTo>
                <a:lnTo>
                  <a:pt x="743" y="295"/>
                </a:lnTo>
                <a:lnTo>
                  <a:pt x="776" y="213"/>
                </a:lnTo>
                <a:lnTo>
                  <a:pt x="671" y="146"/>
                </a:lnTo>
                <a:lnTo>
                  <a:pt x="488" y="136"/>
                </a:lnTo>
                <a:lnTo>
                  <a:pt x="720" y="64"/>
                </a:lnTo>
                <a:lnTo>
                  <a:pt x="913" y="64"/>
                </a:lnTo>
                <a:lnTo>
                  <a:pt x="947" y="314"/>
                </a:lnTo>
                <a:lnTo>
                  <a:pt x="825" y="560"/>
                </a:lnTo>
                <a:lnTo>
                  <a:pt x="525" y="845"/>
                </a:lnTo>
                <a:lnTo>
                  <a:pt x="145" y="898"/>
                </a:lnTo>
                <a:lnTo>
                  <a:pt x="0" y="729"/>
                </a:lnTo>
                <a:lnTo>
                  <a:pt x="106" y="357"/>
                </a:lnTo>
                <a:lnTo>
                  <a:pt x="289" y="6"/>
                </a:lnTo>
                <a:lnTo>
                  <a:pt x="289" y="6"/>
                </a:lnTo>
                <a:close/>
              </a:path>
            </a:pathLst>
          </a:custGeom>
          <a:solidFill>
            <a:srgbClr val="b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24520" y="2986200"/>
            <a:ext cx="247680" cy="206280"/>
          </a:xfrm>
          <a:custGeom>
            <a:avLst/>
            <a:gdLst/>
            <a:ahLst/>
            <a:rect l="l" t="t" r="r" b="b"/>
            <a:pathLst>
              <a:path w="468" h="392">
                <a:moveTo>
                  <a:pt x="0" y="62"/>
                </a:moveTo>
                <a:lnTo>
                  <a:pt x="110" y="228"/>
                </a:lnTo>
                <a:lnTo>
                  <a:pt x="171" y="387"/>
                </a:lnTo>
                <a:lnTo>
                  <a:pt x="283" y="392"/>
                </a:lnTo>
                <a:lnTo>
                  <a:pt x="380" y="328"/>
                </a:lnTo>
                <a:lnTo>
                  <a:pt x="454" y="231"/>
                </a:lnTo>
                <a:lnTo>
                  <a:pt x="468" y="28"/>
                </a:lnTo>
                <a:lnTo>
                  <a:pt x="374" y="18"/>
                </a:lnTo>
                <a:lnTo>
                  <a:pt x="205" y="73"/>
                </a:lnTo>
                <a:lnTo>
                  <a:pt x="152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788160" y="2536920"/>
            <a:ext cx="434880" cy="398520"/>
          </a:xfrm>
          <a:custGeom>
            <a:avLst/>
            <a:gdLst/>
            <a:ahLst/>
            <a:rect l="l" t="t" r="r" b="b"/>
            <a:pathLst>
              <a:path w="820" h="752">
                <a:moveTo>
                  <a:pt x="154" y="260"/>
                </a:moveTo>
                <a:lnTo>
                  <a:pt x="30" y="362"/>
                </a:lnTo>
                <a:lnTo>
                  <a:pt x="0" y="580"/>
                </a:lnTo>
                <a:lnTo>
                  <a:pt x="15" y="661"/>
                </a:lnTo>
                <a:lnTo>
                  <a:pt x="116" y="638"/>
                </a:lnTo>
                <a:lnTo>
                  <a:pt x="101" y="709"/>
                </a:lnTo>
                <a:lnTo>
                  <a:pt x="120" y="743"/>
                </a:lnTo>
                <a:lnTo>
                  <a:pt x="217" y="752"/>
                </a:lnTo>
                <a:lnTo>
                  <a:pt x="391" y="638"/>
                </a:lnTo>
                <a:lnTo>
                  <a:pt x="507" y="623"/>
                </a:lnTo>
                <a:lnTo>
                  <a:pt x="695" y="425"/>
                </a:lnTo>
                <a:lnTo>
                  <a:pt x="815" y="324"/>
                </a:lnTo>
                <a:lnTo>
                  <a:pt x="820" y="208"/>
                </a:lnTo>
                <a:lnTo>
                  <a:pt x="781" y="43"/>
                </a:lnTo>
                <a:lnTo>
                  <a:pt x="695" y="0"/>
                </a:lnTo>
                <a:lnTo>
                  <a:pt x="380" y="87"/>
                </a:lnTo>
                <a:lnTo>
                  <a:pt x="564" y="87"/>
                </a:lnTo>
                <a:lnTo>
                  <a:pt x="734" y="150"/>
                </a:lnTo>
                <a:lnTo>
                  <a:pt x="734" y="275"/>
                </a:lnTo>
                <a:lnTo>
                  <a:pt x="526" y="367"/>
                </a:lnTo>
                <a:lnTo>
                  <a:pt x="594" y="415"/>
                </a:lnTo>
                <a:lnTo>
                  <a:pt x="497" y="517"/>
                </a:lnTo>
                <a:lnTo>
                  <a:pt x="492" y="410"/>
                </a:lnTo>
                <a:lnTo>
                  <a:pt x="357" y="477"/>
                </a:lnTo>
                <a:lnTo>
                  <a:pt x="279" y="589"/>
                </a:lnTo>
                <a:lnTo>
                  <a:pt x="318" y="362"/>
                </a:lnTo>
                <a:lnTo>
                  <a:pt x="232" y="444"/>
                </a:lnTo>
                <a:lnTo>
                  <a:pt x="106" y="459"/>
                </a:lnTo>
                <a:lnTo>
                  <a:pt x="77" y="386"/>
                </a:lnTo>
                <a:lnTo>
                  <a:pt x="154" y="260"/>
                </a:lnTo>
                <a:lnTo>
                  <a:pt x="154" y="260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696000" y="2509920"/>
            <a:ext cx="527040" cy="506160"/>
          </a:xfrm>
          <a:custGeom>
            <a:avLst/>
            <a:gdLst/>
            <a:ahLst/>
            <a:rect l="l" t="t" r="r" b="b"/>
            <a:pathLst>
              <a:path w="994" h="959">
                <a:moveTo>
                  <a:pt x="226" y="13"/>
                </a:moveTo>
                <a:lnTo>
                  <a:pt x="363" y="0"/>
                </a:lnTo>
                <a:lnTo>
                  <a:pt x="328" y="101"/>
                </a:lnTo>
                <a:lnTo>
                  <a:pt x="382" y="129"/>
                </a:lnTo>
                <a:lnTo>
                  <a:pt x="241" y="255"/>
                </a:lnTo>
                <a:lnTo>
                  <a:pt x="164" y="434"/>
                </a:lnTo>
                <a:lnTo>
                  <a:pt x="131" y="694"/>
                </a:lnTo>
                <a:lnTo>
                  <a:pt x="125" y="786"/>
                </a:lnTo>
                <a:lnTo>
                  <a:pt x="232" y="868"/>
                </a:lnTo>
                <a:lnTo>
                  <a:pt x="487" y="825"/>
                </a:lnTo>
                <a:lnTo>
                  <a:pt x="612" y="786"/>
                </a:lnTo>
                <a:lnTo>
                  <a:pt x="671" y="703"/>
                </a:lnTo>
                <a:lnTo>
                  <a:pt x="912" y="486"/>
                </a:lnTo>
                <a:lnTo>
                  <a:pt x="888" y="645"/>
                </a:lnTo>
                <a:lnTo>
                  <a:pt x="826" y="771"/>
                </a:lnTo>
                <a:lnTo>
                  <a:pt x="845" y="825"/>
                </a:lnTo>
                <a:lnTo>
                  <a:pt x="994" y="834"/>
                </a:lnTo>
                <a:lnTo>
                  <a:pt x="841" y="920"/>
                </a:lnTo>
                <a:lnTo>
                  <a:pt x="575" y="926"/>
                </a:lnTo>
                <a:lnTo>
                  <a:pt x="444" y="954"/>
                </a:lnTo>
                <a:lnTo>
                  <a:pt x="208" y="959"/>
                </a:lnTo>
                <a:lnTo>
                  <a:pt x="0" y="791"/>
                </a:lnTo>
                <a:lnTo>
                  <a:pt x="58" y="666"/>
                </a:lnTo>
                <a:lnTo>
                  <a:pt x="140" y="312"/>
                </a:lnTo>
                <a:lnTo>
                  <a:pt x="260" y="37"/>
                </a:lnTo>
                <a:lnTo>
                  <a:pt x="226" y="13"/>
                </a:lnTo>
                <a:lnTo>
                  <a:pt x="226" y="13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615000" y="2952720"/>
            <a:ext cx="127080" cy="103320"/>
          </a:xfrm>
          <a:custGeom>
            <a:avLst/>
            <a:gdLst/>
            <a:ahLst/>
            <a:rect l="l" t="t" r="r" b="b"/>
            <a:pathLst>
              <a:path w="241" h="194">
                <a:moveTo>
                  <a:pt x="116" y="0"/>
                </a:moveTo>
                <a:lnTo>
                  <a:pt x="241" y="136"/>
                </a:lnTo>
                <a:lnTo>
                  <a:pt x="4" y="194"/>
                </a:lnTo>
                <a:lnTo>
                  <a:pt x="0" y="131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918480" y="2025720"/>
            <a:ext cx="595080" cy="965160"/>
          </a:xfrm>
          <a:custGeom>
            <a:avLst/>
            <a:gdLst/>
            <a:ahLst/>
            <a:rect l="l" t="t" r="r" b="b"/>
            <a:pathLst>
              <a:path w="1126" h="1824">
                <a:moveTo>
                  <a:pt x="459" y="777"/>
                </a:moveTo>
                <a:lnTo>
                  <a:pt x="658" y="773"/>
                </a:lnTo>
                <a:lnTo>
                  <a:pt x="368" y="864"/>
                </a:lnTo>
                <a:lnTo>
                  <a:pt x="112" y="855"/>
                </a:lnTo>
                <a:lnTo>
                  <a:pt x="0" y="879"/>
                </a:lnTo>
                <a:lnTo>
                  <a:pt x="171" y="902"/>
                </a:lnTo>
                <a:lnTo>
                  <a:pt x="276" y="960"/>
                </a:lnTo>
                <a:lnTo>
                  <a:pt x="474" y="902"/>
                </a:lnTo>
                <a:lnTo>
                  <a:pt x="581" y="913"/>
                </a:lnTo>
                <a:lnTo>
                  <a:pt x="581" y="864"/>
                </a:lnTo>
                <a:lnTo>
                  <a:pt x="735" y="777"/>
                </a:lnTo>
                <a:lnTo>
                  <a:pt x="735" y="709"/>
                </a:lnTo>
                <a:lnTo>
                  <a:pt x="570" y="685"/>
                </a:lnTo>
                <a:lnTo>
                  <a:pt x="797" y="661"/>
                </a:lnTo>
                <a:lnTo>
                  <a:pt x="961" y="739"/>
                </a:lnTo>
                <a:lnTo>
                  <a:pt x="961" y="883"/>
                </a:lnTo>
                <a:lnTo>
                  <a:pt x="802" y="975"/>
                </a:lnTo>
                <a:lnTo>
                  <a:pt x="855" y="980"/>
                </a:lnTo>
                <a:lnTo>
                  <a:pt x="793" y="1057"/>
                </a:lnTo>
                <a:lnTo>
                  <a:pt x="793" y="1124"/>
                </a:lnTo>
                <a:lnTo>
                  <a:pt x="705" y="1270"/>
                </a:lnTo>
                <a:lnTo>
                  <a:pt x="774" y="1274"/>
                </a:lnTo>
                <a:lnTo>
                  <a:pt x="633" y="1448"/>
                </a:lnTo>
                <a:lnTo>
                  <a:pt x="682" y="1467"/>
                </a:lnTo>
                <a:lnTo>
                  <a:pt x="677" y="1525"/>
                </a:lnTo>
                <a:lnTo>
                  <a:pt x="517" y="1641"/>
                </a:lnTo>
                <a:lnTo>
                  <a:pt x="581" y="1534"/>
                </a:lnTo>
                <a:lnTo>
                  <a:pt x="536" y="1433"/>
                </a:lnTo>
                <a:lnTo>
                  <a:pt x="604" y="1347"/>
                </a:lnTo>
                <a:lnTo>
                  <a:pt x="590" y="1212"/>
                </a:lnTo>
                <a:lnTo>
                  <a:pt x="551" y="1332"/>
                </a:lnTo>
                <a:lnTo>
                  <a:pt x="474" y="1366"/>
                </a:lnTo>
                <a:lnTo>
                  <a:pt x="493" y="1521"/>
                </a:lnTo>
                <a:lnTo>
                  <a:pt x="358" y="1674"/>
                </a:lnTo>
                <a:lnTo>
                  <a:pt x="349" y="1824"/>
                </a:lnTo>
                <a:lnTo>
                  <a:pt x="532" y="1809"/>
                </a:lnTo>
                <a:lnTo>
                  <a:pt x="686" y="1674"/>
                </a:lnTo>
                <a:lnTo>
                  <a:pt x="879" y="1323"/>
                </a:lnTo>
                <a:lnTo>
                  <a:pt x="1063" y="999"/>
                </a:lnTo>
                <a:lnTo>
                  <a:pt x="1126" y="821"/>
                </a:lnTo>
                <a:lnTo>
                  <a:pt x="1096" y="700"/>
                </a:lnTo>
                <a:lnTo>
                  <a:pt x="937" y="608"/>
                </a:lnTo>
                <a:lnTo>
                  <a:pt x="532" y="574"/>
                </a:lnTo>
                <a:lnTo>
                  <a:pt x="416" y="511"/>
                </a:lnTo>
                <a:lnTo>
                  <a:pt x="416" y="367"/>
                </a:lnTo>
                <a:lnTo>
                  <a:pt x="517" y="328"/>
                </a:lnTo>
                <a:lnTo>
                  <a:pt x="557" y="352"/>
                </a:lnTo>
                <a:lnTo>
                  <a:pt x="615" y="440"/>
                </a:lnTo>
                <a:lnTo>
                  <a:pt x="740" y="464"/>
                </a:lnTo>
                <a:lnTo>
                  <a:pt x="845" y="464"/>
                </a:lnTo>
                <a:lnTo>
                  <a:pt x="903" y="406"/>
                </a:lnTo>
                <a:lnTo>
                  <a:pt x="793" y="395"/>
                </a:lnTo>
                <a:lnTo>
                  <a:pt x="720" y="425"/>
                </a:lnTo>
                <a:lnTo>
                  <a:pt x="648" y="395"/>
                </a:lnTo>
                <a:lnTo>
                  <a:pt x="628" y="324"/>
                </a:lnTo>
                <a:lnTo>
                  <a:pt x="716" y="270"/>
                </a:lnTo>
                <a:lnTo>
                  <a:pt x="633" y="251"/>
                </a:lnTo>
                <a:lnTo>
                  <a:pt x="561" y="198"/>
                </a:lnTo>
                <a:lnTo>
                  <a:pt x="508" y="178"/>
                </a:lnTo>
                <a:lnTo>
                  <a:pt x="594" y="101"/>
                </a:lnTo>
                <a:lnTo>
                  <a:pt x="677" y="126"/>
                </a:lnTo>
                <a:lnTo>
                  <a:pt x="673" y="202"/>
                </a:lnTo>
                <a:lnTo>
                  <a:pt x="754" y="227"/>
                </a:lnTo>
                <a:lnTo>
                  <a:pt x="729" y="178"/>
                </a:lnTo>
                <a:lnTo>
                  <a:pt x="808" y="116"/>
                </a:lnTo>
                <a:lnTo>
                  <a:pt x="774" y="68"/>
                </a:lnTo>
                <a:lnTo>
                  <a:pt x="600" y="0"/>
                </a:lnTo>
                <a:lnTo>
                  <a:pt x="444" y="43"/>
                </a:lnTo>
                <a:lnTo>
                  <a:pt x="310" y="126"/>
                </a:lnTo>
                <a:lnTo>
                  <a:pt x="160" y="299"/>
                </a:lnTo>
                <a:lnTo>
                  <a:pt x="117" y="449"/>
                </a:lnTo>
                <a:lnTo>
                  <a:pt x="165" y="608"/>
                </a:lnTo>
                <a:lnTo>
                  <a:pt x="223" y="666"/>
                </a:lnTo>
                <a:lnTo>
                  <a:pt x="373" y="724"/>
                </a:lnTo>
                <a:lnTo>
                  <a:pt x="459" y="777"/>
                </a:lnTo>
                <a:lnTo>
                  <a:pt x="459" y="777"/>
                </a:lnTo>
                <a:close/>
              </a:path>
            </a:pathLst>
          </a:custGeom>
          <a:solidFill>
            <a:srgbClr val="d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128000" y="2038320"/>
            <a:ext cx="199800" cy="111240"/>
          </a:xfrm>
          <a:custGeom>
            <a:avLst/>
            <a:gdLst/>
            <a:ahLst/>
            <a:rect l="l" t="t" r="r" b="b"/>
            <a:pathLst>
              <a:path w="377" h="208">
                <a:moveTo>
                  <a:pt x="343" y="34"/>
                </a:moveTo>
                <a:lnTo>
                  <a:pt x="251" y="0"/>
                </a:lnTo>
                <a:lnTo>
                  <a:pt x="111" y="29"/>
                </a:lnTo>
                <a:lnTo>
                  <a:pt x="0" y="135"/>
                </a:lnTo>
                <a:lnTo>
                  <a:pt x="53" y="135"/>
                </a:lnTo>
                <a:lnTo>
                  <a:pt x="57" y="184"/>
                </a:lnTo>
                <a:lnTo>
                  <a:pt x="173" y="208"/>
                </a:lnTo>
                <a:lnTo>
                  <a:pt x="285" y="193"/>
                </a:lnTo>
                <a:lnTo>
                  <a:pt x="285" y="120"/>
                </a:lnTo>
                <a:lnTo>
                  <a:pt x="377" y="68"/>
                </a:lnTo>
                <a:lnTo>
                  <a:pt x="343" y="34"/>
                </a:lnTo>
                <a:lnTo>
                  <a:pt x="343" y="3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91440" y="2146320"/>
            <a:ext cx="457200" cy="268200"/>
          </a:xfrm>
          <a:custGeom>
            <a:avLst/>
            <a:gdLst/>
            <a:ahLst/>
            <a:rect l="l" t="t" r="r" b="b"/>
            <a:pathLst>
              <a:path w="865" h="506">
                <a:moveTo>
                  <a:pt x="0" y="48"/>
                </a:moveTo>
                <a:lnTo>
                  <a:pt x="194" y="33"/>
                </a:lnTo>
                <a:lnTo>
                  <a:pt x="238" y="0"/>
                </a:lnTo>
                <a:lnTo>
                  <a:pt x="324" y="20"/>
                </a:lnTo>
                <a:lnTo>
                  <a:pt x="725" y="323"/>
                </a:lnTo>
                <a:lnTo>
                  <a:pt x="865" y="506"/>
                </a:lnTo>
                <a:lnTo>
                  <a:pt x="247" y="207"/>
                </a:lnTo>
                <a:lnTo>
                  <a:pt x="73" y="188"/>
                </a:lnTo>
                <a:lnTo>
                  <a:pt x="92" y="125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1360" y="2897280"/>
            <a:ext cx="317520" cy="250560"/>
          </a:xfrm>
          <a:custGeom>
            <a:avLst/>
            <a:gdLst/>
            <a:ahLst/>
            <a:rect l="l" t="t" r="r" b="b"/>
            <a:pathLst>
              <a:path w="600" h="472">
                <a:moveTo>
                  <a:pt x="578" y="0"/>
                </a:moveTo>
                <a:lnTo>
                  <a:pt x="370" y="124"/>
                </a:lnTo>
                <a:lnTo>
                  <a:pt x="220" y="216"/>
                </a:lnTo>
                <a:lnTo>
                  <a:pt x="123" y="300"/>
                </a:lnTo>
                <a:lnTo>
                  <a:pt x="17" y="389"/>
                </a:lnTo>
                <a:lnTo>
                  <a:pt x="0" y="472"/>
                </a:lnTo>
                <a:lnTo>
                  <a:pt x="261" y="234"/>
                </a:lnTo>
                <a:lnTo>
                  <a:pt x="600" y="30"/>
                </a:lnTo>
                <a:lnTo>
                  <a:pt x="578" y="0"/>
                </a:lnTo>
                <a:lnTo>
                  <a:pt x="578" y="0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505640" y="2784600"/>
            <a:ext cx="181080" cy="131760"/>
          </a:xfrm>
          <a:custGeom>
            <a:avLst/>
            <a:gdLst/>
            <a:ahLst/>
            <a:rect l="l" t="t" r="r" b="b"/>
            <a:pathLst>
              <a:path w="342" h="248">
                <a:moveTo>
                  <a:pt x="255" y="0"/>
                </a:moveTo>
                <a:lnTo>
                  <a:pt x="170" y="55"/>
                </a:lnTo>
                <a:lnTo>
                  <a:pt x="212" y="78"/>
                </a:lnTo>
                <a:lnTo>
                  <a:pt x="120" y="128"/>
                </a:lnTo>
                <a:lnTo>
                  <a:pt x="120" y="78"/>
                </a:lnTo>
                <a:lnTo>
                  <a:pt x="3" y="158"/>
                </a:lnTo>
                <a:lnTo>
                  <a:pt x="0" y="248"/>
                </a:lnTo>
                <a:lnTo>
                  <a:pt x="181" y="191"/>
                </a:lnTo>
                <a:lnTo>
                  <a:pt x="342" y="73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d178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226280" y="2370240"/>
            <a:ext cx="222120" cy="363600"/>
          </a:xfrm>
          <a:custGeom>
            <a:avLst/>
            <a:gdLst/>
            <a:ahLst/>
            <a:rect l="l" t="t" r="r" b="b"/>
            <a:pathLst>
              <a:path w="420" h="686">
                <a:moveTo>
                  <a:pt x="0" y="24"/>
                </a:moveTo>
                <a:lnTo>
                  <a:pt x="240" y="0"/>
                </a:lnTo>
                <a:lnTo>
                  <a:pt x="395" y="82"/>
                </a:lnTo>
                <a:lnTo>
                  <a:pt x="420" y="184"/>
                </a:lnTo>
                <a:lnTo>
                  <a:pt x="380" y="309"/>
                </a:lnTo>
                <a:lnTo>
                  <a:pt x="251" y="425"/>
                </a:lnTo>
                <a:lnTo>
                  <a:pt x="221" y="574"/>
                </a:lnTo>
                <a:lnTo>
                  <a:pt x="71" y="686"/>
                </a:lnTo>
                <a:lnTo>
                  <a:pt x="139" y="517"/>
                </a:lnTo>
                <a:lnTo>
                  <a:pt x="159" y="343"/>
                </a:lnTo>
                <a:lnTo>
                  <a:pt x="236" y="237"/>
                </a:lnTo>
                <a:lnTo>
                  <a:pt x="124" y="247"/>
                </a:lnTo>
                <a:lnTo>
                  <a:pt x="251" y="107"/>
                </a:lnTo>
                <a:lnTo>
                  <a:pt x="182" y="58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59600" y="2173320"/>
            <a:ext cx="255600" cy="195120"/>
          </a:xfrm>
          <a:custGeom>
            <a:avLst/>
            <a:gdLst/>
            <a:ahLst/>
            <a:rect l="l" t="t" r="r" b="b"/>
            <a:pathLst>
              <a:path w="484" h="368">
                <a:moveTo>
                  <a:pt x="315" y="35"/>
                </a:moveTo>
                <a:lnTo>
                  <a:pt x="304" y="11"/>
                </a:lnTo>
                <a:lnTo>
                  <a:pt x="141" y="0"/>
                </a:lnTo>
                <a:lnTo>
                  <a:pt x="58" y="69"/>
                </a:lnTo>
                <a:lnTo>
                  <a:pt x="0" y="161"/>
                </a:lnTo>
                <a:lnTo>
                  <a:pt x="49" y="262"/>
                </a:lnTo>
                <a:lnTo>
                  <a:pt x="73" y="232"/>
                </a:lnTo>
                <a:lnTo>
                  <a:pt x="131" y="324"/>
                </a:lnTo>
                <a:lnTo>
                  <a:pt x="232" y="368"/>
                </a:lnTo>
                <a:lnTo>
                  <a:pt x="484" y="314"/>
                </a:lnTo>
                <a:lnTo>
                  <a:pt x="285" y="310"/>
                </a:lnTo>
                <a:lnTo>
                  <a:pt x="131" y="228"/>
                </a:lnTo>
                <a:lnTo>
                  <a:pt x="131" y="116"/>
                </a:lnTo>
                <a:lnTo>
                  <a:pt x="218" y="59"/>
                </a:lnTo>
                <a:lnTo>
                  <a:pt x="295" y="93"/>
                </a:lnTo>
                <a:lnTo>
                  <a:pt x="315" y="35"/>
                </a:lnTo>
                <a:lnTo>
                  <a:pt x="315" y="35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993000" y="2120760"/>
            <a:ext cx="163440" cy="290520"/>
          </a:xfrm>
          <a:custGeom>
            <a:avLst/>
            <a:gdLst/>
            <a:ahLst/>
            <a:rect l="l" t="t" r="r" b="b"/>
            <a:pathLst>
              <a:path w="309" h="551">
                <a:moveTo>
                  <a:pt x="150" y="0"/>
                </a:moveTo>
                <a:lnTo>
                  <a:pt x="52" y="116"/>
                </a:lnTo>
                <a:lnTo>
                  <a:pt x="0" y="280"/>
                </a:lnTo>
                <a:lnTo>
                  <a:pt x="30" y="440"/>
                </a:lnTo>
                <a:lnTo>
                  <a:pt x="106" y="483"/>
                </a:lnTo>
                <a:lnTo>
                  <a:pt x="309" y="551"/>
                </a:lnTo>
                <a:lnTo>
                  <a:pt x="106" y="425"/>
                </a:lnTo>
                <a:lnTo>
                  <a:pt x="67" y="324"/>
                </a:lnTo>
                <a:lnTo>
                  <a:pt x="67" y="165"/>
                </a:lnTo>
                <a:lnTo>
                  <a:pt x="150" y="0"/>
                </a:lnTo>
                <a:lnTo>
                  <a:pt x="150" y="0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02520" y="1992240"/>
            <a:ext cx="146160" cy="136440"/>
          </a:xfrm>
          <a:custGeom>
            <a:avLst/>
            <a:gdLst/>
            <a:ahLst/>
            <a:rect l="l" t="t" r="r" b="b"/>
            <a:pathLst>
              <a:path w="277" h="256">
                <a:moveTo>
                  <a:pt x="277" y="162"/>
                </a:moveTo>
                <a:lnTo>
                  <a:pt x="241" y="193"/>
                </a:lnTo>
                <a:lnTo>
                  <a:pt x="146" y="160"/>
                </a:lnTo>
                <a:lnTo>
                  <a:pt x="141" y="203"/>
                </a:lnTo>
                <a:lnTo>
                  <a:pt x="97" y="203"/>
                </a:lnTo>
                <a:lnTo>
                  <a:pt x="122" y="256"/>
                </a:lnTo>
                <a:lnTo>
                  <a:pt x="30" y="228"/>
                </a:lnTo>
                <a:lnTo>
                  <a:pt x="58" y="198"/>
                </a:lnTo>
                <a:lnTo>
                  <a:pt x="30" y="160"/>
                </a:lnTo>
                <a:lnTo>
                  <a:pt x="97" y="160"/>
                </a:lnTo>
                <a:lnTo>
                  <a:pt x="64" y="112"/>
                </a:lnTo>
                <a:lnTo>
                  <a:pt x="137" y="136"/>
                </a:lnTo>
                <a:lnTo>
                  <a:pt x="0" y="0"/>
                </a:lnTo>
                <a:lnTo>
                  <a:pt x="277" y="162"/>
                </a:lnTo>
                <a:lnTo>
                  <a:pt x="277" y="162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94520" y="2376360"/>
            <a:ext cx="422280" cy="617760"/>
          </a:xfrm>
          <a:custGeom>
            <a:avLst/>
            <a:gdLst/>
            <a:ahLst/>
            <a:rect l="l" t="t" r="r" b="b"/>
            <a:pathLst>
              <a:path w="796" h="1168">
                <a:moveTo>
                  <a:pt x="174" y="729"/>
                </a:moveTo>
                <a:lnTo>
                  <a:pt x="174" y="897"/>
                </a:lnTo>
                <a:lnTo>
                  <a:pt x="88" y="1019"/>
                </a:lnTo>
                <a:lnTo>
                  <a:pt x="125" y="1086"/>
                </a:lnTo>
                <a:lnTo>
                  <a:pt x="217" y="1043"/>
                </a:lnTo>
                <a:lnTo>
                  <a:pt x="183" y="1004"/>
                </a:lnTo>
                <a:lnTo>
                  <a:pt x="309" y="955"/>
                </a:lnTo>
                <a:lnTo>
                  <a:pt x="401" y="825"/>
                </a:lnTo>
                <a:lnTo>
                  <a:pt x="348" y="768"/>
                </a:lnTo>
                <a:lnTo>
                  <a:pt x="526" y="609"/>
                </a:lnTo>
                <a:lnTo>
                  <a:pt x="569" y="527"/>
                </a:lnTo>
                <a:lnTo>
                  <a:pt x="502" y="531"/>
                </a:lnTo>
                <a:lnTo>
                  <a:pt x="550" y="439"/>
                </a:lnTo>
                <a:lnTo>
                  <a:pt x="719" y="271"/>
                </a:lnTo>
                <a:lnTo>
                  <a:pt x="753" y="140"/>
                </a:lnTo>
                <a:lnTo>
                  <a:pt x="734" y="0"/>
                </a:lnTo>
                <a:lnTo>
                  <a:pt x="796" y="136"/>
                </a:lnTo>
                <a:lnTo>
                  <a:pt x="768" y="362"/>
                </a:lnTo>
                <a:lnTo>
                  <a:pt x="652" y="482"/>
                </a:lnTo>
                <a:lnTo>
                  <a:pt x="536" y="686"/>
                </a:lnTo>
                <a:lnTo>
                  <a:pt x="478" y="806"/>
                </a:lnTo>
                <a:lnTo>
                  <a:pt x="303" y="1056"/>
                </a:lnTo>
                <a:lnTo>
                  <a:pt x="125" y="1168"/>
                </a:lnTo>
                <a:lnTo>
                  <a:pt x="5" y="1144"/>
                </a:lnTo>
                <a:lnTo>
                  <a:pt x="0" y="1023"/>
                </a:lnTo>
                <a:lnTo>
                  <a:pt x="135" y="912"/>
                </a:lnTo>
                <a:lnTo>
                  <a:pt x="174" y="729"/>
                </a:lnTo>
                <a:lnTo>
                  <a:pt x="174" y="729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307280" y="2165400"/>
            <a:ext cx="439560" cy="250920"/>
          </a:xfrm>
          <a:custGeom>
            <a:avLst/>
            <a:gdLst/>
            <a:ahLst/>
            <a:rect l="l" t="t" r="r" b="b"/>
            <a:pathLst>
              <a:path w="830" h="473">
                <a:moveTo>
                  <a:pt x="62" y="147"/>
                </a:moveTo>
                <a:lnTo>
                  <a:pt x="156" y="115"/>
                </a:lnTo>
                <a:lnTo>
                  <a:pt x="0" y="42"/>
                </a:lnTo>
                <a:lnTo>
                  <a:pt x="162" y="36"/>
                </a:lnTo>
                <a:lnTo>
                  <a:pt x="391" y="151"/>
                </a:lnTo>
                <a:lnTo>
                  <a:pt x="228" y="36"/>
                </a:lnTo>
                <a:lnTo>
                  <a:pt x="239" y="0"/>
                </a:lnTo>
                <a:lnTo>
                  <a:pt x="280" y="12"/>
                </a:lnTo>
                <a:lnTo>
                  <a:pt x="522" y="198"/>
                </a:lnTo>
                <a:lnTo>
                  <a:pt x="661" y="295"/>
                </a:lnTo>
                <a:lnTo>
                  <a:pt x="608" y="220"/>
                </a:lnTo>
                <a:lnTo>
                  <a:pt x="777" y="369"/>
                </a:lnTo>
                <a:lnTo>
                  <a:pt x="830" y="473"/>
                </a:lnTo>
                <a:lnTo>
                  <a:pt x="580" y="359"/>
                </a:lnTo>
                <a:lnTo>
                  <a:pt x="202" y="162"/>
                </a:lnTo>
                <a:lnTo>
                  <a:pt x="62" y="147"/>
                </a:lnTo>
                <a:lnTo>
                  <a:pt x="62" y="147"/>
                </a:lnTo>
                <a:close/>
              </a:path>
            </a:pathLst>
          </a:custGeom>
          <a:solidFill>
            <a:srgbClr val="ffd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327800" y="2112840"/>
            <a:ext cx="23760" cy="20880"/>
          </a:xfrm>
          <a:custGeom>
            <a:avLst/>
            <a:gdLst/>
            <a:ahLst/>
            <a:rect l="l" t="t" r="r" b="b"/>
            <a:pathLst>
              <a:path w="46" h="41">
                <a:moveTo>
                  <a:pt x="13" y="0"/>
                </a:moveTo>
                <a:lnTo>
                  <a:pt x="42" y="0"/>
                </a:lnTo>
                <a:lnTo>
                  <a:pt x="46" y="27"/>
                </a:lnTo>
                <a:lnTo>
                  <a:pt x="23" y="41"/>
                </a:lnTo>
                <a:lnTo>
                  <a:pt x="0" y="27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429680" y="2166840"/>
            <a:ext cx="120600" cy="81000"/>
          </a:xfrm>
          <a:custGeom>
            <a:avLst/>
            <a:gdLst/>
            <a:ahLst/>
            <a:rect l="l" t="t" r="r" b="b"/>
            <a:pathLst>
              <a:path w="228" h="152">
                <a:moveTo>
                  <a:pt x="178" y="112"/>
                </a:moveTo>
                <a:lnTo>
                  <a:pt x="44" y="32"/>
                </a:lnTo>
                <a:lnTo>
                  <a:pt x="21" y="0"/>
                </a:lnTo>
                <a:lnTo>
                  <a:pt x="0" y="34"/>
                </a:lnTo>
                <a:lnTo>
                  <a:pt x="46" y="63"/>
                </a:lnTo>
                <a:lnTo>
                  <a:pt x="228" y="152"/>
                </a:lnTo>
                <a:lnTo>
                  <a:pt x="178" y="112"/>
                </a:lnTo>
                <a:lnTo>
                  <a:pt x="178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99320" y="2523960"/>
            <a:ext cx="442800" cy="398520"/>
          </a:xfrm>
          <a:custGeom>
            <a:avLst/>
            <a:gdLst/>
            <a:ahLst/>
            <a:rect l="l" t="t" r="r" b="b"/>
            <a:pathLst>
              <a:path w="838" h="755">
                <a:moveTo>
                  <a:pt x="577" y="27"/>
                </a:moveTo>
                <a:lnTo>
                  <a:pt x="738" y="0"/>
                </a:lnTo>
                <a:lnTo>
                  <a:pt x="810" y="44"/>
                </a:lnTo>
                <a:lnTo>
                  <a:pt x="827" y="144"/>
                </a:lnTo>
                <a:lnTo>
                  <a:pt x="827" y="163"/>
                </a:lnTo>
                <a:lnTo>
                  <a:pt x="828" y="191"/>
                </a:lnTo>
                <a:lnTo>
                  <a:pt x="830" y="223"/>
                </a:lnTo>
                <a:lnTo>
                  <a:pt x="831" y="228"/>
                </a:lnTo>
                <a:lnTo>
                  <a:pt x="831" y="233"/>
                </a:lnTo>
                <a:lnTo>
                  <a:pt x="831" y="237"/>
                </a:lnTo>
                <a:lnTo>
                  <a:pt x="831" y="241"/>
                </a:lnTo>
                <a:lnTo>
                  <a:pt x="831" y="245"/>
                </a:lnTo>
                <a:lnTo>
                  <a:pt x="832" y="249"/>
                </a:lnTo>
                <a:lnTo>
                  <a:pt x="832" y="252"/>
                </a:lnTo>
                <a:lnTo>
                  <a:pt x="832" y="253"/>
                </a:lnTo>
                <a:lnTo>
                  <a:pt x="832" y="259"/>
                </a:lnTo>
                <a:lnTo>
                  <a:pt x="838" y="343"/>
                </a:lnTo>
                <a:lnTo>
                  <a:pt x="754" y="427"/>
                </a:lnTo>
                <a:lnTo>
                  <a:pt x="672" y="521"/>
                </a:lnTo>
                <a:lnTo>
                  <a:pt x="510" y="687"/>
                </a:lnTo>
                <a:lnTo>
                  <a:pt x="383" y="666"/>
                </a:lnTo>
                <a:lnTo>
                  <a:pt x="283" y="737"/>
                </a:lnTo>
                <a:lnTo>
                  <a:pt x="166" y="755"/>
                </a:lnTo>
                <a:lnTo>
                  <a:pt x="105" y="721"/>
                </a:lnTo>
                <a:lnTo>
                  <a:pt x="177" y="582"/>
                </a:lnTo>
                <a:lnTo>
                  <a:pt x="11" y="632"/>
                </a:lnTo>
                <a:lnTo>
                  <a:pt x="0" y="571"/>
                </a:lnTo>
                <a:lnTo>
                  <a:pt x="11" y="493"/>
                </a:lnTo>
                <a:lnTo>
                  <a:pt x="32" y="560"/>
                </a:lnTo>
                <a:lnTo>
                  <a:pt x="139" y="560"/>
                </a:lnTo>
                <a:lnTo>
                  <a:pt x="255" y="505"/>
                </a:lnTo>
                <a:lnTo>
                  <a:pt x="216" y="587"/>
                </a:lnTo>
                <a:lnTo>
                  <a:pt x="183" y="666"/>
                </a:lnTo>
                <a:lnTo>
                  <a:pt x="244" y="710"/>
                </a:lnTo>
                <a:lnTo>
                  <a:pt x="316" y="616"/>
                </a:lnTo>
                <a:lnTo>
                  <a:pt x="460" y="516"/>
                </a:lnTo>
                <a:lnTo>
                  <a:pt x="438" y="610"/>
                </a:lnTo>
                <a:lnTo>
                  <a:pt x="515" y="610"/>
                </a:lnTo>
                <a:lnTo>
                  <a:pt x="610" y="532"/>
                </a:lnTo>
                <a:lnTo>
                  <a:pt x="665" y="438"/>
                </a:lnTo>
                <a:lnTo>
                  <a:pt x="554" y="409"/>
                </a:lnTo>
                <a:lnTo>
                  <a:pt x="644" y="377"/>
                </a:lnTo>
                <a:lnTo>
                  <a:pt x="766" y="360"/>
                </a:lnTo>
                <a:lnTo>
                  <a:pt x="788" y="260"/>
                </a:lnTo>
                <a:lnTo>
                  <a:pt x="749" y="82"/>
                </a:lnTo>
                <a:lnTo>
                  <a:pt x="693" y="60"/>
                </a:lnTo>
                <a:lnTo>
                  <a:pt x="460" y="71"/>
                </a:lnTo>
                <a:lnTo>
                  <a:pt x="577" y="27"/>
                </a:lnTo>
                <a:lnTo>
                  <a:pt x="57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950160" y="3360600"/>
            <a:ext cx="28440" cy="101880"/>
          </a:xfrm>
          <a:custGeom>
            <a:avLst/>
            <a:gdLst/>
            <a:ahLst/>
            <a:rect l="l" t="t" r="r" b="b"/>
            <a:pathLst>
              <a:path w="55" h="193">
                <a:moveTo>
                  <a:pt x="55" y="193"/>
                </a:moveTo>
                <a:lnTo>
                  <a:pt x="0" y="0"/>
                </a:lnTo>
                <a:lnTo>
                  <a:pt x="55" y="193"/>
                </a:lnTo>
                <a:lnTo>
                  <a:pt x="55" y="1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015320" y="2755800"/>
            <a:ext cx="768240" cy="763560"/>
          </a:xfrm>
          <a:custGeom>
            <a:avLst/>
            <a:gdLst/>
            <a:ahLst/>
            <a:rect l="l" t="t" r="r" b="b"/>
            <a:pathLst>
              <a:path w="1450" h="1443">
                <a:moveTo>
                  <a:pt x="42" y="1043"/>
                </a:moveTo>
                <a:lnTo>
                  <a:pt x="155" y="810"/>
                </a:lnTo>
                <a:lnTo>
                  <a:pt x="309" y="586"/>
                </a:lnTo>
                <a:lnTo>
                  <a:pt x="475" y="463"/>
                </a:lnTo>
                <a:lnTo>
                  <a:pt x="344" y="689"/>
                </a:lnTo>
                <a:lnTo>
                  <a:pt x="551" y="519"/>
                </a:lnTo>
                <a:lnTo>
                  <a:pt x="848" y="356"/>
                </a:lnTo>
                <a:lnTo>
                  <a:pt x="835" y="325"/>
                </a:lnTo>
                <a:lnTo>
                  <a:pt x="911" y="280"/>
                </a:lnTo>
                <a:lnTo>
                  <a:pt x="911" y="228"/>
                </a:lnTo>
                <a:lnTo>
                  <a:pt x="961" y="191"/>
                </a:lnTo>
                <a:lnTo>
                  <a:pt x="958" y="291"/>
                </a:lnTo>
                <a:lnTo>
                  <a:pt x="1189" y="189"/>
                </a:lnTo>
                <a:lnTo>
                  <a:pt x="1211" y="91"/>
                </a:lnTo>
                <a:lnTo>
                  <a:pt x="1124" y="94"/>
                </a:lnTo>
                <a:lnTo>
                  <a:pt x="1192" y="44"/>
                </a:lnTo>
                <a:lnTo>
                  <a:pt x="1271" y="67"/>
                </a:lnTo>
                <a:lnTo>
                  <a:pt x="1418" y="0"/>
                </a:lnTo>
                <a:lnTo>
                  <a:pt x="1450" y="13"/>
                </a:lnTo>
                <a:lnTo>
                  <a:pt x="1311" y="81"/>
                </a:lnTo>
                <a:lnTo>
                  <a:pt x="1289" y="149"/>
                </a:lnTo>
                <a:lnTo>
                  <a:pt x="1247" y="217"/>
                </a:lnTo>
                <a:lnTo>
                  <a:pt x="974" y="361"/>
                </a:lnTo>
                <a:lnTo>
                  <a:pt x="916" y="346"/>
                </a:lnTo>
                <a:lnTo>
                  <a:pt x="672" y="477"/>
                </a:lnTo>
                <a:lnTo>
                  <a:pt x="350" y="769"/>
                </a:lnTo>
                <a:lnTo>
                  <a:pt x="244" y="966"/>
                </a:lnTo>
                <a:lnTo>
                  <a:pt x="456" y="783"/>
                </a:lnTo>
                <a:lnTo>
                  <a:pt x="811" y="566"/>
                </a:lnTo>
                <a:lnTo>
                  <a:pt x="1135" y="482"/>
                </a:lnTo>
                <a:lnTo>
                  <a:pt x="1339" y="521"/>
                </a:lnTo>
                <a:lnTo>
                  <a:pt x="1410" y="571"/>
                </a:lnTo>
                <a:lnTo>
                  <a:pt x="1271" y="597"/>
                </a:lnTo>
                <a:lnTo>
                  <a:pt x="900" y="710"/>
                </a:lnTo>
                <a:lnTo>
                  <a:pt x="664" y="844"/>
                </a:lnTo>
                <a:lnTo>
                  <a:pt x="491" y="1016"/>
                </a:lnTo>
                <a:lnTo>
                  <a:pt x="719" y="964"/>
                </a:lnTo>
                <a:lnTo>
                  <a:pt x="898" y="780"/>
                </a:lnTo>
                <a:lnTo>
                  <a:pt x="1018" y="732"/>
                </a:lnTo>
                <a:lnTo>
                  <a:pt x="845" y="951"/>
                </a:lnTo>
                <a:lnTo>
                  <a:pt x="1089" y="941"/>
                </a:lnTo>
                <a:lnTo>
                  <a:pt x="1236" y="1046"/>
                </a:lnTo>
                <a:lnTo>
                  <a:pt x="1242" y="1224"/>
                </a:lnTo>
                <a:lnTo>
                  <a:pt x="1277" y="1336"/>
                </a:lnTo>
                <a:lnTo>
                  <a:pt x="1174" y="1241"/>
                </a:lnTo>
                <a:lnTo>
                  <a:pt x="1095" y="1080"/>
                </a:lnTo>
                <a:lnTo>
                  <a:pt x="1019" y="1063"/>
                </a:lnTo>
                <a:lnTo>
                  <a:pt x="808" y="1082"/>
                </a:lnTo>
                <a:lnTo>
                  <a:pt x="730" y="1191"/>
                </a:lnTo>
                <a:lnTo>
                  <a:pt x="667" y="1410"/>
                </a:lnTo>
                <a:lnTo>
                  <a:pt x="651" y="1315"/>
                </a:lnTo>
                <a:lnTo>
                  <a:pt x="512" y="1443"/>
                </a:lnTo>
                <a:lnTo>
                  <a:pt x="661" y="1127"/>
                </a:lnTo>
                <a:lnTo>
                  <a:pt x="444" y="1221"/>
                </a:lnTo>
                <a:lnTo>
                  <a:pt x="278" y="1383"/>
                </a:lnTo>
                <a:lnTo>
                  <a:pt x="389" y="1166"/>
                </a:lnTo>
                <a:lnTo>
                  <a:pt x="727" y="1055"/>
                </a:lnTo>
                <a:lnTo>
                  <a:pt x="1061" y="1011"/>
                </a:lnTo>
                <a:lnTo>
                  <a:pt x="1182" y="1121"/>
                </a:lnTo>
                <a:lnTo>
                  <a:pt x="1155" y="1027"/>
                </a:lnTo>
                <a:lnTo>
                  <a:pt x="1032" y="972"/>
                </a:lnTo>
                <a:lnTo>
                  <a:pt x="683" y="993"/>
                </a:lnTo>
                <a:lnTo>
                  <a:pt x="397" y="1097"/>
                </a:lnTo>
                <a:lnTo>
                  <a:pt x="572" y="827"/>
                </a:lnTo>
                <a:lnTo>
                  <a:pt x="916" y="650"/>
                </a:lnTo>
                <a:lnTo>
                  <a:pt x="1234" y="550"/>
                </a:lnTo>
                <a:lnTo>
                  <a:pt x="877" y="594"/>
                </a:lnTo>
                <a:lnTo>
                  <a:pt x="422" y="868"/>
                </a:lnTo>
                <a:lnTo>
                  <a:pt x="99" y="1275"/>
                </a:lnTo>
                <a:lnTo>
                  <a:pt x="294" y="683"/>
                </a:lnTo>
                <a:lnTo>
                  <a:pt x="150" y="960"/>
                </a:lnTo>
                <a:lnTo>
                  <a:pt x="18" y="1360"/>
                </a:lnTo>
                <a:lnTo>
                  <a:pt x="0" y="893"/>
                </a:lnTo>
                <a:lnTo>
                  <a:pt x="42" y="1043"/>
                </a:lnTo>
                <a:lnTo>
                  <a:pt x="42" y="1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85000" y="1917720"/>
            <a:ext cx="905040" cy="528480"/>
          </a:xfrm>
          <a:custGeom>
            <a:avLst/>
            <a:gdLst/>
            <a:ahLst/>
            <a:rect l="l" t="t" r="r" b="b"/>
            <a:pathLst>
              <a:path w="1711" h="1001">
                <a:moveTo>
                  <a:pt x="1101" y="441"/>
                </a:moveTo>
                <a:lnTo>
                  <a:pt x="1085" y="303"/>
                </a:lnTo>
                <a:lnTo>
                  <a:pt x="1021" y="178"/>
                </a:lnTo>
                <a:lnTo>
                  <a:pt x="896" y="57"/>
                </a:lnTo>
                <a:lnTo>
                  <a:pt x="859" y="89"/>
                </a:lnTo>
                <a:lnTo>
                  <a:pt x="782" y="57"/>
                </a:lnTo>
                <a:lnTo>
                  <a:pt x="730" y="69"/>
                </a:lnTo>
                <a:lnTo>
                  <a:pt x="606" y="12"/>
                </a:lnTo>
                <a:lnTo>
                  <a:pt x="496" y="0"/>
                </a:lnTo>
                <a:lnTo>
                  <a:pt x="496" y="20"/>
                </a:lnTo>
                <a:lnTo>
                  <a:pt x="585" y="81"/>
                </a:lnTo>
                <a:lnTo>
                  <a:pt x="338" y="36"/>
                </a:lnTo>
                <a:lnTo>
                  <a:pt x="206" y="36"/>
                </a:lnTo>
                <a:lnTo>
                  <a:pt x="16" y="73"/>
                </a:lnTo>
                <a:lnTo>
                  <a:pt x="56" y="97"/>
                </a:lnTo>
                <a:lnTo>
                  <a:pt x="210" y="85"/>
                </a:lnTo>
                <a:lnTo>
                  <a:pt x="359" y="113"/>
                </a:lnTo>
                <a:lnTo>
                  <a:pt x="113" y="145"/>
                </a:lnTo>
                <a:lnTo>
                  <a:pt x="28" y="170"/>
                </a:lnTo>
                <a:lnTo>
                  <a:pt x="0" y="210"/>
                </a:lnTo>
                <a:lnTo>
                  <a:pt x="113" y="178"/>
                </a:lnTo>
                <a:lnTo>
                  <a:pt x="403" y="166"/>
                </a:lnTo>
                <a:lnTo>
                  <a:pt x="561" y="206"/>
                </a:lnTo>
                <a:lnTo>
                  <a:pt x="415" y="267"/>
                </a:lnTo>
                <a:lnTo>
                  <a:pt x="314" y="344"/>
                </a:lnTo>
                <a:lnTo>
                  <a:pt x="194" y="536"/>
                </a:lnTo>
                <a:lnTo>
                  <a:pt x="174" y="654"/>
                </a:lnTo>
                <a:lnTo>
                  <a:pt x="190" y="767"/>
                </a:lnTo>
                <a:lnTo>
                  <a:pt x="262" y="880"/>
                </a:lnTo>
                <a:lnTo>
                  <a:pt x="379" y="921"/>
                </a:lnTo>
                <a:lnTo>
                  <a:pt x="521" y="997"/>
                </a:lnTo>
                <a:lnTo>
                  <a:pt x="594" y="989"/>
                </a:lnTo>
                <a:lnTo>
                  <a:pt x="492" y="912"/>
                </a:lnTo>
                <a:lnTo>
                  <a:pt x="347" y="868"/>
                </a:lnTo>
                <a:lnTo>
                  <a:pt x="267" y="828"/>
                </a:lnTo>
                <a:lnTo>
                  <a:pt x="218" y="726"/>
                </a:lnTo>
                <a:lnTo>
                  <a:pt x="218" y="621"/>
                </a:lnTo>
                <a:lnTo>
                  <a:pt x="290" y="457"/>
                </a:lnTo>
                <a:lnTo>
                  <a:pt x="423" y="332"/>
                </a:lnTo>
                <a:lnTo>
                  <a:pt x="541" y="255"/>
                </a:lnTo>
                <a:lnTo>
                  <a:pt x="681" y="234"/>
                </a:lnTo>
                <a:lnTo>
                  <a:pt x="912" y="341"/>
                </a:lnTo>
                <a:lnTo>
                  <a:pt x="859" y="259"/>
                </a:lnTo>
                <a:lnTo>
                  <a:pt x="642" y="73"/>
                </a:lnTo>
                <a:lnTo>
                  <a:pt x="750" y="105"/>
                </a:lnTo>
                <a:lnTo>
                  <a:pt x="807" y="101"/>
                </a:lnTo>
                <a:lnTo>
                  <a:pt x="908" y="154"/>
                </a:lnTo>
                <a:lnTo>
                  <a:pt x="908" y="113"/>
                </a:lnTo>
                <a:lnTo>
                  <a:pt x="981" y="190"/>
                </a:lnTo>
                <a:lnTo>
                  <a:pt x="1060" y="344"/>
                </a:lnTo>
                <a:lnTo>
                  <a:pt x="1067" y="442"/>
                </a:lnTo>
                <a:lnTo>
                  <a:pt x="1480" y="763"/>
                </a:lnTo>
                <a:lnTo>
                  <a:pt x="1618" y="917"/>
                </a:lnTo>
                <a:lnTo>
                  <a:pt x="1352" y="710"/>
                </a:lnTo>
                <a:lnTo>
                  <a:pt x="1058" y="557"/>
                </a:lnTo>
                <a:lnTo>
                  <a:pt x="944" y="505"/>
                </a:lnTo>
                <a:lnTo>
                  <a:pt x="778" y="481"/>
                </a:lnTo>
                <a:lnTo>
                  <a:pt x="754" y="505"/>
                </a:lnTo>
                <a:lnTo>
                  <a:pt x="855" y="520"/>
                </a:lnTo>
                <a:lnTo>
                  <a:pt x="1052" y="585"/>
                </a:lnTo>
                <a:lnTo>
                  <a:pt x="1307" y="726"/>
                </a:lnTo>
                <a:lnTo>
                  <a:pt x="1500" y="864"/>
                </a:lnTo>
                <a:lnTo>
                  <a:pt x="1046" y="638"/>
                </a:lnTo>
                <a:lnTo>
                  <a:pt x="985" y="613"/>
                </a:lnTo>
                <a:lnTo>
                  <a:pt x="863" y="601"/>
                </a:lnTo>
                <a:lnTo>
                  <a:pt x="831" y="625"/>
                </a:lnTo>
                <a:lnTo>
                  <a:pt x="900" y="629"/>
                </a:lnTo>
                <a:lnTo>
                  <a:pt x="1089" y="690"/>
                </a:lnTo>
                <a:lnTo>
                  <a:pt x="1299" y="795"/>
                </a:lnTo>
                <a:lnTo>
                  <a:pt x="1573" y="937"/>
                </a:lnTo>
                <a:lnTo>
                  <a:pt x="1666" y="977"/>
                </a:lnTo>
                <a:lnTo>
                  <a:pt x="1691" y="1001"/>
                </a:lnTo>
                <a:lnTo>
                  <a:pt x="1711" y="977"/>
                </a:lnTo>
                <a:lnTo>
                  <a:pt x="1598" y="819"/>
                </a:lnTo>
                <a:lnTo>
                  <a:pt x="1352" y="629"/>
                </a:lnTo>
                <a:lnTo>
                  <a:pt x="1101" y="441"/>
                </a:lnTo>
                <a:lnTo>
                  <a:pt x="1101" y="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270920" y="2081160"/>
            <a:ext cx="133200" cy="76320"/>
          </a:xfrm>
          <a:custGeom>
            <a:avLst/>
            <a:gdLst/>
            <a:ahLst/>
            <a:rect l="l" t="t" r="r" b="b"/>
            <a:pathLst>
              <a:path w="250" h="143">
                <a:moveTo>
                  <a:pt x="149" y="29"/>
                </a:moveTo>
                <a:lnTo>
                  <a:pt x="119" y="38"/>
                </a:lnTo>
                <a:lnTo>
                  <a:pt x="92" y="53"/>
                </a:lnTo>
                <a:lnTo>
                  <a:pt x="83" y="78"/>
                </a:lnTo>
                <a:lnTo>
                  <a:pt x="92" y="109"/>
                </a:lnTo>
                <a:lnTo>
                  <a:pt x="120" y="119"/>
                </a:lnTo>
                <a:lnTo>
                  <a:pt x="154" y="111"/>
                </a:lnTo>
                <a:lnTo>
                  <a:pt x="174" y="93"/>
                </a:lnTo>
                <a:lnTo>
                  <a:pt x="193" y="61"/>
                </a:lnTo>
                <a:lnTo>
                  <a:pt x="250" y="109"/>
                </a:lnTo>
                <a:lnTo>
                  <a:pt x="197" y="99"/>
                </a:lnTo>
                <a:lnTo>
                  <a:pt x="207" y="126"/>
                </a:lnTo>
                <a:lnTo>
                  <a:pt x="178" y="122"/>
                </a:lnTo>
                <a:lnTo>
                  <a:pt x="157" y="142"/>
                </a:lnTo>
                <a:lnTo>
                  <a:pt x="108" y="143"/>
                </a:lnTo>
                <a:lnTo>
                  <a:pt x="68" y="109"/>
                </a:lnTo>
                <a:lnTo>
                  <a:pt x="57" y="81"/>
                </a:lnTo>
                <a:lnTo>
                  <a:pt x="0" y="49"/>
                </a:lnTo>
                <a:lnTo>
                  <a:pt x="72" y="49"/>
                </a:lnTo>
                <a:lnTo>
                  <a:pt x="37" y="15"/>
                </a:lnTo>
                <a:lnTo>
                  <a:pt x="85" y="25"/>
                </a:lnTo>
                <a:lnTo>
                  <a:pt x="138" y="0"/>
                </a:lnTo>
                <a:lnTo>
                  <a:pt x="178" y="26"/>
                </a:lnTo>
                <a:lnTo>
                  <a:pt x="149" y="29"/>
                </a:lnTo>
                <a:lnTo>
                  <a:pt x="14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077240" y="2185920"/>
            <a:ext cx="455400" cy="546120"/>
          </a:xfrm>
          <a:custGeom>
            <a:avLst/>
            <a:gdLst/>
            <a:ahLst/>
            <a:rect l="l" t="t" r="r" b="b"/>
            <a:pathLst>
              <a:path w="862" h="1031">
                <a:moveTo>
                  <a:pt x="614" y="138"/>
                </a:moveTo>
                <a:lnTo>
                  <a:pt x="553" y="170"/>
                </a:lnTo>
                <a:lnTo>
                  <a:pt x="395" y="182"/>
                </a:lnTo>
                <a:lnTo>
                  <a:pt x="282" y="134"/>
                </a:lnTo>
                <a:lnTo>
                  <a:pt x="243" y="73"/>
                </a:lnTo>
                <a:lnTo>
                  <a:pt x="178" y="65"/>
                </a:lnTo>
                <a:lnTo>
                  <a:pt x="133" y="101"/>
                </a:lnTo>
                <a:lnTo>
                  <a:pt x="113" y="166"/>
                </a:lnTo>
                <a:lnTo>
                  <a:pt x="182" y="214"/>
                </a:lnTo>
                <a:lnTo>
                  <a:pt x="338" y="271"/>
                </a:lnTo>
                <a:lnTo>
                  <a:pt x="533" y="267"/>
                </a:lnTo>
                <a:lnTo>
                  <a:pt x="722" y="307"/>
                </a:lnTo>
                <a:lnTo>
                  <a:pt x="807" y="384"/>
                </a:lnTo>
                <a:lnTo>
                  <a:pt x="862" y="476"/>
                </a:lnTo>
                <a:lnTo>
                  <a:pt x="846" y="659"/>
                </a:lnTo>
                <a:lnTo>
                  <a:pt x="811" y="856"/>
                </a:lnTo>
                <a:lnTo>
                  <a:pt x="791" y="754"/>
                </a:lnTo>
                <a:lnTo>
                  <a:pt x="751" y="942"/>
                </a:lnTo>
                <a:lnTo>
                  <a:pt x="710" y="860"/>
                </a:lnTo>
                <a:lnTo>
                  <a:pt x="680" y="1031"/>
                </a:lnTo>
                <a:lnTo>
                  <a:pt x="630" y="856"/>
                </a:lnTo>
                <a:lnTo>
                  <a:pt x="565" y="868"/>
                </a:lnTo>
                <a:lnTo>
                  <a:pt x="662" y="767"/>
                </a:lnTo>
                <a:lnTo>
                  <a:pt x="780" y="632"/>
                </a:lnTo>
                <a:lnTo>
                  <a:pt x="807" y="454"/>
                </a:lnTo>
                <a:lnTo>
                  <a:pt x="718" y="360"/>
                </a:lnTo>
                <a:lnTo>
                  <a:pt x="549" y="307"/>
                </a:lnTo>
                <a:lnTo>
                  <a:pt x="432" y="303"/>
                </a:lnTo>
                <a:lnTo>
                  <a:pt x="318" y="320"/>
                </a:lnTo>
                <a:lnTo>
                  <a:pt x="162" y="271"/>
                </a:lnTo>
                <a:lnTo>
                  <a:pt x="77" y="214"/>
                </a:lnTo>
                <a:lnTo>
                  <a:pt x="69" y="130"/>
                </a:lnTo>
                <a:lnTo>
                  <a:pt x="0" y="162"/>
                </a:lnTo>
                <a:lnTo>
                  <a:pt x="28" y="93"/>
                </a:lnTo>
                <a:lnTo>
                  <a:pt x="145" y="8"/>
                </a:lnTo>
                <a:lnTo>
                  <a:pt x="202" y="0"/>
                </a:lnTo>
                <a:lnTo>
                  <a:pt x="282" y="0"/>
                </a:lnTo>
                <a:lnTo>
                  <a:pt x="294" y="53"/>
                </a:lnTo>
                <a:lnTo>
                  <a:pt x="314" y="113"/>
                </a:lnTo>
                <a:lnTo>
                  <a:pt x="383" y="146"/>
                </a:lnTo>
                <a:lnTo>
                  <a:pt x="500" y="154"/>
                </a:lnTo>
                <a:lnTo>
                  <a:pt x="581" y="121"/>
                </a:lnTo>
                <a:lnTo>
                  <a:pt x="614" y="138"/>
                </a:lnTo>
                <a:lnTo>
                  <a:pt x="614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13720" y="2998800"/>
            <a:ext cx="263520" cy="209520"/>
          </a:xfrm>
          <a:custGeom>
            <a:avLst/>
            <a:gdLst/>
            <a:ahLst/>
            <a:rect l="l" t="t" r="r" b="b"/>
            <a:pathLst>
              <a:path w="497" h="396">
                <a:moveTo>
                  <a:pt x="0" y="47"/>
                </a:moveTo>
                <a:lnTo>
                  <a:pt x="184" y="0"/>
                </a:lnTo>
                <a:lnTo>
                  <a:pt x="209" y="42"/>
                </a:lnTo>
                <a:lnTo>
                  <a:pt x="408" y="5"/>
                </a:lnTo>
                <a:lnTo>
                  <a:pt x="497" y="11"/>
                </a:lnTo>
                <a:lnTo>
                  <a:pt x="386" y="98"/>
                </a:lnTo>
                <a:lnTo>
                  <a:pt x="298" y="193"/>
                </a:lnTo>
                <a:lnTo>
                  <a:pt x="282" y="131"/>
                </a:lnTo>
                <a:lnTo>
                  <a:pt x="193" y="182"/>
                </a:lnTo>
                <a:lnTo>
                  <a:pt x="215" y="260"/>
                </a:lnTo>
                <a:lnTo>
                  <a:pt x="277" y="234"/>
                </a:lnTo>
                <a:lnTo>
                  <a:pt x="329" y="296"/>
                </a:lnTo>
                <a:lnTo>
                  <a:pt x="433" y="265"/>
                </a:lnTo>
                <a:lnTo>
                  <a:pt x="288" y="396"/>
                </a:lnTo>
                <a:lnTo>
                  <a:pt x="188" y="360"/>
                </a:lnTo>
                <a:lnTo>
                  <a:pt x="115" y="176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757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554880" y="2419200"/>
            <a:ext cx="725400" cy="655920"/>
          </a:xfrm>
          <a:custGeom>
            <a:avLst/>
            <a:gdLst/>
            <a:ahLst/>
            <a:rect l="l" t="t" r="r" b="b"/>
            <a:pathLst>
              <a:path w="1371" h="1239">
                <a:moveTo>
                  <a:pt x="1371" y="29"/>
                </a:moveTo>
                <a:lnTo>
                  <a:pt x="1261" y="0"/>
                </a:lnTo>
                <a:lnTo>
                  <a:pt x="1139" y="29"/>
                </a:lnTo>
                <a:lnTo>
                  <a:pt x="1027" y="62"/>
                </a:lnTo>
                <a:lnTo>
                  <a:pt x="811" y="18"/>
                </a:lnTo>
                <a:lnTo>
                  <a:pt x="645" y="45"/>
                </a:lnTo>
                <a:lnTo>
                  <a:pt x="489" y="167"/>
                </a:lnTo>
                <a:lnTo>
                  <a:pt x="462" y="251"/>
                </a:lnTo>
                <a:lnTo>
                  <a:pt x="517" y="228"/>
                </a:lnTo>
                <a:lnTo>
                  <a:pt x="433" y="367"/>
                </a:lnTo>
                <a:lnTo>
                  <a:pt x="373" y="511"/>
                </a:lnTo>
                <a:lnTo>
                  <a:pt x="334" y="739"/>
                </a:lnTo>
                <a:lnTo>
                  <a:pt x="201" y="984"/>
                </a:lnTo>
                <a:lnTo>
                  <a:pt x="100" y="1116"/>
                </a:lnTo>
                <a:lnTo>
                  <a:pt x="0" y="1217"/>
                </a:lnTo>
                <a:lnTo>
                  <a:pt x="73" y="1239"/>
                </a:lnTo>
                <a:lnTo>
                  <a:pt x="189" y="1239"/>
                </a:lnTo>
                <a:lnTo>
                  <a:pt x="383" y="1155"/>
                </a:lnTo>
                <a:lnTo>
                  <a:pt x="362" y="1128"/>
                </a:lnTo>
                <a:lnTo>
                  <a:pt x="178" y="1178"/>
                </a:lnTo>
                <a:lnTo>
                  <a:pt x="168" y="1116"/>
                </a:lnTo>
                <a:lnTo>
                  <a:pt x="223" y="1022"/>
                </a:lnTo>
                <a:lnTo>
                  <a:pt x="344" y="867"/>
                </a:lnTo>
                <a:lnTo>
                  <a:pt x="378" y="750"/>
                </a:lnTo>
                <a:lnTo>
                  <a:pt x="423" y="534"/>
                </a:lnTo>
                <a:lnTo>
                  <a:pt x="522" y="301"/>
                </a:lnTo>
                <a:lnTo>
                  <a:pt x="617" y="157"/>
                </a:lnTo>
                <a:lnTo>
                  <a:pt x="562" y="167"/>
                </a:lnTo>
                <a:lnTo>
                  <a:pt x="661" y="84"/>
                </a:lnTo>
                <a:lnTo>
                  <a:pt x="850" y="78"/>
                </a:lnTo>
                <a:lnTo>
                  <a:pt x="1056" y="134"/>
                </a:lnTo>
                <a:lnTo>
                  <a:pt x="1272" y="50"/>
                </a:lnTo>
                <a:lnTo>
                  <a:pt x="1371" y="29"/>
                </a:lnTo>
                <a:lnTo>
                  <a:pt x="1371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99400" y="2611440"/>
            <a:ext cx="546120" cy="596880"/>
          </a:xfrm>
          <a:custGeom>
            <a:avLst/>
            <a:gdLst/>
            <a:ahLst/>
            <a:rect l="l" t="t" r="r" b="b"/>
            <a:pathLst>
              <a:path w="1032" h="1130">
                <a:moveTo>
                  <a:pt x="37" y="1130"/>
                </a:moveTo>
                <a:lnTo>
                  <a:pt x="160" y="1117"/>
                </a:lnTo>
                <a:lnTo>
                  <a:pt x="271" y="1051"/>
                </a:lnTo>
                <a:lnTo>
                  <a:pt x="371" y="906"/>
                </a:lnTo>
                <a:lnTo>
                  <a:pt x="394" y="762"/>
                </a:lnTo>
                <a:lnTo>
                  <a:pt x="554" y="734"/>
                </a:lnTo>
                <a:lnTo>
                  <a:pt x="727" y="579"/>
                </a:lnTo>
                <a:lnTo>
                  <a:pt x="877" y="346"/>
                </a:lnTo>
                <a:lnTo>
                  <a:pt x="899" y="296"/>
                </a:lnTo>
                <a:lnTo>
                  <a:pt x="932" y="378"/>
                </a:lnTo>
                <a:lnTo>
                  <a:pt x="954" y="205"/>
                </a:lnTo>
                <a:lnTo>
                  <a:pt x="1032" y="0"/>
                </a:lnTo>
                <a:lnTo>
                  <a:pt x="909" y="168"/>
                </a:lnTo>
                <a:lnTo>
                  <a:pt x="743" y="317"/>
                </a:lnTo>
                <a:lnTo>
                  <a:pt x="822" y="301"/>
                </a:lnTo>
                <a:lnTo>
                  <a:pt x="754" y="472"/>
                </a:lnTo>
                <a:lnTo>
                  <a:pt x="627" y="572"/>
                </a:lnTo>
                <a:lnTo>
                  <a:pt x="665" y="584"/>
                </a:lnTo>
                <a:lnTo>
                  <a:pt x="504" y="684"/>
                </a:lnTo>
                <a:lnTo>
                  <a:pt x="444" y="684"/>
                </a:lnTo>
                <a:lnTo>
                  <a:pt x="399" y="584"/>
                </a:lnTo>
                <a:lnTo>
                  <a:pt x="310" y="700"/>
                </a:lnTo>
                <a:lnTo>
                  <a:pt x="216" y="750"/>
                </a:lnTo>
                <a:lnTo>
                  <a:pt x="171" y="856"/>
                </a:lnTo>
                <a:lnTo>
                  <a:pt x="255" y="794"/>
                </a:lnTo>
                <a:lnTo>
                  <a:pt x="310" y="794"/>
                </a:lnTo>
                <a:lnTo>
                  <a:pt x="299" y="923"/>
                </a:lnTo>
                <a:lnTo>
                  <a:pt x="149" y="1083"/>
                </a:lnTo>
                <a:lnTo>
                  <a:pt x="100" y="1022"/>
                </a:lnTo>
                <a:lnTo>
                  <a:pt x="60" y="1061"/>
                </a:lnTo>
                <a:lnTo>
                  <a:pt x="0" y="967"/>
                </a:lnTo>
                <a:lnTo>
                  <a:pt x="37" y="1130"/>
                </a:lnTo>
                <a:lnTo>
                  <a:pt x="37" y="1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780240" y="2746440"/>
            <a:ext cx="414360" cy="287280"/>
          </a:xfrm>
          <a:custGeom>
            <a:avLst/>
            <a:gdLst/>
            <a:ahLst/>
            <a:rect l="l" t="t" r="r" b="b"/>
            <a:pathLst>
              <a:path w="783" h="543">
                <a:moveTo>
                  <a:pt x="767" y="0"/>
                </a:moveTo>
                <a:lnTo>
                  <a:pt x="777" y="71"/>
                </a:lnTo>
                <a:lnTo>
                  <a:pt x="783" y="183"/>
                </a:lnTo>
                <a:lnTo>
                  <a:pt x="644" y="310"/>
                </a:lnTo>
                <a:lnTo>
                  <a:pt x="572" y="443"/>
                </a:lnTo>
                <a:lnTo>
                  <a:pt x="467" y="510"/>
                </a:lnTo>
                <a:lnTo>
                  <a:pt x="422" y="498"/>
                </a:lnTo>
                <a:lnTo>
                  <a:pt x="310" y="543"/>
                </a:lnTo>
                <a:lnTo>
                  <a:pt x="244" y="543"/>
                </a:lnTo>
                <a:lnTo>
                  <a:pt x="217" y="498"/>
                </a:lnTo>
                <a:lnTo>
                  <a:pt x="128" y="532"/>
                </a:lnTo>
                <a:lnTo>
                  <a:pt x="66" y="527"/>
                </a:lnTo>
                <a:lnTo>
                  <a:pt x="0" y="482"/>
                </a:lnTo>
                <a:lnTo>
                  <a:pt x="105" y="466"/>
                </a:lnTo>
                <a:lnTo>
                  <a:pt x="294" y="393"/>
                </a:lnTo>
                <a:lnTo>
                  <a:pt x="283" y="466"/>
                </a:lnTo>
                <a:lnTo>
                  <a:pt x="333" y="488"/>
                </a:lnTo>
                <a:lnTo>
                  <a:pt x="478" y="393"/>
                </a:lnTo>
                <a:lnTo>
                  <a:pt x="478" y="448"/>
                </a:lnTo>
                <a:lnTo>
                  <a:pt x="544" y="416"/>
                </a:lnTo>
                <a:lnTo>
                  <a:pt x="583" y="288"/>
                </a:lnTo>
                <a:lnTo>
                  <a:pt x="717" y="188"/>
                </a:lnTo>
                <a:lnTo>
                  <a:pt x="722" y="55"/>
                </a:lnTo>
                <a:lnTo>
                  <a:pt x="767" y="0"/>
                </a:lnTo>
                <a:lnTo>
                  <a:pt x="7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00800" y="2854440"/>
            <a:ext cx="587520" cy="663480"/>
          </a:xfrm>
          <a:custGeom>
            <a:avLst/>
            <a:gdLst/>
            <a:ahLst/>
            <a:rect l="l" t="t" r="r" b="b"/>
            <a:pathLst>
              <a:path w="1109" h="1255">
                <a:moveTo>
                  <a:pt x="1109" y="1232"/>
                </a:moveTo>
                <a:lnTo>
                  <a:pt x="1051" y="943"/>
                </a:lnTo>
                <a:lnTo>
                  <a:pt x="962" y="589"/>
                </a:lnTo>
                <a:lnTo>
                  <a:pt x="926" y="458"/>
                </a:lnTo>
                <a:lnTo>
                  <a:pt x="779" y="294"/>
                </a:lnTo>
                <a:lnTo>
                  <a:pt x="610" y="170"/>
                </a:lnTo>
                <a:lnTo>
                  <a:pt x="460" y="0"/>
                </a:lnTo>
                <a:lnTo>
                  <a:pt x="449" y="39"/>
                </a:lnTo>
                <a:lnTo>
                  <a:pt x="524" y="207"/>
                </a:lnTo>
                <a:lnTo>
                  <a:pt x="696" y="391"/>
                </a:lnTo>
                <a:lnTo>
                  <a:pt x="768" y="563"/>
                </a:lnTo>
                <a:lnTo>
                  <a:pt x="791" y="724"/>
                </a:lnTo>
                <a:lnTo>
                  <a:pt x="668" y="503"/>
                </a:lnTo>
                <a:lnTo>
                  <a:pt x="363" y="464"/>
                </a:lnTo>
                <a:lnTo>
                  <a:pt x="290" y="469"/>
                </a:lnTo>
                <a:lnTo>
                  <a:pt x="43" y="220"/>
                </a:lnTo>
                <a:lnTo>
                  <a:pt x="0" y="214"/>
                </a:lnTo>
                <a:lnTo>
                  <a:pt x="77" y="358"/>
                </a:lnTo>
                <a:lnTo>
                  <a:pt x="177" y="490"/>
                </a:lnTo>
                <a:lnTo>
                  <a:pt x="85" y="535"/>
                </a:lnTo>
                <a:lnTo>
                  <a:pt x="40" y="600"/>
                </a:lnTo>
                <a:lnTo>
                  <a:pt x="38" y="629"/>
                </a:lnTo>
                <a:lnTo>
                  <a:pt x="216" y="566"/>
                </a:lnTo>
                <a:lnTo>
                  <a:pt x="329" y="697"/>
                </a:lnTo>
                <a:lnTo>
                  <a:pt x="516" y="877"/>
                </a:lnTo>
                <a:lnTo>
                  <a:pt x="385" y="857"/>
                </a:lnTo>
                <a:lnTo>
                  <a:pt x="174" y="930"/>
                </a:lnTo>
                <a:lnTo>
                  <a:pt x="100" y="1022"/>
                </a:lnTo>
                <a:lnTo>
                  <a:pt x="103" y="1063"/>
                </a:lnTo>
                <a:lnTo>
                  <a:pt x="221" y="988"/>
                </a:lnTo>
                <a:lnTo>
                  <a:pt x="390" y="938"/>
                </a:lnTo>
                <a:lnTo>
                  <a:pt x="646" y="1013"/>
                </a:lnTo>
                <a:lnTo>
                  <a:pt x="810" y="1255"/>
                </a:lnTo>
                <a:lnTo>
                  <a:pt x="835" y="1160"/>
                </a:lnTo>
                <a:lnTo>
                  <a:pt x="960" y="1235"/>
                </a:lnTo>
                <a:lnTo>
                  <a:pt x="763" y="1046"/>
                </a:lnTo>
                <a:lnTo>
                  <a:pt x="613" y="938"/>
                </a:lnTo>
                <a:lnTo>
                  <a:pt x="765" y="969"/>
                </a:lnTo>
                <a:lnTo>
                  <a:pt x="999" y="1155"/>
                </a:lnTo>
                <a:lnTo>
                  <a:pt x="831" y="933"/>
                </a:lnTo>
                <a:lnTo>
                  <a:pt x="671" y="854"/>
                </a:lnTo>
                <a:lnTo>
                  <a:pt x="371" y="563"/>
                </a:lnTo>
                <a:lnTo>
                  <a:pt x="552" y="597"/>
                </a:lnTo>
                <a:lnTo>
                  <a:pt x="694" y="796"/>
                </a:lnTo>
                <a:lnTo>
                  <a:pt x="634" y="561"/>
                </a:lnTo>
                <a:lnTo>
                  <a:pt x="879" y="914"/>
                </a:lnTo>
                <a:lnTo>
                  <a:pt x="844" y="600"/>
                </a:lnTo>
                <a:lnTo>
                  <a:pt x="705" y="353"/>
                </a:lnTo>
                <a:lnTo>
                  <a:pt x="565" y="189"/>
                </a:lnTo>
                <a:lnTo>
                  <a:pt x="746" y="296"/>
                </a:lnTo>
                <a:lnTo>
                  <a:pt x="873" y="464"/>
                </a:lnTo>
                <a:lnTo>
                  <a:pt x="935" y="641"/>
                </a:lnTo>
                <a:lnTo>
                  <a:pt x="968" y="957"/>
                </a:lnTo>
                <a:lnTo>
                  <a:pt x="1109" y="1232"/>
                </a:lnTo>
                <a:lnTo>
                  <a:pt x="1109" y="12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39000" y="3186000"/>
            <a:ext cx="65160" cy="293760"/>
          </a:xfrm>
          <a:custGeom>
            <a:avLst/>
            <a:gdLst/>
            <a:ahLst/>
            <a:rect l="l" t="t" r="r" b="b"/>
            <a:pathLst>
              <a:path w="122" h="553">
                <a:moveTo>
                  <a:pt x="81" y="15"/>
                </a:moveTo>
                <a:lnTo>
                  <a:pt x="81" y="131"/>
                </a:lnTo>
                <a:lnTo>
                  <a:pt x="110" y="220"/>
                </a:lnTo>
                <a:lnTo>
                  <a:pt x="122" y="275"/>
                </a:lnTo>
                <a:lnTo>
                  <a:pt x="91" y="328"/>
                </a:lnTo>
                <a:lnTo>
                  <a:pt x="97" y="553"/>
                </a:lnTo>
                <a:lnTo>
                  <a:pt x="67" y="550"/>
                </a:lnTo>
                <a:lnTo>
                  <a:pt x="25" y="335"/>
                </a:lnTo>
                <a:lnTo>
                  <a:pt x="86" y="270"/>
                </a:lnTo>
                <a:lnTo>
                  <a:pt x="81" y="204"/>
                </a:lnTo>
                <a:lnTo>
                  <a:pt x="64" y="170"/>
                </a:lnTo>
                <a:lnTo>
                  <a:pt x="17" y="204"/>
                </a:lnTo>
                <a:lnTo>
                  <a:pt x="8" y="76"/>
                </a:lnTo>
                <a:lnTo>
                  <a:pt x="0" y="0"/>
                </a:lnTo>
                <a:lnTo>
                  <a:pt x="81" y="15"/>
                </a:lnTo>
                <a:lnTo>
                  <a:pt x="81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81920" y="220968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24720" y="259704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733400" y="61722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14700000">
            <a:off x="6057360" y="1790280"/>
            <a:ext cx="685800" cy="761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629400" y="1676520"/>
            <a:ext cx="380880" cy="838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20940000">
            <a:off x="533160" y="151920"/>
            <a:ext cx="1504800" cy="6382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ff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rot="20940000">
            <a:off x="2819520" y="304560"/>
            <a:ext cx="684000" cy="3538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20940000">
            <a:off x="8450280" y="380520"/>
            <a:ext cx="53352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20940000">
            <a:off x="6470640" y="152280"/>
            <a:ext cx="83808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3840" y="981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龟兔赛跑给我们的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3T02:31:32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38:52Z</dcterms:modified>
  <cp:revision>61</cp:revision>
  <dc:subject>主题班会课件(分28大类): http://shop62905894.taobao.com</dc:subject>
  <dc:title>主题班会课件(分28大类): http://shop62905894.taobao.com</dc:title>
</cp:coreProperties>
</file>