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8.jpeg" ContentType="image/jpeg"/>
  <Override PartName="/ppt/media/image10.jpeg" ContentType="image/jpeg"/>
  <Override PartName="/ppt/media/whoosh.wav" ContentType="audio/x-wav"/>
  <Override PartName="/ppt/media/image13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9276-6E3F-41D9-ADE1-9B6F7794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49DF-5859-4F46-948E-BFE0844A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8375-A578-4FE3-8BD3-50923CAC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05EA-900B-4468-BDAF-917966D3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0B41-7423-4B9A-B9BD-EB40B730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4A9C-F055-4702-93F9-3101FBE2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BF4A-A750-492D-9BC1-4F004081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18B2-1A03-4677-AF77-8314151E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238A-08FD-4A89-A19F-BAADA891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E79F-EE25-41AA-B8BA-889B6645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3794-C0FF-4BAA-B9A8-868B66AE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0A26-7EB0-4944-990B-8718F257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DDCF-09E0-444B-AB6C-19A0DAD8CF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09480"/>
            <a:ext cx="7848720" cy="40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天生我材必有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828800"/>
            <a:ext cx="754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同学们，有谁认为自己是一个自信的人，请举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一些同学说说不自信的表现及不良影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44956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）尼克松败于自信的故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380880"/>
            <a:ext cx="8458200" cy="76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意试试，但随时准备退出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求同学们支持、配合你的工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果老师要求你做一件关系到你声誉的工作时，你怎么办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老师讲一讲做好这一工作的关键是什么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老师明确表示做好这工作的要求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勉强接受，但也可能就打退堂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果老师一个地方讲错了，你怎么办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巧妙地向老师提出问题，指出讲错的地方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借回答问题来纠正老师讲课中的差错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课后再向老师提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果让你当班长，在挑选班委时，你将选择哪一种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习很好，有些只顾自己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304920"/>
            <a:ext cx="8381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有缺点，但乐意为集体服务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习好，大事做不来，小事尚能做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果你来当老师，你将如何对待学生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想同学所想，通情达理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模仿老师的做法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些照老师的做法，有些根据自己的体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304920"/>
            <a:ext cx="845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、评分标准：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                 一      二    三   四    五   六    七    八   九    十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                5         1     0      0       1      5      1     5    0      5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                0          5     5     5      5        0      5     1    5      0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                 1         0     1      1      0         1      0      0    1     1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380880"/>
            <a:ext cx="8077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、评价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9------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：你是一个很有自信的人。你敢于自告奋勇地做事，但必须小心，讲究工作技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6------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：你有较强的自信心，并在多数情况下能应付自如，但在勇往直前时，要保持谨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------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：你办事缩手缩脚，总怕出差错，你应设法肯定自我，增强信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 ------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：你给人的印象似乎不存在似的，应努力改变这种情况，须知自信是成功的一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304920"/>
            <a:ext cx="7924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建立自信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认识自己的优点、能力及特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------ “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秒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”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RID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8288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天利用一分钟大声讲述自己的优点，对着镜子表扬自己，以增强自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914400"/>
            <a:ext cx="6324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感受别人的欣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活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-------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优点大轰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133720"/>
            <a:ext cx="7772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多尝成功的体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做自己最拿手，容易取得成功的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目标分为若干小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练习正视别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把你走路的速度加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练习当众发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咧嘴大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充实自我，提高自身素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280" y="380880"/>
            <a:ext cx="8991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束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总之，每个人身上总会存在优点，存在某些过人之处，如果你懂得保持自信，定立适当的目标，付出真正的努力，满怀信心的一步步向目标前进，成功将会属于你的。请记信“天生我材必有用”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362320" y="4876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3" dur="221623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304920"/>
            <a:ext cx="8534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尼克松是我们极为熟悉的美国总统，但就是这样一个大人物，却因为一个缺乏自信的错误而毁掉了自己的政治前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7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，尼克松竞选连任。由于他在第一任期内政绩斐然，所以大多数政治评论家都预测尼克松将以绝对优势获得胜利。然而尼克松本人却很不自信，他走不出过去几次失败的心理阴影，极度担心再次出现失败。在这种潜意识的驱使下，他鬼使神差地干出了后悔终生的蠢事。他指派手下的人潜入竞选对手总部的水门饭店，在对手的办公室里安装了窃听器。事发之后。他又连连阻止调查，推卸责任，在选举胜利后不久便被迫辞职。本来稳操胜券的尼克松，因缺乏自信而导致惨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3808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信的重要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26668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信是成功的第一秘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-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默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62320" y="990720"/>
            <a:ext cx="3276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808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Dotum"/>
                <a:ea typeface="Dotum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Dotum"/>
                <a:ea typeface="Dotum"/>
              </a:rPr>
              <a:t>二）</a:t>
            </a:r>
            <a:r>
              <a:rPr b="1" lang="zh-CN" sz="3600" spc="-1" strike="noStrike">
                <a:solidFill>
                  <a:srgbClr val="000000"/>
                </a:solidFill>
                <a:latin typeface="Dotum"/>
              </a:rPr>
              <a:t>故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066680"/>
            <a:ext cx="8305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，从一个仅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万人口的北方小城考进了北京大学。他一个学期都不敢和同班的女同学说话。因为上学的第一天，与他邻桌的女同学问他的第一句话就是：你从哪里来？而这个问题正是他最忌讳的，因为在他认为，出生于小城，就意味着小家子气，没见过世面，肯定被那些来自大城市的同学瞧不起。所以，第一个学期结束的时候，很多同班的女同学都不认识他！很长一段时间，自卑的阴影都占据着他的心灵；最明显的体现就是每次照相，他都要下意识地戴上一个大墨镜，以掩饰自己的内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95480" y="914400"/>
            <a:ext cx="2971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304920"/>
            <a:ext cx="8686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她，也在北京的一所大学里上学。她不敢穿裙子，不敢上体育课。她疑心同学们会在暗地里嘲笑她，嫌她肥胖的样子太难看，大部分日子，他也都在疑心、自卑中度过。大学时期结束的时候，她差点毕不了业，不是因为功课差，而是因为她不敢参加体育长跑测试！老师说：“只要你跑了，不管多慢，都算你及格。”可她就是不跑，她想跟老师解释，她不是在抗拒，而是因为恐慌，恐惧自己肥胖的身体跑起步来一定非常的愚笨，一定会遭到同学们的嘲笑。可是她连给老师解释的勇气也没有，茫然不知所措。她只能傻乎乎地跟着老师走，老师回家做饭去了，她也跟着。最后老师烦了，勉强算她及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后来，在播出的一个电视晚会上，她对他说：“要是那时候我们是同学，可能是永远不会说话的两个人。你会认为，人家是北京城里的姑娘，怎么会瞧得起我呢？而我则会想，人家长得那么帅，怎么会瞧得上我呢？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228600"/>
            <a:ext cx="83818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理测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信心的自我测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、请回答下面十个问题，每题选出一个最接近的答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当老师在班里提出某一问题讨论时，你会采取哪一种态度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上举手表明自己的意见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非老师叫我起来回答，否则保持沉默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到大家发言完后再发表自己的看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果老师对你进行不适当的批评，你将采取哪一种对策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上全力为自己辩护，且情绪激动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冷静地、理智地表明自己的看法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出声也不争辩，但记在心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全校举行演讲比赛，老师和同学推荐你去，你将如何对待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种种借口推脱，坚决不去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意去，但演讲什么要老师和同学一起出主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228600"/>
            <a:ext cx="876312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马上答应，等考虑好后再做答复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当你的好友在同学面前提出你也认为不好的要求，如借作业本抄，你怎么办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面上答应，但过一会找个借口不给他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他讲抄作业的害处，帮他弄懂难点，让他自己完成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听听其他同学的意见，再决定是否给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当你去参加学生会举行的座谈会时，你首先做的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找认识的同学，坐在一起交谈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旁边不认识的同学相互认识起来，并进行交谈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人坐在那里，不言语，看其他同学谈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果你被同学们选为班长，你怎么办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勇敢地接受，并负责任地把班级工作做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07:01:26Z</dcterms:created>
  <dc:creator/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36:24Z</dcterms:modified>
  <cp:revision>25</cp:revision>
  <dc:subject>主题班会课件(分28大类): http://shop62905894.taobao.com</dc:subject>
  <dc:title>主题班会课件(分28大类): http://shop62905894.taobao.com</dc:title>
</cp:coreProperties>
</file>